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43E2A1-7472-467C-B998-BBB1C65A2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99265C-7559-430E-9AF8-4EE0F1F32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206582-3D56-4B5F-88C0-606E0EBEC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C988EF-E417-4AE7-B2A1-4CA558CEC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A51433-122C-4513-B9F4-66DE9FA40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541FC7-2974-4E3E-9C7D-30A1E4446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918576-FCF2-4D30-8971-FEAA2805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764A2C-1E96-4A8C-B332-14955C416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F4445A-9A51-4A54-9447-85EC52AE5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58F4EA-EAC6-4E07-8BA9-430E4D679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3C00F2-DEBD-49C6-942E-4420CD4FA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7AC250-C73C-4927-A24A-1BBAC9314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3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2" name="Line 12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1B768-0D47-4164-BB3E-6942F666FF9A}" type="slidenum">
              <a:rPr b="0" lang="es-E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301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Análisis y Matemáticas Financiera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417960" indent="-4179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TACION DE STOCKS, CLIENTES Y PROVEEDORE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07840" indent="-3880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TOCK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VENTAS / STOCKS: Cuántas veces da vuelta el stock en el ciclo stock -&gt; Producto -&gt; Venta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J.: 10.000 / 1000 = 10 R &lt;=&gt; Rotó 10 vece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Podemos calcular 1000 / 10.000 * 365 = 36,5 días: Permanencia media del stock en la empresa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OJO : El indicador “miente” en empresas con estacionalidades (stocks muy altos o muy bajos al momento de medir)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6" name="Line 4"/>
          <p:cNvSpPr/>
          <p:nvPr/>
        </p:nvSpPr>
        <p:spPr>
          <a:xfrm>
            <a:off x="6858000" y="3587760"/>
            <a:ext cx="0" cy="21600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7" name="Line 5"/>
          <p:cNvSpPr/>
          <p:nvPr/>
        </p:nvSpPr>
        <p:spPr>
          <a:xfrm flipH="1">
            <a:off x="4336560" y="3809880"/>
            <a:ext cx="252756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8" name="Line 6"/>
          <p:cNvSpPr/>
          <p:nvPr/>
        </p:nvSpPr>
        <p:spPr>
          <a:xfrm>
            <a:off x="4343400" y="3657600"/>
            <a:ext cx="0" cy="144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9" name="Line 7"/>
          <p:cNvSpPr/>
          <p:nvPr/>
        </p:nvSpPr>
        <p:spPr>
          <a:xfrm flipV="1">
            <a:off x="4343400" y="3498840"/>
            <a:ext cx="0" cy="31752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LIENTES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Ventas / Cliente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j.: 2500 / 10.000 * 365 = 91 dí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lto =&gt; Vigilar que no aumente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OJO: Nuevamente el ratio puede mentir en empresas con estacionalidad en los períodos de cobro a clientes. En ciertos períodos frente a altas compras pueden flexibilizar el plazo. Ej.: Ventas de cuadernos a tiendas en febrer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489040" y="228600"/>
            <a:ext cx="4165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OJO: TEST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ROVEEDORE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OMPRAS / PROVEEDORE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roveedores es cuenta de pasivo ¿Conviene que disminuya la rotación medida en vueltas? ( es decir que aumente en número de días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89040" y="228240"/>
            <a:ext cx="416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OJO: Otro Test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 Proveedores / Compras * 365 aumenta de 60 a 210 días ¿es necesariamente bueno?. Contestar Y o 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TACION DETALLADA DE STOCK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tock MP / Utilización de MP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tock PC / Fabricac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tock PA / Vent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ada masa patrimonial se compara c/r al flujo de salida hacia el que tiende en el ciclo de madurac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685800" y="2666880"/>
            <a:ext cx="2209680" cy="2895840"/>
          </a:xfrm>
          <a:prstGeom prst="rect">
            <a:avLst/>
          </a:prstGeom>
          <a:solidFill>
            <a:srgbClr val="00b0f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tock 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Materi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im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3505320" y="2666880"/>
            <a:ext cx="2209680" cy="2895840"/>
          </a:xfrm>
          <a:prstGeom prst="rect">
            <a:avLst/>
          </a:prstGeom>
          <a:solidFill>
            <a:srgbClr val="00b0f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tock 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oduc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n Curs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6324480" y="2666880"/>
            <a:ext cx="2210040" cy="2895840"/>
          </a:xfrm>
          <a:prstGeom prst="rect">
            <a:avLst/>
          </a:prstGeom>
          <a:solidFill>
            <a:srgbClr val="00b0f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tock 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oducto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Terminad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2" name="Line 5"/>
          <p:cNvSpPr/>
          <p:nvPr/>
        </p:nvSpPr>
        <p:spPr>
          <a:xfrm>
            <a:off x="304920" y="2514600"/>
            <a:ext cx="685800" cy="91440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3" name="Line 6"/>
          <p:cNvSpPr/>
          <p:nvPr/>
        </p:nvSpPr>
        <p:spPr>
          <a:xfrm flipV="1">
            <a:off x="2590920" y="3048120"/>
            <a:ext cx="1143000" cy="228600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4" name="Line 7"/>
          <p:cNvSpPr/>
          <p:nvPr/>
        </p:nvSpPr>
        <p:spPr>
          <a:xfrm>
            <a:off x="2971800" y="2133720"/>
            <a:ext cx="762120" cy="76176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5" name="Line 8"/>
          <p:cNvSpPr/>
          <p:nvPr/>
        </p:nvSpPr>
        <p:spPr>
          <a:xfrm flipV="1">
            <a:off x="5334120" y="2971800"/>
            <a:ext cx="1218960" cy="236232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6" name="Line 9"/>
          <p:cNvSpPr/>
          <p:nvPr/>
        </p:nvSpPr>
        <p:spPr>
          <a:xfrm>
            <a:off x="7848720" y="5257800"/>
            <a:ext cx="99036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7" name="Rectangle 10"/>
          <p:cNvSpPr/>
          <p:nvPr/>
        </p:nvSpPr>
        <p:spPr>
          <a:xfrm>
            <a:off x="685800" y="2209680"/>
            <a:ext cx="2209680" cy="4572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8" name="Rectangle 11"/>
          <p:cNvSpPr/>
          <p:nvPr/>
        </p:nvSpPr>
        <p:spPr>
          <a:xfrm>
            <a:off x="3505320" y="2209680"/>
            <a:ext cx="2209680" cy="4572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9" name="Rectangle 13"/>
          <p:cNvSpPr/>
          <p:nvPr/>
        </p:nvSpPr>
        <p:spPr>
          <a:xfrm>
            <a:off x="6324480" y="2209680"/>
            <a:ext cx="2210040" cy="4572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0" name="Text Box 19"/>
          <p:cNvSpPr/>
          <p:nvPr/>
        </p:nvSpPr>
        <p:spPr>
          <a:xfrm>
            <a:off x="129240" y="1752480"/>
            <a:ext cx="158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ompras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M. Prim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1" name="Text Box 20"/>
          <p:cNvSpPr/>
          <p:nvPr/>
        </p:nvSpPr>
        <p:spPr>
          <a:xfrm>
            <a:off x="1884960" y="5146560"/>
            <a:ext cx="158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Utilizac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M. Prim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2" name="Text Box 21"/>
          <p:cNvSpPr/>
          <p:nvPr/>
        </p:nvSpPr>
        <p:spPr>
          <a:xfrm>
            <a:off x="2088360" y="1793880"/>
            <a:ext cx="17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Otros Insum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3" name="Text Box 22"/>
          <p:cNvSpPr/>
          <p:nvPr/>
        </p:nvSpPr>
        <p:spPr>
          <a:xfrm>
            <a:off x="4787280" y="491796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abricac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4" name="Text Box 23"/>
          <p:cNvSpPr/>
          <p:nvPr/>
        </p:nvSpPr>
        <p:spPr>
          <a:xfrm>
            <a:off x="7778880" y="5222880"/>
            <a:ext cx="90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Vent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740880" y="6137280"/>
            <a:ext cx="769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NOTA: Utilización M. Primas + Otros Insumos = Entradas a Fabricac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jemplo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2216160" y="2521080"/>
            <a:ext cx="4021200" cy="357336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8" name="Line 5"/>
          <p:cNvSpPr/>
          <p:nvPr/>
        </p:nvSpPr>
        <p:spPr>
          <a:xfrm>
            <a:off x="4205160" y="2521080"/>
            <a:ext cx="0" cy="362268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4650120" y="2697120"/>
            <a:ext cx="1258200" cy="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Exigible 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/P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2468520" y="2687760"/>
            <a:ext cx="1139760" cy="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LIENTE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1" name="Line 8"/>
          <p:cNvSpPr/>
          <p:nvPr/>
        </p:nvSpPr>
        <p:spPr>
          <a:xfrm>
            <a:off x="4267080" y="3429000"/>
            <a:ext cx="20304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2" name="Line 9"/>
          <p:cNvSpPr/>
          <p:nvPr/>
        </p:nvSpPr>
        <p:spPr>
          <a:xfrm>
            <a:off x="4267080" y="4419720"/>
            <a:ext cx="20304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4749840" y="4648320"/>
            <a:ext cx="1282680" cy="14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apitale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Permanen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4" name="Line 11"/>
          <p:cNvSpPr/>
          <p:nvPr/>
        </p:nvSpPr>
        <p:spPr>
          <a:xfrm>
            <a:off x="2292480" y="3505320"/>
            <a:ext cx="189216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5" name="Rectangle 12"/>
          <p:cNvSpPr/>
          <p:nvPr/>
        </p:nvSpPr>
        <p:spPr>
          <a:xfrm>
            <a:off x="2829240" y="3567240"/>
            <a:ext cx="5914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P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6" name="Line 13"/>
          <p:cNvSpPr/>
          <p:nvPr/>
        </p:nvSpPr>
        <p:spPr>
          <a:xfrm>
            <a:off x="2216160" y="4038480"/>
            <a:ext cx="19684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7" name="Rectangle 14"/>
          <p:cNvSpPr/>
          <p:nvPr/>
        </p:nvSpPr>
        <p:spPr>
          <a:xfrm>
            <a:off x="2829240" y="4100400"/>
            <a:ext cx="590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PC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8" name="Line 15"/>
          <p:cNvSpPr/>
          <p:nvPr/>
        </p:nvSpPr>
        <p:spPr>
          <a:xfrm>
            <a:off x="2216160" y="4572000"/>
            <a:ext cx="19684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9" name="Line 16"/>
          <p:cNvSpPr/>
          <p:nvPr/>
        </p:nvSpPr>
        <p:spPr>
          <a:xfrm>
            <a:off x="2216160" y="5105520"/>
            <a:ext cx="20448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0" name="Rectangle 17"/>
          <p:cNvSpPr/>
          <p:nvPr/>
        </p:nvSpPr>
        <p:spPr>
          <a:xfrm>
            <a:off x="902160" y="3490920"/>
            <a:ext cx="940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30 dí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1" name="Rectangle 18"/>
          <p:cNvSpPr/>
          <p:nvPr/>
        </p:nvSpPr>
        <p:spPr>
          <a:xfrm>
            <a:off x="902160" y="3948120"/>
            <a:ext cx="940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20 dí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2" name="Rectangle 19"/>
          <p:cNvSpPr/>
          <p:nvPr/>
        </p:nvSpPr>
        <p:spPr>
          <a:xfrm>
            <a:off x="825840" y="4481640"/>
            <a:ext cx="940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10 dí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3" name="Rectangle 20"/>
          <p:cNvSpPr/>
          <p:nvPr/>
        </p:nvSpPr>
        <p:spPr>
          <a:xfrm>
            <a:off x="6256440" y="2590920"/>
            <a:ext cx="25747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vencimiento medi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onderado : 50 dí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4" name="Rectangle 21"/>
          <p:cNvSpPr/>
          <p:nvPr/>
        </p:nvSpPr>
        <p:spPr>
          <a:xfrm>
            <a:off x="2743200" y="5105520"/>
            <a:ext cx="163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Fij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5" name="Rectangle 22"/>
          <p:cNvSpPr/>
          <p:nvPr/>
        </p:nvSpPr>
        <p:spPr>
          <a:xfrm>
            <a:off x="2819520" y="4648320"/>
            <a:ext cx="79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MP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6" name="Rectangle 23"/>
          <p:cNvSpPr/>
          <p:nvPr/>
        </p:nvSpPr>
        <p:spPr>
          <a:xfrm>
            <a:off x="983160" y="259092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100 dí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7" name="Rectangle 24"/>
          <p:cNvSpPr/>
          <p:nvPr/>
        </p:nvSpPr>
        <p:spPr>
          <a:xfrm>
            <a:off x="4495680" y="373536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Exigible 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L/P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iende a la liquidez en 160 días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iende a la exigibilidad en 50 día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Tiende a la impuntualidad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o necesariamente, hay que analizar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uánto de clientes se puede cobrar en los próximos 50 dí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uánto de la deuda vence en los próximos 50 dí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Supongamos que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lientes deben 100 Millones para los próximos 100 dí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1 Millón de “$ diarios”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deudamos 50 para los próximos 50 dí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1 Millón de “$ diarios”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nalogía: Es una empresa de alta capacidad  (solvencia de capacidad) y baja rotación &lt;=&gt; Río ancho y poco caud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us problemas no son de puntualidad si no de crecimiento ¿Cómo aumentar ventas sin que se afecten las rotaciones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52480" y="228600"/>
            <a:ext cx="49276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Temas del cur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Introducción - Ordenamiento del Balance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Análisis Patrimonial Estát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Análisis Patrimonial Dinám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Análisis de Circulante - </a:t>
            </a:r>
            <a:r>
              <a:rPr b="1" lang="es-ES_tradnl" sz="3000" spc="-1" strike="noStrike">
                <a:solidFill>
                  <a:srgbClr val="4d4d4d"/>
                </a:solidFill>
                <a:latin typeface="Verdana"/>
              </a:rPr>
              <a:t>Rotacione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 Análisis del Estado de Resultad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 Análisis de Rentabilidad y Rendimient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7. Planificación Financiera de C/P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Son sumables en días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SI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ermanencia media de activo=(Act./V)*365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./V = (S+C+D+AF)/V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Luego Act./V*365= Permanencia media de stocks+plazo de cobro a clientes+ días-venta de saldo de caja+ permanencia media del Activo Fij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88840" y="-360"/>
            <a:ext cx="73663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aso Pronasa: cálcul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lujos para Rotacione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graphicFrame>
        <p:nvGraphicFramePr>
          <p:cNvPr id="198" name="Object 2"/>
          <p:cNvGraphicFramePr/>
          <p:nvPr/>
        </p:nvGraphicFramePr>
        <p:xfrm>
          <a:off x="1552680" y="1886040"/>
          <a:ext cx="5987880" cy="4172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2680" y="1886040"/>
                    <a:ext cx="5987880" cy="41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3300"/>
                </a:solidFill>
                <a:latin typeface="Verdana"/>
              </a:rPr>
              <a:t>ANÁLISIS DE CIRCULANTE II </a:t>
            </a:r>
            <a:br>
              <a:rPr sz="3200"/>
            </a:br>
            <a:r>
              <a:rPr b="1" lang="es-ES_tradnl" sz="3200" spc="-1" strike="noStrike">
                <a:solidFill>
                  <a:srgbClr val="cc3300"/>
                </a:solidFill>
                <a:latin typeface="Verdana"/>
              </a:rPr>
              <a:t>CASO PRONASA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taciones (ver enunciado del Caso)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               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ÑO 1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        AÑO 5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SMP*365/Sal.Alm. 8,2*365/693,5=4,32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4,79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SPC*365/Fab.Acab29*365/700,3=15,11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19,4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SPA*365/ Ventas  5,4*365/701=2,5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3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TOTAL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 22,33 días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27,9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Empeoró rotación de stocks en un 22%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OJO con el producto en curso (aumenta en 26%) 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tación de Cliente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                         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AÑO 1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    AÑO5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lientes*365/Vtas.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121,2*365/874,1=50,6  98,5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Se excluyeron los morosos y se incluyeron los descontado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OJO con el IVA, incluírlo o excluirlo en el numerador y el denominador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La rotación empeora en un 95%, ¡Peligroso! Empeoró la calidad de la cartera de clientes, ¿Devoluciones de productos? (disminuyen ventas)   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sto hay que unirlo con que la solvencia de capacidad también había empeorado (AC/PC de 1,6 a 1,22)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1066680" y="-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3300"/>
                </a:solidFill>
                <a:latin typeface="Verdana"/>
              </a:rPr>
              <a:t>ANÁLISIS DE CIRCULANTE II </a:t>
            </a:r>
            <a:br>
              <a:rPr sz="3200"/>
            </a:br>
            <a:r>
              <a:rPr b="1" lang="es-ES_tradnl" sz="3200" spc="-1" strike="noStrike">
                <a:solidFill>
                  <a:srgbClr val="cc3300"/>
                </a:solidFill>
                <a:latin typeface="Verdana"/>
              </a:rPr>
              <a:t>CASO PRONASA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otal stocks más clientes (Período de maduración del activo circulante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72,29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125,7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mpeora un 73%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Proveedores? Proveedores*365/Compra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42,4*365/(692,8*1,06)=21,1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23,2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umentó un 10%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Necesidad de Fondo de Maniobra aumenta en 63%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1066680" y="-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3300"/>
                </a:solidFill>
                <a:latin typeface="Verdana"/>
              </a:rPr>
              <a:t>ANÁLISIS DE CIRCULANTE II </a:t>
            </a:r>
            <a:br>
              <a:rPr sz="3200"/>
            </a:br>
            <a:r>
              <a:rPr b="1" lang="es-ES_tradnl" sz="3200" spc="-1" strike="noStrike">
                <a:solidFill>
                  <a:srgbClr val="cc3300"/>
                </a:solidFill>
                <a:latin typeface="Verdana"/>
              </a:rPr>
              <a:t>CASO PRONASA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n términos absolutos FM = AC - PC aumentó al doble en día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Cómo se financia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o vimos en análisis dinámico: Con deud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Determinación de la sobreinversión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Datos: AC pasó de 72, 8 días a 125,7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ealizable + Stocks 164,4 M$ a 471,4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Ventas sin IVA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824    a       1350     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1066680" y="-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3300"/>
                </a:solidFill>
                <a:latin typeface="Verdana"/>
              </a:rPr>
              <a:t>ANÁLISIS DE CIRCULANTE II </a:t>
            </a:r>
            <a:br>
              <a:rPr sz="3200"/>
            </a:br>
            <a:r>
              <a:rPr b="1" lang="es-ES_tradnl" sz="3200" spc="-1" strike="noStrike">
                <a:solidFill>
                  <a:srgbClr val="cc3300"/>
                </a:solidFill>
                <a:latin typeface="Verdana"/>
              </a:rPr>
              <a:t>CASO PRONASA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Si se mantuviera rotación en 72, 29, el AC sería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X= 72,8*1350,6/365 = 269,4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Luego 471,4-269,4 = 202 es la sobreinversió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Si lo financiamos con deuda al 15%, podemos decir que la mala gestión del circulante está costando 30 millone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1066680" y="-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3300"/>
                </a:solidFill>
                <a:latin typeface="Verdana"/>
              </a:rPr>
              <a:t>ANÁLISIS DE CIRCULANTE II </a:t>
            </a:r>
            <a:br>
              <a:rPr sz="3200"/>
            </a:br>
            <a:r>
              <a:rPr b="1" lang="es-ES_tradnl" sz="3200" spc="-1" strike="noStrike">
                <a:solidFill>
                  <a:srgbClr val="cc3300"/>
                </a:solidFill>
                <a:latin typeface="Verdana"/>
              </a:rPr>
              <a:t>CASO PRONASA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La medida de la solvencia como puntual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l concepto de rotació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tación del Activo Fijo y Circulant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tación de Stocks, Clientes y Proveedore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5335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La medida de la solvencia de puntual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o hay ratios para medirl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recimiento comercial y mantención de niveles =&gt; Aumento del activo circulante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 no se logra mantener la velocidad de rotación del AC ( mantener su tendencia a la liquidez) =&gt;  Aumento del AC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La medida de la solvencia de puntual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Debiera financiarse con cíclicos o con exigible CP expres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xigible LP y autofinanciación: mi activo debe generar cash flow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853560" y="1585800"/>
            <a:ext cx="1190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Invers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3279600" y="1585800"/>
            <a:ext cx="1518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inanciac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5" name="Line 5"/>
          <p:cNvSpPr/>
          <p:nvPr/>
        </p:nvSpPr>
        <p:spPr>
          <a:xfrm flipH="1">
            <a:off x="755280" y="2063880"/>
            <a:ext cx="469800" cy="82548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6" name="Line 6"/>
          <p:cNvSpPr/>
          <p:nvPr/>
        </p:nvSpPr>
        <p:spPr>
          <a:xfrm>
            <a:off x="1530360" y="2063880"/>
            <a:ext cx="368280" cy="82548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7" name="Line 7"/>
          <p:cNvSpPr/>
          <p:nvPr/>
        </p:nvSpPr>
        <p:spPr>
          <a:xfrm flipH="1">
            <a:off x="3346200" y="2063880"/>
            <a:ext cx="393480" cy="97776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8" name="Line 8"/>
          <p:cNvSpPr/>
          <p:nvPr/>
        </p:nvSpPr>
        <p:spPr>
          <a:xfrm>
            <a:off x="4044960" y="2063880"/>
            <a:ext cx="368280" cy="97776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9" name="Rectangle 9"/>
          <p:cNvSpPr/>
          <p:nvPr/>
        </p:nvSpPr>
        <p:spPr>
          <a:xfrm>
            <a:off x="153000" y="3186000"/>
            <a:ext cx="760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.F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0" name="Rectangle 10"/>
          <p:cNvSpPr/>
          <p:nvPr/>
        </p:nvSpPr>
        <p:spPr>
          <a:xfrm>
            <a:off x="1330200" y="3110040"/>
            <a:ext cx="846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. C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1" name="Line 11"/>
          <p:cNvSpPr/>
          <p:nvPr/>
        </p:nvSpPr>
        <p:spPr>
          <a:xfrm flipH="1">
            <a:off x="374760" y="3740040"/>
            <a:ext cx="164880" cy="52092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Line 12"/>
          <p:cNvSpPr/>
          <p:nvPr/>
        </p:nvSpPr>
        <p:spPr>
          <a:xfrm>
            <a:off x="1987560" y="3664080"/>
            <a:ext cx="368280" cy="67284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3" name="Rectangle 13"/>
          <p:cNvSpPr/>
          <p:nvPr/>
        </p:nvSpPr>
        <p:spPr>
          <a:xfrm>
            <a:off x="-92160" y="4603680"/>
            <a:ext cx="946440" cy="12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Reem-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plaz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4" name="Rectangle 14"/>
          <p:cNvSpPr/>
          <p:nvPr/>
        </p:nvSpPr>
        <p:spPr>
          <a:xfrm>
            <a:off x="635040" y="4832280"/>
            <a:ext cx="1627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recimient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5" name="Rectangle 15"/>
          <p:cNvSpPr/>
          <p:nvPr/>
        </p:nvSpPr>
        <p:spPr>
          <a:xfrm>
            <a:off x="1104840" y="4222800"/>
            <a:ext cx="2246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Menor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rotación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6" name="Line 16"/>
          <p:cNvSpPr/>
          <p:nvPr/>
        </p:nvSpPr>
        <p:spPr>
          <a:xfrm>
            <a:off x="768240" y="3740040"/>
            <a:ext cx="292320" cy="97812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7" name="Line 17"/>
          <p:cNvSpPr/>
          <p:nvPr/>
        </p:nvSpPr>
        <p:spPr>
          <a:xfrm>
            <a:off x="1371600" y="3587760"/>
            <a:ext cx="0" cy="113040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8" name="Line 18"/>
          <p:cNvSpPr/>
          <p:nvPr/>
        </p:nvSpPr>
        <p:spPr>
          <a:xfrm>
            <a:off x="2292480" y="1828800"/>
            <a:ext cx="672840" cy="0"/>
          </a:xfrm>
          <a:prstGeom prst="line">
            <a:avLst/>
          </a:prstGeom>
          <a:ln w="12600">
            <a:solidFill>
              <a:srgbClr val="4d4d4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9" name="Rectangle 19"/>
          <p:cNvSpPr/>
          <p:nvPr/>
        </p:nvSpPr>
        <p:spPr>
          <a:xfrm>
            <a:off x="2456640" y="3110040"/>
            <a:ext cx="1182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apital P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0" name="Rectangle 20"/>
          <p:cNvSpPr/>
          <p:nvPr/>
        </p:nvSpPr>
        <p:spPr>
          <a:xfrm>
            <a:off x="3988080" y="3110040"/>
            <a:ext cx="1016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1" name="Line 21"/>
          <p:cNvSpPr/>
          <p:nvPr/>
        </p:nvSpPr>
        <p:spPr>
          <a:xfrm>
            <a:off x="4419720" y="3587760"/>
            <a:ext cx="0" cy="44460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2" name="Line 22"/>
          <p:cNvSpPr/>
          <p:nvPr/>
        </p:nvSpPr>
        <p:spPr>
          <a:xfrm>
            <a:off x="4730760" y="3511440"/>
            <a:ext cx="444600" cy="52092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3" name="Rectangle 23"/>
          <p:cNvSpPr/>
          <p:nvPr/>
        </p:nvSpPr>
        <p:spPr>
          <a:xfrm>
            <a:off x="3807720" y="4100400"/>
            <a:ext cx="919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L.P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4" name="Rectangle 24"/>
          <p:cNvSpPr/>
          <p:nvPr/>
        </p:nvSpPr>
        <p:spPr>
          <a:xfrm>
            <a:off x="4862880" y="4100400"/>
            <a:ext cx="943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C.P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5" name="Line 25"/>
          <p:cNvSpPr/>
          <p:nvPr/>
        </p:nvSpPr>
        <p:spPr>
          <a:xfrm>
            <a:off x="4343400" y="4578480"/>
            <a:ext cx="0" cy="368280"/>
          </a:xfrm>
          <a:prstGeom prst="line">
            <a:avLst/>
          </a:prstGeom>
          <a:ln w="12600">
            <a:solidFill>
              <a:srgbClr val="4d4d4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6" name="Rectangle 26"/>
          <p:cNvSpPr/>
          <p:nvPr/>
        </p:nvSpPr>
        <p:spPr>
          <a:xfrm>
            <a:off x="2500920" y="5273640"/>
            <a:ext cx="21625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CASH FLOW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7" name="Line 27"/>
          <p:cNvSpPr/>
          <p:nvPr/>
        </p:nvSpPr>
        <p:spPr>
          <a:xfrm flipV="1">
            <a:off x="5797440" y="3879720"/>
            <a:ext cx="596880" cy="31752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8" name="Line 28"/>
          <p:cNvSpPr/>
          <p:nvPr/>
        </p:nvSpPr>
        <p:spPr>
          <a:xfrm>
            <a:off x="5797440" y="4425840"/>
            <a:ext cx="520920" cy="36828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9" name="Rectangle 29"/>
          <p:cNvSpPr/>
          <p:nvPr/>
        </p:nvSpPr>
        <p:spPr>
          <a:xfrm>
            <a:off x="6248160" y="3490920"/>
            <a:ext cx="15242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Vencimien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pres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0" name="Rectangle 30"/>
          <p:cNvSpPr/>
          <p:nvPr/>
        </p:nvSpPr>
        <p:spPr>
          <a:xfrm>
            <a:off x="6295320" y="4862520"/>
            <a:ext cx="972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íclic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1" name="Line 31"/>
          <p:cNvSpPr/>
          <p:nvPr/>
        </p:nvSpPr>
        <p:spPr>
          <a:xfrm>
            <a:off x="7854840" y="4038480"/>
            <a:ext cx="368280" cy="0"/>
          </a:xfrm>
          <a:prstGeom prst="line">
            <a:avLst/>
          </a:prstGeom>
          <a:ln w="12600">
            <a:solidFill>
              <a:srgbClr val="4d4d4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2" name="Line 32"/>
          <p:cNvSpPr/>
          <p:nvPr/>
        </p:nvSpPr>
        <p:spPr>
          <a:xfrm>
            <a:off x="8229600" y="4044960"/>
            <a:ext cx="0" cy="135900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3" name="Line 33"/>
          <p:cNvSpPr/>
          <p:nvPr/>
        </p:nvSpPr>
        <p:spPr>
          <a:xfrm flipV="1">
            <a:off x="8229600" y="4032360"/>
            <a:ext cx="0" cy="16488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6656040" y="5425920"/>
            <a:ext cx="223416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REDUCCION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DE A.C.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5" name="Rectangle 35"/>
          <p:cNvSpPr/>
          <p:nvPr/>
        </p:nvSpPr>
        <p:spPr>
          <a:xfrm>
            <a:off x="2356920" y="3719520"/>
            <a:ext cx="1383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ividend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6" name="Line 36"/>
          <p:cNvSpPr/>
          <p:nvPr/>
        </p:nvSpPr>
        <p:spPr>
          <a:xfrm>
            <a:off x="3124080" y="3511440"/>
            <a:ext cx="0" cy="216000"/>
          </a:xfrm>
          <a:prstGeom prst="line">
            <a:avLst/>
          </a:prstGeom>
          <a:ln w="12600">
            <a:solidFill>
              <a:srgbClr val="4d4d4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7" name="Line 37"/>
          <p:cNvSpPr/>
          <p:nvPr/>
        </p:nvSpPr>
        <p:spPr>
          <a:xfrm>
            <a:off x="3124080" y="4197240"/>
            <a:ext cx="0" cy="749520"/>
          </a:xfrm>
          <a:prstGeom prst="line">
            <a:avLst/>
          </a:prstGeom>
          <a:ln w="12600">
            <a:solidFill>
              <a:srgbClr val="4d4d4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ASH FLOW = BENEFICIO(Utilidad) + DEPRECIACION + PREVISIONE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INDICADOR DE PUNTUALIDAD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ASH FLOW &gt; Dividendos + Vencimientos de Exigibles de LP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VITAR PERDIDA DE ROTACION 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(Concepto de rotación se ve más adelante)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VITAR AUMENTAR EXPRESOS VS CICLICOS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L CONCEPTO DE ROTACIO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atio VENTAS/ACTIV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Ventas: Medida de la actividad de la empres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ctivo: Medida del tamaño, de la invers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uego es una 1ª proxy a medir eficienci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 unidad es “Rotaciones” (R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Interpretación: Cuantas veces “da vuelta” el activo.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ño 1 : 5R ----&gt; Año 2 : 3R ¡ARGGG!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TACION DE AF VS AC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paro el ratio anterior en : Ventas / AF y Ventas / AC (porque AF y AC no necesariamente se mueven juntos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V / AF es una  relación más bien técnica de dimensionamient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V / AC depende de la gestión del circulante y en particular de los cliente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Trabajaremos más con V / AC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Eduardo Contreras</dc:creator>
  <dc:description/>
  <dc:language>en-US</dc:language>
  <cp:lastModifiedBy>Eduardo Contreras Villablanca</cp:lastModifiedBy>
  <cp:lastPrinted>2002-11-13T13:47:55Z</cp:lastPrinted>
  <dcterms:modified xsi:type="dcterms:W3CDTF">2010-09-01T21:39:51Z</dcterms:modified>
  <cp:revision>369</cp:revision>
  <dc:subject/>
  <dc:title>Análisis Financiero</dc:title>
</cp:coreProperties>
</file>