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2D837-7E00-401C-8C14-4C8B4A5A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36FEB-9798-49B8-8BC1-4075822C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5A5AB-3AFF-4996-8166-E0C4C6F3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53F7C-6093-4934-B3A8-01F24290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69407-2798-4C41-B23F-1F3D7ED3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14F50-BE44-4F51-8780-F9215D13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54CFB-9E77-41B9-91AB-1059C941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5E631-93F7-4E8A-B225-E94A5D75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F7F77-2825-448E-8BF8-8DA506C0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4E9EF-4786-4648-882E-E26269C7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5DD66-3BF3-48DF-B030-C500A784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124F7-6A21-445E-982A-FEDFCECE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DFAE-47D2-41BB-936A-6478C4BA97E7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VENTAS / STOCKS: Cuántas veces da vuelta el stock en el ciclo stock -&gt; Producto -&gt; Vent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10.000 / 1000 = 10 R &lt;=&gt; Rotó 10 vec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demos calcular 1000 / 10.000 * 365 = 36,5 días: Permanencia media del stock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: El indicador “miente” en empresas con estacionalidades (stocks muy altos o muy bajos al momento de medir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5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LIENT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/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2500 / 10.000 * 365 = 91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to =&gt; Vigilar que no aume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PRAS / PROVEEDOR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 es cuenta de pasivo ¿Conviene que disminuya la rotación medida en vueltas? ( es decir que aumente en número de dí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9040" y="228240"/>
            <a:ext cx="416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Otro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Proveedores / Compras * 365 aumenta de 60 a 210 días ¿es necesariamente bueno?. Contestar Y o 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TALLADA DE STOCK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MP / Utilización de M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C / Fabric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A /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da masa patrimonial se compara c/r al flujo de salida hacia el que tiende en el ciclo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teri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Cur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min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Line 8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29240" y="1752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mpra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884960" y="51465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tiliz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2088360" y="1793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Insum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4787280" y="4917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7778880" y="52228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740880" y="6137280"/>
            <a:ext cx="76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Utilización M. Primas + Otros Insumos = Entradas a 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650120" y="2697120"/>
            <a:ext cx="1258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4749840" y="4648320"/>
            <a:ext cx="12826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2829240" y="3567240"/>
            <a:ext cx="591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2829240" y="410040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902160" y="34909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902160" y="39481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825840" y="448164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6256440" y="2590920"/>
            <a:ext cx="257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 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nderado : 5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2819520" y="46483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M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983160" y="2590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n 160 día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exigibilidad en 50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impuntua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necesariamente, hay que analiz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clientes se puede cobrar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la deuda vence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upongamos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ientes deben 100 Millones para los próximos 10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deudamos 50 para los próximos 5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ogía: Es una empresa de alta capacidad  (solvencia de capacidad) y baja rotación &lt;=&gt; Río ancho y poco caud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s problemas no son de puntualidad si no de crecimiento ¿Cómo aumentar ventas sin que se afecten las rotacione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on sumables en dí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ermanencia media de activo=(Act./V)*36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./V = (S+C+D+AF)/V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Act./V*365= Permanencia media de stocks+plazo de cobro a clientes+ días-venta de saldo de caja+ permanencia media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88840" y="-360"/>
            <a:ext cx="736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: cálcul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lujos para Rotacion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552680" y="1886040"/>
          <a:ext cx="5987880" cy="41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2680" y="1886040"/>
                    <a:ext cx="59878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es (ver enunciado del Caso)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      AÑO 5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MP*365/Sal.Alm. 8,2*365/693,5=4,32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4,79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PC*365/Fab.Acab29*365/700,3=15,11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19,4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PA*365/ Ventas  5,4*365/701=2,5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TOTAL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22,33 días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27,9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mpeoró rotación de stocks en un 22%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OJO con el producto en curso (aumenta en 26%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Client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AÑO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*365/Vtas.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21,2*365/874,1=50,6  98,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xcluyeron los morosos y se incluyeron los descont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con el IVA, incluírlo o excluirlo en el numerador y el denominad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La rotación empeora en un 95%, ¡Peligroso! Empeoró la calidad de la cartera de clientes, ¿Devoluciones de productos? (disminuyen ventas)  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sto hay que unirlo con que la solvencia de capacidad también había empeorado (AC/PC de 1,6 a 1,22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tal stocks más clientes (Período de maduración del activo circulant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72,29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25,7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mpeora un 73%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Proveedores? Proveedores*365/Comp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2,4*365/(692,8*1,06)=21,1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3,2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mentó un 10%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ecesidad de Fondo de Maniobra aumenta en 63%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términos absolutos FM = AC - PC aumentó al doble en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ómo se financia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imos en análisis dinámico: Con deu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erminación de la sobreinversió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atos: AC pasó de 72, 8 días a 125,7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alizable + Stocks 164,4 M$ a 471,4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sin IVA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824    a       1350     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 se mantuviera rotación en 72, 29, el AC serí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X= 72,8*1350,6/365 = 269,4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471,4-269,4 = 202 es la sobreinvers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 lo financiamos con deuda al 15%, podemos decir que la mala gestión del circulante está costando 30 mill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como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l Activo Fijo y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ratios para medirl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recimiento comercial y mantención de niveles =&gt; Aumento del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no se logra mantener la velocidad de rotación del AC ( mantener su tendencia a la liquidez) =&gt;  Aumento del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biera financiarse con cíclicos o con exigible CP expres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P y autofinanciación: mi activo debe generar cash flow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853560" y="15858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279600" y="1585800"/>
            <a:ext cx="151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5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6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Line 7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Line 8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53000" y="3186000"/>
            <a:ext cx="76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330200" y="3110040"/>
            <a:ext cx="84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-92160" y="4603680"/>
            <a:ext cx="946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em-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35040" y="4832280"/>
            <a:ext cx="162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en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456640" y="31100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3988080" y="3110040"/>
            <a:ext cx="101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21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22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3807720" y="410040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4862880" y="410040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2500920" y="527364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CASH FLOW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Line 27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6248160" y="3490920"/>
            <a:ext cx="1524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re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6295320" y="4862520"/>
            <a:ext cx="97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ícl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7854840" y="4038480"/>
            <a:ext cx="36828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Line 32"/>
          <p:cNvSpPr/>
          <p:nvPr/>
        </p:nvSpPr>
        <p:spPr>
          <a:xfrm>
            <a:off x="8229600" y="404496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33"/>
          <p:cNvSpPr/>
          <p:nvPr/>
        </p:nvSpPr>
        <p:spPr>
          <a:xfrm flipV="1">
            <a:off x="8229600" y="4032360"/>
            <a:ext cx="0" cy="164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6656040" y="5425920"/>
            <a:ext cx="2234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EDUCCIO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DE A.C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2356920" y="371952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viden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SH FLOW = BENEFICIO(Utilidad) + DEPRECIACION + PREVI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 DE PUNTUALIDAD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H FLOW &gt; Dividendos + Vencimientos de Exigibles de L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PERDIDA DE ROTACION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(Concepto de rotación se ve más ade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AUMENTAR EXPRESOS VS CICLIC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O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VENTAS/AC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: Medida de la actividad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: Medida del tamaño, de la 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uego es una 1ª proxy a medir eficien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unidad es “Rotaciones” (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pretación: Cuantas veces “da vuelta” el activo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 : 5R ----&gt; Año 2 : 3R ¡ARGGG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AF VS A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paro el ratio anterior en : Ventas / AF y Ventas / AC (porque AF y AC no necesariamente se mueven junt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F es una  relación más bien técnica de dimension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C depende de la gestión del circulante y en particular de los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bajaremos más con V /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9-01T21:39:51Z</dcterms:modified>
  <cp:revision>369</cp:revision>
  <dc:subject/>
  <dc:title>Análisis Financiero</dc:title>
</cp:coreProperties>
</file>