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05896-BD1C-410A-88AB-BBC8C94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CC07-C86C-44E0-B773-870F375E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389F-99BF-465D-90FB-170073F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8760-AABF-4BBD-93F4-455A83A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099F-3AA5-40AC-9EEF-D4C4B90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52F6A-173E-4FC6-B011-7DBA99A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18A9-33FE-4BDB-AA85-5B96E02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049E-5758-4330-B12A-6795E3F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6854-503A-469C-8A64-93CBCED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EC25-458E-4A55-B6C1-9973129D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8067-2398-4DFC-9CE7-B49C8407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D0D9-3165-4A8C-951D-662924F4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99C-3525-49F3-8A90-3D4AF1A9BF6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22800" y="3262320"/>
              <a:ext cx="212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Efe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934240" y="5929200"/>
            <a:ext cx="245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_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6120" indent="-3661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08120" indent="-3402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ponder, en caso de pérdida de valor del activo, cubriendo la deud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9:30Z</dcterms:modified>
  <cp:revision>367</cp:revision>
  <dc:subject/>
  <dc:title>Análisis Financiero</dc:title>
</cp:coreProperties>
</file>