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6401E-93EB-4853-8A9F-31FC6CAB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3736D-0A4E-4F0D-B7B7-89068563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3B222-C370-41CB-A6B1-CB75EDAE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9A6D0-B1D4-43CA-B6A2-752FE3A8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3B92-E936-4103-99B5-6F4616DA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97DD1-AF12-4181-BE21-DB049345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D2672-0E22-4B0A-BF51-1B7BA841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9F5C5-B7BF-4FB6-953B-94D80D9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4E801-48A8-43E3-AC0B-769D217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146BF-41D5-4CD1-9B54-F792F29A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9C0BB-6527-4794-BE6F-B18BBCB5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B520F-D1E9-42C0-A4A9-A937C8DB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A998-EA69-44AA-98C7-A2FBB1C82B18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1828440"/>
            <a:ext cx="80024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reocupa de la capacidad que tiene el Activo Circulante para hacer frente al Pasivo Circulant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los casos que el Activo circulante supera al Pasivo Circulante, nos permite mayor endeudamiento o garantiza pérdida de valor del activ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Una primera idea de buena Gestión Financie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 algn="just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planteo financiero correcto de la empresa supone atender al Pasivo Circulante con la transformación corriente del Activo Circulante, y atender a los créditos de Largo Plazo con beneficios no distribuidos, o bien con fondos procedentes de Depreciación, en el caso que el crédito esté financiando reposiciones de Activo Fij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2057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=Capital de Tra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finición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quella porción del Activo Circulante financiada por Capitales Permanente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779480" indent="-338400">
              <a:spcBef>
                <a:spcPts val="624"/>
              </a:spcBef>
              <a:buClr>
                <a:srgbClr val="cc0000"/>
              </a:buClr>
              <a:buSzPct val="60000"/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               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ó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menos Pasivo Circulante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244560" y="554832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10160" y="3435480"/>
            <a:ext cx="2847960" cy="2835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6019920" y="343548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578480" y="4495680"/>
            <a:ext cx="1434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6026040" y="472428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6026040" y="5562720"/>
            <a:ext cx="14353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53080" y="3567240"/>
            <a:ext cx="1011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4697640" y="47862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201000" y="3643200"/>
            <a:ext cx="1162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pi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320520" y="4710240"/>
            <a:ext cx="1076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4"/>
          <p:cNvSpPr/>
          <p:nvPr/>
        </p:nvSpPr>
        <p:spPr>
          <a:xfrm flipH="1">
            <a:off x="3346560" y="4495680"/>
            <a:ext cx="123192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5"/>
          <p:cNvSpPr/>
          <p:nvPr/>
        </p:nvSpPr>
        <p:spPr>
          <a:xfrm flipH="1">
            <a:off x="3346200" y="5562720"/>
            <a:ext cx="2679480" cy="0"/>
          </a:xfrm>
          <a:prstGeom prst="line">
            <a:avLst/>
          </a:prstGeom>
          <a:ln w="1260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359160" y="4502160"/>
            <a:ext cx="216000" cy="1054080"/>
          </a:xfrm>
          <a:prstGeom prst="rect">
            <a:avLst/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1676160" y="4405320"/>
            <a:ext cx="1219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iob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85075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de la Solvencia Corrient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Fondo de Maniobra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l Activo Circulante cubre el Pasivo Circulante y deja todavía un fondo que no es exigible al corto plaz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965160" indent="-22068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es positivo, es porque estoy financiando una parte del Activo Circulante con Exigible de Largo Plazo o con Capital Propio. Lo anterior es razonable en la medida que los pasivos circulantes cíclicos no financian aumentos transitorios de Activo Circulante (puntas, pedidos extras, etc.), y el uso de recursos expresos es peligros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 algn="just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 iniciar una actividad comercial y/o industrial no basta con plantear las necesidades de capitales propios o permanentes en función solamente del Activo Fijo necesario, sino también del Fondo de Maniobra que se origine después de utilizar la financiación espontánea ó cíclic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12720" y="2500200"/>
            <a:ext cx="7691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4d4d4d"/>
              </a:buClr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Una segunda idea de buena Gestión Financiera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560" y="1371240"/>
            <a:ext cx="8435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44000" indent="-316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gunas ideas sobre el Fondo de Maniobr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positivo, no quiere decir que la empresa tenga Solvencia de Puntualidad, ya que su rotación de circulante puede ser muy lenta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Que el Fondo de Maniobra sea negativo no quiere decir que la empresa sea Insolvente, pero pondría un poco nervioso a los acreedore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355040" indent="-309600" algn="just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Fondo de Maniobra por sí sólo no dice nada, hay que relativizarlo en función de otra información, como el tamaño de la empresa, importancia de su Activo y de su Pasivo Circulante, naturaleza de la actividad empresarial, etc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5840" y="2881440"/>
            <a:ext cx="4383720" cy="2801880"/>
            <a:chOff x="105840" y="2881440"/>
            <a:chExt cx="4383720" cy="2801880"/>
          </a:xfrm>
        </p:grpSpPr>
        <p:sp>
          <p:nvSpPr>
            <p:cNvPr id="132" name="Rectangle 5"/>
            <p:cNvSpPr/>
            <p:nvPr/>
          </p:nvSpPr>
          <p:spPr>
            <a:xfrm>
              <a:off x="157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>
              <a:off x="1162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189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2443320" y="3328920"/>
              <a:ext cx="2046240" cy="229392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 flipH="1">
              <a:off x="3448080" y="3328920"/>
              <a:ext cx="14400" cy="2325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2475000" y="4213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696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1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2982240" y="2881440"/>
              <a:ext cx="89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so 2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Line 13"/>
            <p:cNvSpPr/>
            <p:nvPr/>
          </p:nvSpPr>
          <p:spPr>
            <a:xfrm>
              <a:off x="189000" y="451800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179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Line 15"/>
            <p:cNvSpPr/>
            <p:nvPr/>
          </p:nvSpPr>
          <p:spPr>
            <a:xfrm>
              <a:off x="189000" y="528012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2475000" y="51274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3465360" y="4594320"/>
              <a:ext cx="974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2475000" y="5356080"/>
              <a:ext cx="974520" cy="0"/>
            </a:xfrm>
            <a:prstGeom prst="line">
              <a:avLst/>
            </a:prstGeom>
            <a:ln w="12600">
              <a:solidFill>
                <a:srgbClr val="4d4d4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19"/>
            <p:cNvSpPr/>
            <p:nvPr/>
          </p:nvSpPr>
          <p:spPr>
            <a:xfrm>
              <a:off x="401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20"/>
            <p:cNvSpPr/>
            <p:nvPr/>
          </p:nvSpPr>
          <p:spPr>
            <a:xfrm>
              <a:off x="2687400" y="356724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F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21"/>
            <p:cNvSpPr/>
            <p:nvPr/>
          </p:nvSpPr>
          <p:spPr>
            <a:xfrm>
              <a:off x="374580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22"/>
            <p:cNvSpPr/>
            <p:nvPr/>
          </p:nvSpPr>
          <p:spPr>
            <a:xfrm>
              <a:off x="1383840" y="356724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.P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23"/>
            <p:cNvSpPr/>
            <p:nvPr/>
          </p:nvSpPr>
          <p:spPr>
            <a:xfrm>
              <a:off x="1383840" y="486252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24"/>
            <p:cNvSpPr/>
            <p:nvPr/>
          </p:nvSpPr>
          <p:spPr>
            <a:xfrm>
              <a:off x="3669840" y="4786200"/>
              <a:ext cx="58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.C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175320" y="416880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2537640" y="4473720"/>
              <a:ext cx="86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27"/>
            <p:cNvSpPr/>
            <p:nvPr/>
          </p:nvSpPr>
          <p:spPr>
            <a:xfrm>
              <a:off x="121320" y="475632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28"/>
            <p:cNvSpPr/>
            <p:nvPr/>
          </p:nvSpPr>
          <p:spPr>
            <a:xfrm>
              <a:off x="2407320" y="5060880"/>
              <a:ext cx="1130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29"/>
            <p:cNvSpPr/>
            <p:nvPr/>
          </p:nvSpPr>
          <p:spPr>
            <a:xfrm>
              <a:off x="105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30"/>
            <p:cNvSpPr/>
            <p:nvPr/>
          </p:nvSpPr>
          <p:spPr>
            <a:xfrm>
              <a:off x="2391840" y="528948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d4d4d"/>
                  </a:solidFill>
                  <a:latin typeface="Verdana"/>
                </a:rPr>
                <a:t>Disponi.</a:t>
              </a:r>
              <a:endParaRPr b="0" lang="en-US" sz="2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8" name="Rectangle 31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4938840" y="3186000"/>
            <a:ext cx="38253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hay que ver la calidad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os client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Hay que ver que hay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stocks ( productos de moda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soletos, si son liquidables,etc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57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1162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189000" y="39085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443320" y="3328920"/>
            <a:ext cx="2046240" cy="22939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 flipH="1">
            <a:off x="3448080" y="3328920"/>
            <a:ext cx="14400" cy="2325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475000" y="4822920"/>
            <a:ext cx="9745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696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2982240" y="288144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s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179360" y="41371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465360" y="5051520"/>
            <a:ext cx="974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401400" y="341460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687400" y="3567240"/>
            <a:ext cx="56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374580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383840" y="356724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383840" y="486252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745800" y="5014800"/>
            <a:ext cx="58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647160" y="2073240"/>
            <a:ext cx="169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¿Qué tal?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4907160" y="3186000"/>
            <a:ext cx="3781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Fondos de Maniobra Iguale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1 : A.F.&lt; A.C. y C.P.&lt; P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Caso 2 : A.F.&gt; A.C. y C.P.&gt; P.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 general, uno se siente má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ómodo con un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ás grande, por su mayor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ndencia a la liquidez es de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nejo más  flexibl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" y="47862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599200" y="5014800"/>
            <a:ext cx="59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 : Un gran Supermercad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61960" y="3046320"/>
            <a:ext cx="2562120" cy="25513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Line 5"/>
          <p:cNvSpPr/>
          <p:nvPr/>
        </p:nvSpPr>
        <p:spPr>
          <a:xfrm flipH="1">
            <a:off x="1822320" y="3046320"/>
            <a:ext cx="14400" cy="2586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6560" y="4943520"/>
            <a:ext cx="14943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601560" y="4960800"/>
            <a:ext cx="1222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12720" y="3697200"/>
            <a:ext cx="11397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1715760" y="3159000"/>
            <a:ext cx="1601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836720" y="3983040"/>
            <a:ext cx="1311120" cy="1713960"/>
            <a:chOff x="1836720" y="3983040"/>
            <a:chExt cx="1311120" cy="1713960"/>
          </a:xfrm>
        </p:grpSpPr>
        <p:sp>
          <p:nvSpPr>
            <p:cNvPr id="191" name="Rectangle 11"/>
            <p:cNvSpPr/>
            <p:nvPr/>
          </p:nvSpPr>
          <p:spPr>
            <a:xfrm>
              <a:off x="1889640" y="494352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C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>
              <a:off x="1836720" y="400068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836720" y="4754520"/>
              <a:ext cx="12906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1889640" y="3983040"/>
              <a:ext cx="125820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Exigible 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0" lang="es-ES_tradnl" sz="2200" spc="-1" strike="noStrike">
                  <a:solidFill>
                    <a:srgbClr val="4d4d4d"/>
                  </a:solidFill>
                  <a:latin typeface="Verdana"/>
                </a:rPr>
                <a:t>L/P</a:t>
              </a:r>
              <a:endParaRPr b="0" lang="en-US" sz="2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95" name="Rectangle 15"/>
          <p:cNvSpPr/>
          <p:nvPr/>
        </p:nvSpPr>
        <p:spPr>
          <a:xfrm>
            <a:off x="3546360" y="2881440"/>
            <a:ext cx="4988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ucho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Clientes son pocos, porque paga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conta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os Stocks son bajos porque l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veedores surten rápi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exigible a C/P es relativamente grande,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que el supermercado tiene pode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ociador, los plazos de pago son largos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2737080" y="5929200"/>
            <a:ext cx="382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 DE MANIOBRA 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54608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Análisis de Circulante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 (Repas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zón Circulante “ ó  “ Ratio de Solvenci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901960" y="3306600"/>
            <a:ext cx="4254480" cy="1130040"/>
            <a:chOff x="2901960" y="3306600"/>
            <a:chExt cx="4254480" cy="1130040"/>
          </a:xfrm>
        </p:grpSpPr>
        <p:grpSp>
          <p:nvGrpSpPr>
            <p:cNvPr id="200" name="Group 5"/>
            <p:cNvGrpSpPr/>
            <p:nvPr/>
          </p:nvGrpSpPr>
          <p:grpSpPr>
            <a:xfrm>
              <a:off x="4502160" y="3362040"/>
              <a:ext cx="2197080" cy="820440"/>
              <a:chOff x="4502160" y="3362040"/>
              <a:chExt cx="2197080" cy="820440"/>
            </a:xfrm>
          </p:grpSpPr>
          <p:sp>
            <p:nvSpPr>
              <p:cNvPr id="201" name="Rectangle 6"/>
              <p:cNvSpPr/>
              <p:nvPr/>
            </p:nvSpPr>
            <p:spPr>
              <a:xfrm>
                <a:off x="4570200" y="3362040"/>
                <a:ext cx="1984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Act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4502160" y="375732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4551120" y="381924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3352680" y="3590640"/>
              <a:ext cx="760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S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901960" y="330660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607320" y="4481640"/>
            <a:ext cx="7932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empre hay que observar el contenido del Activo y Pasivo Circul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.= 1, desde el punto de vista del acreedor a C/P es preocupan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S = 1, desde el punto de vista de la empresa, si tuviesen que pagar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da la deuda de C/P, se quedan sin poder seguir operand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Luego : R.S. = 1 justillo, R.S. mayor que uno implica FM 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Tesorería “ ó  “ Prueba Acida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615240" y="4481640"/>
            <a:ext cx="79311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Mide la capacidad de la empresa de hacer frente a su Pas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n las partidas más líquidas del Activo Circulante.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la empresa está en una excelente posición de tesorería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i R.T.= 1, desde el punto de vista del acreedor, hay cierta seguridad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go de su deuda. (Si la cartera de clientes es relativamente sana)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10" name="Group 5"/>
          <p:cNvGrpSpPr/>
          <p:nvPr/>
        </p:nvGrpSpPr>
        <p:grpSpPr>
          <a:xfrm>
            <a:off x="844560" y="3206880"/>
            <a:ext cx="7531200" cy="1130040"/>
            <a:chOff x="844560" y="3206880"/>
            <a:chExt cx="7531200" cy="1130040"/>
          </a:xfrm>
        </p:grpSpPr>
        <p:sp>
          <p:nvSpPr>
            <p:cNvPr id="211" name="Rectangle 6"/>
            <p:cNvSpPr/>
            <p:nvPr/>
          </p:nvSpPr>
          <p:spPr>
            <a:xfrm>
              <a:off x="2225520" y="3262320"/>
              <a:ext cx="2863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1987560" y="3733920"/>
              <a:ext cx="34164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1067400" y="3490920"/>
              <a:ext cx="762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T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844560" y="3206880"/>
              <a:ext cx="753120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5406120" y="34909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22800" y="3262320"/>
              <a:ext cx="212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+ Efe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6075360" y="379584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873760" y="3733920"/>
              <a:ext cx="2425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s de Solvencia Corrie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 “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atio de Liquidez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901960" y="3206880"/>
            <a:ext cx="4254480" cy="1130040"/>
            <a:chOff x="2901960" y="3206880"/>
            <a:chExt cx="4254480" cy="1130040"/>
          </a:xfrm>
        </p:grpSpPr>
        <p:grpSp>
          <p:nvGrpSpPr>
            <p:cNvPr id="223" name="Group 5"/>
            <p:cNvGrpSpPr/>
            <p:nvPr/>
          </p:nvGrpSpPr>
          <p:grpSpPr>
            <a:xfrm>
              <a:off x="4502160" y="3262320"/>
              <a:ext cx="2197080" cy="820440"/>
              <a:chOff x="4502160" y="3262320"/>
              <a:chExt cx="2197080" cy="820440"/>
            </a:xfrm>
          </p:grpSpPr>
          <p:sp>
            <p:nvSpPr>
              <p:cNvPr id="224" name="Rectangle 6"/>
              <p:cNvSpPr/>
              <p:nvPr/>
            </p:nvSpPr>
            <p:spPr>
              <a:xfrm>
                <a:off x="4733280" y="3262320"/>
                <a:ext cx="1655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Caja y Bancos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5" name="Line 7"/>
              <p:cNvSpPr/>
              <p:nvPr/>
            </p:nvSpPr>
            <p:spPr>
              <a:xfrm>
                <a:off x="4502160" y="3657600"/>
                <a:ext cx="219708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226" name="Rectangle 8"/>
              <p:cNvSpPr/>
              <p:nvPr/>
            </p:nvSpPr>
            <p:spPr>
              <a:xfrm>
                <a:off x="4551120" y="3719520"/>
                <a:ext cx="2022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4d4d4d"/>
                    </a:solidFill>
                    <a:latin typeface="Verdana"/>
                  </a:rPr>
                  <a:t>Pasivo Circulante</a:t>
                </a:r>
                <a:endParaRPr b="0" lang="en-US" sz="18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</p:grpSp>
        <p:sp>
          <p:nvSpPr>
            <p:cNvPr id="227" name="Rectangle 9"/>
            <p:cNvSpPr/>
            <p:nvPr/>
          </p:nvSpPr>
          <p:spPr>
            <a:xfrm>
              <a:off x="3356640" y="3490920"/>
              <a:ext cx="75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.L. =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2901960" y="3206880"/>
              <a:ext cx="4254480" cy="113004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29" name="Rectangle 11"/>
          <p:cNvSpPr/>
          <p:nvPr/>
        </p:nvSpPr>
        <p:spPr>
          <a:xfrm>
            <a:off x="495720" y="4481640"/>
            <a:ext cx="82173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Se debe usar el saldo medio mantenido durante el año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 Los saldos medios son función del Pasivo Exigible a C/P 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l saldo medio a mantener es una norma de seguridad, que debería est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función de la posibilidad de estancamiento de la co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 a Disponible.(Retraso de clientes, recesión de ventas, etc.)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de Solvencia Corriente (derivaciones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2368440" y="3262320"/>
            <a:ext cx="2197080" cy="820440"/>
            <a:chOff x="2368440" y="3262320"/>
            <a:chExt cx="2197080" cy="820440"/>
          </a:xfrm>
        </p:grpSpPr>
        <p:sp>
          <p:nvSpPr>
            <p:cNvPr id="233" name="Rectangle 5"/>
            <p:cNvSpPr/>
            <p:nvPr/>
          </p:nvSpPr>
          <p:spPr>
            <a:xfrm>
              <a:off x="2436840" y="3262320"/>
              <a:ext cx="1984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Line 6"/>
            <p:cNvSpPr/>
            <p:nvPr/>
          </p:nvSpPr>
          <p:spPr>
            <a:xfrm>
              <a:off x="23684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4177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36" name="Rectangle 8"/>
          <p:cNvSpPr/>
          <p:nvPr/>
        </p:nvSpPr>
        <p:spPr>
          <a:xfrm>
            <a:off x="2468160" y="2728800"/>
            <a:ext cx="192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Solvenci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424480" y="2728800"/>
            <a:ext cx="225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Ratio 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90880" y="3338640"/>
            <a:ext cx="135648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Gener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Funcional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Libr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9" name="Group 11"/>
          <p:cNvGrpSpPr/>
          <p:nvPr/>
        </p:nvGrpSpPr>
        <p:grpSpPr>
          <a:xfrm>
            <a:off x="1987560" y="4329000"/>
            <a:ext cx="2882880" cy="820440"/>
            <a:chOff x="1987560" y="4329000"/>
            <a:chExt cx="2882880" cy="820440"/>
          </a:xfrm>
        </p:grpSpPr>
        <p:sp>
          <p:nvSpPr>
            <p:cNvPr id="240" name="Rectangle 12"/>
            <p:cNvSpPr/>
            <p:nvPr/>
          </p:nvSpPr>
          <p:spPr>
            <a:xfrm>
              <a:off x="2138760" y="4329000"/>
              <a:ext cx="25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uncional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Line 13"/>
            <p:cNvSpPr/>
            <p:nvPr/>
          </p:nvSpPr>
          <p:spPr>
            <a:xfrm>
              <a:off x="1987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417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1835280" y="5396040"/>
            <a:ext cx="3187440" cy="820440"/>
            <a:chOff x="1835280" y="5396040"/>
            <a:chExt cx="3187440" cy="820440"/>
          </a:xfrm>
        </p:grpSpPr>
        <p:sp>
          <p:nvSpPr>
            <p:cNvPr id="244" name="Rectangle 16"/>
            <p:cNvSpPr/>
            <p:nvPr/>
          </p:nvSpPr>
          <p:spPr>
            <a:xfrm>
              <a:off x="2009880" y="5396040"/>
              <a:ext cx="2988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Documentos Descts.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Line 17"/>
            <p:cNvSpPr/>
            <p:nvPr/>
          </p:nvSpPr>
          <p:spPr>
            <a:xfrm>
              <a:off x="1835280" y="5791320"/>
              <a:ext cx="31874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2291400" y="5853240"/>
              <a:ext cx="243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-DD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5568840" y="3262320"/>
            <a:ext cx="2197080" cy="820440"/>
            <a:chOff x="5568840" y="3262320"/>
            <a:chExt cx="2197080" cy="820440"/>
          </a:xfrm>
        </p:grpSpPr>
        <p:sp>
          <p:nvSpPr>
            <p:cNvPr id="248" name="Rectangle 20"/>
            <p:cNvSpPr/>
            <p:nvPr/>
          </p:nvSpPr>
          <p:spPr>
            <a:xfrm>
              <a:off x="5891400" y="3262320"/>
              <a:ext cx="1473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Line 21"/>
            <p:cNvSpPr/>
            <p:nvPr/>
          </p:nvSpPr>
          <p:spPr>
            <a:xfrm>
              <a:off x="5568840" y="3657600"/>
              <a:ext cx="21970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618160" y="371952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5416560" y="4329000"/>
            <a:ext cx="2882880" cy="820440"/>
            <a:chOff x="5416560" y="4329000"/>
            <a:chExt cx="2882880" cy="820440"/>
          </a:xfrm>
        </p:grpSpPr>
        <p:sp>
          <p:nvSpPr>
            <p:cNvPr id="252" name="Rectangle 24"/>
            <p:cNvSpPr/>
            <p:nvPr/>
          </p:nvSpPr>
          <p:spPr>
            <a:xfrm>
              <a:off x="5707080" y="4329000"/>
              <a:ext cx="2298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.C. - Extraf.- Stock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5416560" y="4724280"/>
              <a:ext cx="28828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5846760" y="4786200"/>
              <a:ext cx="202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 Circulante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255" name="Rectangle 27"/>
          <p:cNvSpPr/>
          <p:nvPr/>
        </p:nvSpPr>
        <p:spPr>
          <a:xfrm>
            <a:off x="6100560" y="547200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.C. - D.D. - 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6" name="Line 28"/>
          <p:cNvSpPr/>
          <p:nvPr/>
        </p:nvSpPr>
        <p:spPr>
          <a:xfrm>
            <a:off x="5873760" y="5867280"/>
            <a:ext cx="2577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5934240" y="5929200"/>
            <a:ext cx="245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 Circulante_D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(Solvencia Final,Solvencia Funcion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edidas (Fondo de maniobra o Capital de Trabajo, Ratios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y Objetiv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fundización del Análisis Patrimonial Gener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noce también como análisis de Solvencia o Financi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udiaremos la “Solvencia” de la empresa, es decir su capacidad de cumplir con sus obligacion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trata de estudiar las masas patrimoniales que se mueven (circulan) con mayor rapidez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Circulante =&gt; Partidas más líquidas del activo (menos consolidad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ivo Circulante =&gt; Exigible de corto plazo (lo que se hace exigible en un  ciclo de maduración o en el “Corto Plazo”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ara finalmente determinar si la empresa puede mantenerse o desarrollarse manejando su estructura actual de Activo / Pasivo Circulante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Capac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bienes suficientes en su Activo para responder a su Pasivo Exigi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4" marL="1800360" indent="0" algn="just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de Puntua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ando una empresa tiene la capacidad de atender a sus compromisos de pago en la fecha previst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61440" indent="-3614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finición y Clases de Solvenci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98760" indent="-33588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 Una empresa productora de muebles de madera desarmables que inicia sus actividades, compra su materia prima con un crédito de sus proveedores a 90 días. El plazo de fabricación de los muebles es de 92 días, y el margen que reportan la venta de los muebles permite pagar con creces las materias primas y otros gastos. La empresa e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olvente de Capac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1612080" indent="-306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solvente de Puntua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6120" indent="-3661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08120" indent="-3402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vencia Final o de Garant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definir como el Total del Activo menos el Pasivo Exigible, es decir el activo que sobra si cancelo todo mis obliga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s permite mayor endeud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ponder, en caso de pérdida de valor del activo, cubriendo la deud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17720" indent="-3081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túa a la empresa en una perspectiva de liquidación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2209680"/>
            <a:ext cx="800244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Clases y medidas de la Solvencia de      Capac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olvencia Corriente ( o de Funcionamiento 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templa a la empresa Viva, en funcionamien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a garantía ofrecida por el Activo Fij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escinde de los vencimientos de Largo Plaz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6000" y="0"/>
            <a:ext cx="4775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IRCULANTE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9:30Z</dcterms:modified>
  <cp:revision>367</cp:revision>
  <dc:subject/>
  <dc:title>Análisis Financiero</dc:title>
</cp:coreProperties>
</file>