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3A1DF-6408-44F1-BB32-1EA68720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C9779-67BB-4DE1-A249-DA31DA4B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9F7B5-5305-47F0-AB13-58D6E3E5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F3554-33B9-4D8E-95C9-03697EB6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FF048-1B0B-47E8-92F3-085A9F77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9E55D-1AE0-42A4-A7BB-E1E17E40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F8AA0-523D-463D-86EE-3497BD75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8E691-6477-4B9F-9836-EFE8FA36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B1495-58C4-4654-9592-9CB41E7B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D64ED-4307-4C49-B1BF-337B7467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60AD3-9F69-4461-9070-31C6D194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3CD2B-A1AB-42AA-84EA-1DCA3B69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259D-31FE-4C0C-A6E3-8FE732AD036D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000" y="1828440"/>
            <a:ext cx="800244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reocupa de la capacidad que tiene el Activo Circulante para hacer frente al Pasivo Circulant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los casos que el Activo circulante supera al Pasivo Circulante, nos permite mayor endeudamiento o garantiza pérdida de valor del activ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Una primera idea de buena Gestión Financie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planteo financiero correcto de la empresa supone atender al Pasivo Circulante con la transformación corriente del Activo Circulante, y atender a los créditos de Largo Plazo con beneficios no distribuidos, o bien con fondos procedentes de Depreciación, en el caso que el crédito esté financiando reposiciones de Activo Fijo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=Capital de Tra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finición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quella porción del Activo Circulante financiada por Capitales Permanente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779480" indent="-338400">
              <a:spcBef>
                <a:spcPts val="624"/>
              </a:spcBef>
              <a:buClr>
                <a:srgbClr val="cc0000"/>
              </a:buClr>
              <a:buSzPct val="60000"/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ó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menos Pasivo Circulante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244560" y="554832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10160" y="3435480"/>
            <a:ext cx="2847960" cy="283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019920" y="343548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578480" y="4495680"/>
            <a:ext cx="1434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6026040" y="472428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6026040" y="556272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753080" y="3567240"/>
            <a:ext cx="1011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4697640" y="47862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6201000" y="3643200"/>
            <a:ext cx="1162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pi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320520" y="471024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14"/>
          <p:cNvSpPr/>
          <p:nvPr/>
        </p:nvSpPr>
        <p:spPr>
          <a:xfrm flipH="1">
            <a:off x="3346560" y="4495680"/>
            <a:ext cx="123192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Line 15"/>
          <p:cNvSpPr/>
          <p:nvPr/>
        </p:nvSpPr>
        <p:spPr>
          <a:xfrm flipH="1">
            <a:off x="3346200" y="5562720"/>
            <a:ext cx="267948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359160" y="4502160"/>
            <a:ext cx="216000" cy="1054080"/>
          </a:xfrm>
          <a:prstGeom prst="rect">
            <a:avLst/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1676160" y="4405320"/>
            <a:ext cx="1219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iob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85075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7480" indent="-2674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l Activo Circulante cubre el Pasivo Circulante y deja todavía un fondo que no es exigible al corto plaz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stoy financiando una parte del Activo Circulante con Exigible de Largo Plazo o con Capital Propio. Lo anterior es razonable en la medida que los pasivos circulantes cíclicos no financian aumentos transitorios de Activo Circulante (puntas, pedidos extras, etc.), y el uso de recursos expresos es peligros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89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 algn="just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l iniciar una actividad comercial y/o industrial no basta con plantear las necesidades de capitales propios o permanentes en función solamente del Activo Fijo necesario, sino también del Fondo de Maniobra que se origine después de utilizar la financiación espontánea ó cíclic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12720" y="2500200"/>
            <a:ext cx="7691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Una segunda idea de buena Gestión Financiera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560" y="1371240"/>
            <a:ext cx="84358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44000" indent="-316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gunas ideas sobre el Fondo de Maniob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positivo, no quiere decir que la empresa tenga Solvencia de Puntualidad, ya que su rotación de circulante puede ser muy lenta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negativo no quiere decir que la empresa sea Insolvente, pero pondría un poco nervioso a los acreedore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Fondo de Maniobra por sí sólo no dice nada, hay que relativizarlo en función de otra información, como el tamaño de la empresa, importancia de su Activo y de su Pasivo Circulante, naturaleza de la actividad empresarial, etc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05840" y="2881440"/>
            <a:ext cx="4383720" cy="2801880"/>
            <a:chOff x="105840" y="2881440"/>
            <a:chExt cx="4383720" cy="2801880"/>
          </a:xfrm>
        </p:grpSpPr>
        <p:sp>
          <p:nvSpPr>
            <p:cNvPr id="132" name="Rectangle 5"/>
            <p:cNvSpPr/>
            <p:nvPr/>
          </p:nvSpPr>
          <p:spPr>
            <a:xfrm>
              <a:off x="157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 flipH="1">
              <a:off x="1162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189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443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 flipH="1">
              <a:off x="3448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2475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696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1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2982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2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189000" y="451800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1179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189000" y="528012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2475000" y="51274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3465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>
              <a:off x="2475000" y="5356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19"/>
            <p:cNvSpPr/>
            <p:nvPr/>
          </p:nvSpPr>
          <p:spPr>
            <a:xfrm>
              <a:off x="401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20"/>
            <p:cNvSpPr/>
            <p:nvPr/>
          </p:nvSpPr>
          <p:spPr>
            <a:xfrm>
              <a:off x="2687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21"/>
            <p:cNvSpPr/>
            <p:nvPr/>
          </p:nvSpPr>
          <p:spPr>
            <a:xfrm>
              <a:off x="374580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22"/>
            <p:cNvSpPr/>
            <p:nvPr/>
          </p:nvSpPr>
          <p:spPr>
            <a:xfrm>
              <a:off x="138384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23"/>
            <p:cNvSpPr/>
            <p:nvPr/>
          </p:nvSpPr>
          <p:spPr>
            <a:xfrm>
              <a:off x="1383840" y="486252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24"/>
            <p:cNvSpPr/>
            <p:nvPr/>
          </p:nvSpPr>
          <p:spPr>
            <a:xfrm>
              <a:off x="3669840" y="478620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25"/>
            <p:cNvSpPr/>
            <p:nvPr/>
          </p:nvSpPr>
          <p:spPr>
            <a:xfrm>
              <a:off x="175320" y="416880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2537640" y="447372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27"/>
            <p:cNvSpPr/>
            <p:nvPr/>
          </p:nvSpPr>
          <p:spPr>
            <a:xfrm>
              <a:off x="121320" y="475632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28"/>
            <p:cNvSpPr/>
            <p:nvPr/>
          </p:nvSpPr>
          <p:spPr>
            <a:xfrm>
              <a:off x="2407320" y="506088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29"/>
            <p:cNvSpPr/>
            <p:nvPr/>
          </p:nvSpPr>
          <p:spPr>
            <a:xfrm>
              <a:off x="105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30"/>
            <p:cNvSpPr/>
            <p:nvPr/>
          </p:nvSpPr>
          <p:spPr>
            <a:xfrm>
              <a:off x="2391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58" name="Rectangle 31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32"/>
          <p:cNvSpPr/>
          <p:nvPr/>
        </p:nvSpPr>
        <p:spPr>
          <a:xfrm>
            <a:off x="4938840" y="3186000"/>
            <a:ext cx="382536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hay que ver la calidad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os client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Hay que ver que hay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stocks ( productos de moda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soletos, si son liquidables,etc.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57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5"/>
          <p:cNvSpPr/>
          <p:nvPr/>
        </p:nvSpPr>
        <p:spPr>
          <a:xfrm flipH="1">
            <a:off x="1162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189000" y="39085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443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 flipH="1">
            <a:off x="3448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475000" y="48229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96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1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982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2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1179360" y="41371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465360" y="50515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401400" y="341460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687400" y="356724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374580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138384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1383840" y="486252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3745800" y="501480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4907160" y="3186000"/>
            <a:ext cx="37810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A.F.&lt; A.C. y C.P.&lt; 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A.F.&gt; A.C. y C.P.&gt; P.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n general, uno se siente má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ómodo con un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ás grande, por su mayor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ndencia a la liquidez es de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ejo más  flexibl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313200" y="47862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2599200" y="50148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emplo : Un gran Supermercad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61960" y="3046320"/>
            <a:ext cx="2562120" cy="25513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Line 5"/>
          <p:cNvSpPr/>
          <p:nvPr/>
        </p:nvSpPr>
        <p:spPr>
          <a:xfrm flipH="1">
            <a:off x="1822320" y="3046320"/>
            <a:ext cx="14400" cy="2586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66560" y="4943520"/>
            <a:ext cx="14943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601560" y="4960800"/>
            <a:ext cx="1222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612720" y="3697200"/>
            <a:ext cx="113976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715760" y="3159000"/>
            <a:ext cx="16012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1836720" y="3983040"/>
            <a:ext cx="1311120" cy="1713960"/>
            <a:chOff x="1836720" y="3983040"/>
            <a:chExt cx="1311120" cy="1713960"/>
          </a:xfrm>
        </p:grpSpPr>
        <p:sp>
          <p:nvSpPr>
            <p:cNvPr id="191" name="Rectangle 11"/>
            <p:cNvSpPr/>
            <p:nvPr/>
          </p:nvSpPr>
          <p:spPr>
            <a:xfrm>
              <a:off x="1889640" y="494352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C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1836720" y="400068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836720" y="475452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1889640" y="398304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L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95" name="Rectangle 15"/>
          <p:cNvSpPr/>
          <p:nvPr/>
        </p:nvSpPr>
        <p:spPr>
          <a:xfrm>
            <a:off x="3546360" y="2881440"/>
            <a:ext cx="49881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ucho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Clientes son pocos, porque paga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l conta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Stocks son bajos porque l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veedores surten rápi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exigible a C/P es relativamente grande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que el supermercado tiene pode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ociador, los plazos de pago son largos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2737080" y="5929200"/>
            <a:ext cx="382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 DE MANIOBRA 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5460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Análisis de Circulante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 (Repas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zón Circulante “ ó  “ Ratio de Solvenci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2901960" y="3306600"/>
            <a:ext cx="4254480" cy="1130040"/>
            <a:chOff x="2901960" y="3306600"/>
            <a:chExt cx="4254480" cy="1130040"/>
          </a:xfrm>
        </p:grpSpPr>
        <p:grpSp>
          <p:nvGrpSpPr>
            <p:cNvPr id="200" name="Group 5"/>
            <p:cNvGrpSpPr/>
            <p:nvPr/>
          </p:nvGrpSpPr>
          <p:grpSpPr>
            <a:xfrm>
              <a:off x="4502160" y="3362040"/>
              <a:ext cx="2197080" cy="820440"/>
              <a:chOff x="4502160" y="3362040"/>
              <a:chExt cx="2197080" cy="820440"/>
            </a:xfrm>
          </p:grpSpPr>
          <p:sp>
            <p:nvSpPr>
              <p:cNvPr id="201" name="Rectangle 6"/>
              <p:cNvSpPr/>
              <p:nvPr/>
            </p:nvSpPr>
            <p:spPr>
              <a:xfrm>
                <a:off x="4570200" y="3362040"/>
                <a:ext cx="1984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Act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2" name="Line 7"/>
              <p:cNvSpPr/>
              <p:nvPr/>
            </p:nvSpPr>
            <p:spPr>
              <a:xfrm>
                <a:off x="4502160" y="375732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3" name="Rectangle 8"/>
              <p:cNvSpPr/>
              <p:nvPr/>
            </p:nvSpPr>
            <p:spPr>
              <a:xfrm>
                <a:off x="4551120" y="381924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04" name="Rectangle 9"/>
            <p:cNvSpPr/>
            <p:nvPr/>
          </p:nvSpPr>
          <p:spPr>
            <a:xfrm>
              <a:off x="3352680" y="3590640"/>
              <a:ext cx="760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S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901960" y="330660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607320" y="4481640"/>
            <a:ext cx="7932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empre hay que observar el contenido del Activo y Pasivo Circul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.= 1, desde el punto de vista del acreedor a C/P es preocup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 = 1, desde el punto de vista de la empresa, si tuviesen que paga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da la deuda de C/P, se quedan sin poder seguir operan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uego : R.S. = 1 justillo, R.S. mayor que uno implica FM 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Tesorería “ ó  “ Prueba Acid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615240" y="4481640"/>
            <a:ext cx="79311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ide la capacidad de la empresa de hacer frente a su Pas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n las partidas más líquidas del Activo Circulant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la empresa está en una excelente posición de tesorería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desde el punto de vista del acreedor, hay cierta seguridad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go de su deuda. (Si la cartera de clientes es relativamente sana)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844560" y="3206880"/>
            <a:ext cx="7531200" cy="1130040"/>
            <a:chOff x="844560" y="3206880"/>
            <a:chExt cx="7531200" cy="1130040"/>
          </a:xfrm>
        </p:grpSpPr>
        <p:sp>
          <p:nvSpPr>
            <p:cNvPr id="211" name="Rectangle 6"/>
            <p:cNvSpPr/>
            <p:nvPr/>
          </p:nvSpPr>
          <p:spPr>
            <a:xfrm>
              <a:off x="2225520" y="3262320"/>
              <a:ext cx="2863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1987560" y="3733920"/>
              <a:ext cx="34164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1067400" y="3490920"/>
              <a:ext cx="762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T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844560" y="3206880"/>
              <a:ext cx="753120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5406120" y="34909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6022800" y="3262320"/>
              <a:ext cx="2129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 + Efect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6075360" y="379584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5873760" y="3733920"/>
              <a:ext cx="2425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 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Liquidez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2901960" y="3206880"/>
            <a:ext cx="4254480" cy="1130040"/>
            <a:chOff x="2901960" y="3206880"/>
            <a:chExt cx="4254480" cy="1130040"/>
          </a:xfrm>
        </p:grpSpPr>
        <p:grpSp>
          <p:nvGrpSpPr>
            <p:cNvPr id="223" name="Group 5"/>
            <p:cNvGrpSpPr/>
            <p:nvPr/>
          </p:nvGrpSpPr>
          <p:grpSpPr>
            <a:xfrm>
              <a:off x="4502160" y="3262320"/>
              <a:ext cx="2197080" cy="820440"/>
              <a:chOff x="4502160" y="3262320"/>
              <a:chExt cx="2197080" cy="820440"/>
            </a:xfrm>
          </p:grpSpPr>
          <p:sp>
            <p:nvSpPr>
              <p:cNvPr id="224" name="Rectangle 6"/>
              <p:cNvSpPr/>
              <p:nvPr/>
            </p:nvSpPr>
            <p:spPr>
              <a:xfrm>
                <a:off x="4733280" y="3262320"/>
                <a:ext cx="1655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Caja y Bancos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5" name="Line 7"/>
              <p:cNvSpPr/>
              <p:nvPr/>
            </p:nvSpPr>
            <p:spPr>
              <a:xfrm>
                <a:off x="4502160" y="365760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6" name="Rectangle 8"/>
              <p:cNvSpPr/>
              <p:nvPr/>
            </p:nvSpPr>
            <p:spPr>
              <a:xfrm>
                <a:off x="4551120" y="371952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27" name="Rectangle 9"/>
            <p:cNvSpPr/>
            <p:nvPr/>
          </p:nvSpPr>
          <p:spPr>
            <a:xfrm>
              <a:off x="3356640" y="3490920"/>
              <a:ext cx="75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L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2901960" y="320688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9" name="Rectangle 11"/>
          <p:cNvSpPr/>
          <p:nvPr/>
        </p:nvSpPr>
        <p:spPr>
          <a:xfrm>
            <a:off x="495720" y="4481640"/>
            <a:ext cx="82173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e debe usar el saldo medio mantenido durante el añ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¿ Los saldos medios son función del Pasivo Exigible a C/P 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saldo medio a mantener es una norma de seguridad, que debería est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función de la posibilidad de estancamiento de la co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 a Disponible.(Retraso de clientes, recesión de ventas, etc.)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de Solvencia Corriente (derivaciones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2368440" y="3262320"/>
            <a:ext cx="2197080" cy="820440"/>
            <a:chOff x="2368440" y="3262320"/>
            <a:chExt cx="2197080" cy="820440"/>
          </a:xfrm>
        </p:grpSpPr>
        <p:sp>
          <p:nvSpPr>
            <p:cNvPr id="233" name="Rectangle 5"/>
            <p:cNvSpPr/>
            <p:nvPr/>
          </p:nvSpPr>
          <p:spPr>
            <a:xfrm>
              <a:off x="2436840" y="3262320"/>
              <a:ext cx="198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Line 6"/>
            <p:cNvSpPr/>
            <p:nvPr/>
          </p:nvSpPr>
          <p:spPr>
            <a:xfrm>
              <a:off x="23684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36" name="Rectangle 8"/>
          <p:cNvSpPr/>
          <p:nvPr/>
        </p:nvSpPr>
        <p:spPr>
          <a:xfrm>
            <a:off x="2468160" y="2728800"/>
            <a:ext cx="192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Solvenci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5424480" y="2728800"/>
            <a:ext cx="225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90880" y="3338640"/>
            <a:ext cx="13564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Gener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Funcional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Libr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9" name="Group 11"/>
          <p:cNvGrpSpPr/>
          <p:nvPr/>
        </p:nvGrpSpPr>
        <p:grpSpPr>
          <a:xfrm>
            <a:off x="1987560" y="4329000"/>
            <a:ext cx="2882880" cy="820440"/>
            <a:chOff x="1987560" y="4329000"/>
            <a:chExt cx="2882880" cy="820440"/>
          </a:xfrm>
        </p:grpSpPr>
        <p:sp>
          <p:nvSpPr>
            <p:cNvPr id="240" name="Rectangle 12"/>
            <p:cNvSpPr/>
            <p:nvPr/>
          </p:nvSpPr>
          <p:spPr>
            <a:xfrm>
              <a:off x="2138760" y="4329000"/>
              <a:ext cx="25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uncional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>
              <a:off x="1987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417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1835280" y="5396040"/>
            <a:ext cx="3187440" cy="820440"/>
            <a:chOff x="1835280" y="5396040"/>
            <a:chExt cx="3187440" cy="820440"/>
          </a:xfrm>
        </p:grpSpPr>
        <p:sp>
          <p:nvSpPr>
            <p:cNvPr id="244" name="Rectangle 16"/>
            <p:cNvSpPr/>
            <p:nvPr/>
          </p:nvSpPr>
          <p:spPr>
            <a:xfrm>
              <a:off x="2009880" y="5396040"/>
              <a:ext cx="2988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Documentos Descts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Line 17"/>
            <p:cNvSpPr/>
            <p:nvPr/>
          </p:nvSpPr>
          <p:spPr>
            <a:xfrm>
              <a:off x="1835280" y="5791320"/>
              <a:ext cx="31874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8"/>
            <p:cNvSpPr/>
            <p:nvPr/>
          </p:nvSpPr>
          <p:spPr>
            <a:xfrm>
              <a:off x="2291400" y="5853240"/>
              <a:ext cx="2430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-DD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7" name="Group 19"/>
          <p:cNvGrpSpPr/>
          <p:nvPr/>
        </p:nvGrpSpPr>
        <p:grpSpPr>
          <a:xfrm>
            <a:off x="5568840" y="3262320"/>
            <a:ext cx="2197080" cy="820440"/>
            <a:chOff x="5568840" y="3262320"/>
            <a:chExt cx="2197080" cy="820440"/>
          </a:xfrm>
        </p:grpSpPr>
        <p:sp>
          <p:nvSpPr>
            <p:cNvPr id="248" name="Rectangle 20"/>
            <p:cNvSpPr/>
            <p:nvPr/>
          </p:nvSpPr>
          <p:spPr>
            <a:xfrm>
              <a:off x="5891400" y="3262320"/>
              <a:ext cx="1473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Line 21"/>
            <p:cNvSpPr/>
            <p:nvPr/>
          </p:nvSpPr>
          <p:spPr>
            <a:xfrm>
              <a:off x="55688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22"/>
            <p:cNvSpPr/>
            <p:nvPr/>
          </p:nvSpPr>
          <p:spPr>
            <a:xfrm>
              <a:off x="56181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51" name="Group 23"/>
          <p:cNvGrpSpPr/>
          <p:nvPr/>
        </p:nvGrpSpPr>
        <p:grpSpPr>
          <a:xfrm>
            <a:off x="5416560" y="4329000"/>
            <a:ext cx="2882880" cy="820440"/>
            <a:chOff x="5416560" y="4329000"/>
            <a:chExt cx="2882880" cy="820440"/>
          </a:xfrm>
        </p:grpSpPr>
        <p:sp>
          <p:nvSpPr>
            <p:cNvPr id="252" name="Rectangle 24"/>
            <p:cNvSpPr/>
            <p:nvPr/>
          </p:nvSpPr>
          <p:spPr>
            <a:xfrm>
              <a:off x="5707080" y="4329000"/>
              <a:ext cx="2298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.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5416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26"/>
            <p:cNvSpPr/>
            <p:nvPr/>
          </p:nvSpPr>
          <p:spPr>
            <a:xfrm>
              <a:off x="5846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55" name="Rectangle 27"/>
          <p:cNvSpPr/>
          <p:nvPr/>
        </p:nvSpPr>
        <p:spPr>
          <a:xfrm>
            <a:off x="6100560" y="5472000"/>
            <a:ext cx="21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 - D.D. - Stock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6" name="Line 28"/>
          <p:cNvSpPr/>
          <p:nvPr/>
        </p:nvSpPr>
        <p:spPr>
          <a:xfrm>
            <a:off x="5873760" y="5867280"/>
            <a:ext cx="2577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5934240" y="5929200"/>
            <a:ext cx="245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 Circulante_D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ases (Solvencia Final,Solvencia Funcional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(Fondo de maniobra o Capital de Trabajo, Ratios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fundización del Análisis Patrimonial Gener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noce también como análisis de Solvencia o Financie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udiaremos la “Solvencia” de la empresa, es decir su capacidad de cumplir con sus obligacion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trata de estudiar las masas patrimoniales que se mueven (circulan) con mayor rapidez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=&gt; Partidas más líquidas del activo (menos consolidad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ivo Circulante =&gt; Exigible de corto plazo (lo que se hace exigible en un  ciclo de maduración o en el “Corto Plazo”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ara finalmente determinar si la empresa puede mantenerse o desarrollarse manejando su estructura actual de Activo / Pasivo Circulante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bienes suficientes en su Activo para responder a su Pasivo Exigibl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 algn="just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la capacidad de atender a sus compromisos de pago en la fecha previst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61440" indent="-3614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98760" indent="-3358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ejemplo : Una empresa productora de muebles de madera desarmables que inicia sus actividades, compra su materia prima con un crédito de sus proveedores a 90 días. El plazo de fabricación de los muebles es de 92 días, y el margen que reportan la venta de los muebles permite pagar con creces las materias primas y otros gastos. La empresa e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Solvente de Capac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Insolvente de Puntua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66120" indent="-3661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08120" indent="-3402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Final o de Garant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definir como el Total del Activo menos el Pasivo Exigible, es decir el activo que sobra si cancelo todo mis obligacion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s permite mayor endeud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ponder, en caso de pérdida de valor del activo, cubriendo la deud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túa a la empresa en una perspectiva de liquida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000" y="2209680"/>
            <a:ext cx="800244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templa a la empresa Viva, en funcion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a garantía ofrecida por el Activo Fij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os vencimientos de Largo Plaz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8-19T17:59:30Z</dcterms:modified>
  <cp:revision>367</cp:revision>
  <dc:subject/>
  <dc:title>Análisis Financiero</dc:title>
</cp:coreProperties>
</file>