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68955-81E8-4705-B160-E967B14D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669E4-5674-4A71-BEFA-B2C4A765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B78ED-D8F1-432F-B2AF-58F229E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64E05-7099-4E51-92D8-E96CB2E9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7AE4D-3889-412F-8D3E-8A13533E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EB288-33AA-4E7B-9352-329ECE1C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4F844-4199-4B88-AD2E-5967FBD2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23486-A933-4FEE-ADFF-3DDABC8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72604-4A55-4796-8486-74DA61EE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6F3B0-60A3-452D-A8CC-9AC18D4E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59422-8074-4913-886A-B4237670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952D1-94A3-49DB-AEDF-9F185F84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8C64-C0B9-4C11-9905-AB9EB6918C1E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6022800" y="3262320"/>
              <a:ext cx="212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Efe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934240" y="5929200"/>
            <a:ext cx="245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_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66120" indent="-3661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08120" indent="-3402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ponder, en caso de pérdida de valor del activo, cubriendo la deud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8-19T17:59:30Z</dcterms:modified>
  <cp:revision>367</cp:revision>
  <dc:subject/>
  <dc:title>Análisis Financiero</dc:title>
</cp:coreProperties>
</file>