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FFD26-0641-4732-984A-13309F32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1FD91-5F25-442E-AF4D-48561415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D8BDE-4DD1-495A-AD4B-042B2B05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CCF4E-A732-46F0-8303-4593181C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8CDA5-7B1C-4541-B8BE-CA9330D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214C6-A4D1-46A9-95C5-5057F7CE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5684A-AB22-4BED-9A84-E6386644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E0FAB-4965-4548-9744-0794FDBF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91B7B-19F3-48FE-9818-C26828E5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1A66D-1902-47E2-BC03-8400854C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2AF6D-E54E-41D4-939B-5BE67E8E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49FC-1D6A-48AC-AEEF-EA724895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A7E0-65E5-49C4-BB88-747D152D60B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-248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cuentas de contrapartida son en este caso depreciación acumulad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idado, ya que si trabajamos con valores netos perdemos información: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941840" y="4176720"/>
            <a:ext cx="45889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                                    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n               n+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Bruto       100             1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1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Neto          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101720" y="4786200"/>
            <a:ext cx="164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Hay esfuerz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208280" y="5853240"/>
            <a:ext cx="128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vendió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7848720" y="5492880"/>
            <a:ext cx="0" cy="52056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6559560" y="51879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6559560" y="61023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7778880" y="5715000"/>
            <a:ext cx="1396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484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454040" y="2424240"/>
            <a:ext cx="5931000" cy="3436920"/>
            <a:chOff x="1454040" y="2424240"/>
            <a:chExt cx="5931000" cy="3436920"/>
          </a:xfrm>
        </p:grpSpPr>
        <p:sp>
          <p:nvSpPr>
            <p:cNvPr id="145" name="Rectangle 5"/>
            <p:cNvSpPr/>
            <p:nvPr/>
          </p:nvSpPr>
          <p:spPr>
            <a:xfrm>
              <a:off x="1454040" y="2978280"/>
              <a:ext cx="593100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419720" y="297828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3380760" y="2424240"/>
              <a:ext cx="207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Balance año n + 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454040" y="3581280"/>
              <a:ext cx="593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399400" y="3110040"/>
              <a:ext cx="99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5223240" y="3110040"/>
              <a:ext cx="98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1879560" y="3643200"/>
              <a:ext cx="20649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Disponible       1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     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              4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Fijo      4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15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758120" y="3643200"/>
              <a:ext cx="236088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tas. Contrapar.  3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C/P       3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L/P       3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pital Propio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15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45404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158280" y="2500200"/>
            <a:ext cx="25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ferencias Contab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45404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399400" y="318600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223240" y="318600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633680" y="3719520"/>
            <a:ext cx="2292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1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550400" y="3719520"/>
            <a:ext cx="2546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3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3036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449568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97120" y="2500200"/>
            <a:ext cx="1796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 y 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53036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583000" y="31860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18920" y="318600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747080" y="3719520"/>
            <a:ext cx="2177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5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654800" y="3643200"/>
            <a:ext cx="246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5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892600" y="2500200"/>
            <a:ext cx="306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¿ Cómo ordenar el cuadro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2444760" y="3054240"/>
            <a:ext cx="4178160" cy="2882880"/>
            <a:chOff x="2444760" y="3054240"/>
            <a:chExt cx="4178160" cy="2882880"/>
          </a:xfrm>
        </p:grpSpPr>
        <p:sp>
          <p:nvSpPr>
            <p:cNvPr id="179" name="Rectangle 6"/>
            <p:cNvSpPr/>
            <p:nvPr/>
          </p:nvSpPr>
          <p:spPr>
            <a:xfrm>
              <a:off x="2444760" y="3054240"/>
              <a:ext cx="417816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4618080" y="305424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2444760" y="3657600"/>
              <a:ext cx="4178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2887920" y="318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SO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5218920" y="318600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U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1"/>
          <p:cNvSpPr/>
          <p:nvPr/>
        </p:nvSpPr>
        <p:spPr>
          <a:xfrm>
            <a:off x="2436840" y="3659040"/>
            <a:ext cx="2057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ren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i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87840" y="3659040"/>
            <a:ext cx="21160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. Depreci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83480" y="5721480"/>
            <a:ext cx="1900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3644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1960" y="4405320"/>
            <a:ext cx="10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iquidez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837480" y="448164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il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1243440" y="379584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73864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7263360" y="387180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12142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En que se ha invertid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rino o Activo Fi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pansión, Nuevos  merc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mple renovación de activo funcion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material, cuidado que aumenta 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minución de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aneamien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o de stock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eficienci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roblemas con proveedor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participación de mercad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se ha financiado la invers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to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uentes no exigibles ( Reservas, Previsiones 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dicción Ampliación Capital v/s Autofinanci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dependencia financiera, menos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cae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lítica de Endeudamiento L.P. v/s C.P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acidad de endeud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d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aumenta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¿Ha sido armónica la evolución patrimonial?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nálisis debe determinar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Hay correspondencia entre las inversiones efectuadas y los recursos captados ?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sos más consolidados  piden recursos poco exigib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juicio sobre la evolución debe ser relativa al análisis estático de comienzo del período de análisis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 La tendencia ha sido hacia el endeudamiento o hacia la independencia financiera 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iesgo en relación al momento del inicio del análisi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sibilidad de continuar con la política diseñad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 IMPORTANT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cambios en la posición financier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milar al esquema de fuentes y empleos pero aplicado sólo a un ejercicio (entre el año “t” y el año “t-1”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gente en Chile desde 1979, fué reemplazado en EEUU por el Estado de Flujo de Efectivo en 1988 y en Chile en 1996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estado de flujo de efectivo recoge el concepto de cash flow, más relevante desde el punto de vista económic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308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no le resta utilidad al esquema de fuentes y empleos aplicado a periodos largos de tiemp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quema de Fuentes y empleos = Cuadro de origen y aplicación de fondos..... parecido (no igual) al Estado de Cambios en la posición financier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iferencias: además de la temporalidad, el Estado de Cambios se diferencia en que predefine las fuentes (Recursos Obtenidos) y los usos (Recursos Aplicados), restringiéndolos a los activos fijos y pasivos de largo plazo. Se determina por diferencia las variaciones en el capital de traba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528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. (Fuentes y Empleo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09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ueremos conocer la evolución del patrimonio de la empresa en el tiempo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 evolución de las principales masas patrimoni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terminar el esfuerzo inversor o desinverso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s fuentes de financiamiento del esfuerz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uzgar la evolución histórica de la empresa y así diseñar la estrategia para el futu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harem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mpararemos dos balances de distintos años de ejercicio de una empresa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cho cuidado con las fechas de cierre de los balances (Negocios cícl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emos que grandes masas patrimoniales crecieron y cuales disminuyero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ntaremos diagnosticar la evolución tempor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682640" y="37339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563840" y="30193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777680" y="41623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625040" y="53341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376440" y="3289320"/>
            <a:ext cx="505980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está financiado po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omponentes permanentes del Pasiv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r lo anterior, hay Solidez Patrimonial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Hay tendencia a la liquidez (AC &gt; AF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¿ Es alto el endeudamiento?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sabe que E &gt; 1, “al ojo” parece al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682640" y="457200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563840" y="34765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777680" y="46195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598040" y="53053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359880" y="3289320"/>
            <a:ext cx="5564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sigue financiado por 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pitales perma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ituación Patrimonial menos sólid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que la anterio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Aumenta endeudamiento y en particula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s fuentes de corto plazo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dría pensarse que la tendencia a l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iquidez es menor que la tendencia 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xigibilidad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3360" indent="-333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44400" indent="-3096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54040" y="357336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419720" y="3570120"/>
            <a:ext cx="0" cy="2883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44440" y="3178080"/>
            <a:ext cx="169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454040" y="403848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399400" y="35607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223600" y="35607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902960" y="4094280"/>
            <a:ext cx="2005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1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752000" y="4094280"/>
            <a:ext cx="2360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Contrapar.  2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6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1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27920" y="3581280"/>
            <a:ext cx="5256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mpresa con equilibrio Financiero, muy sól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deudamiento de buena calidad  LP v/s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Que son las cuentas de contrapartida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8-19T17:56:17Z</dcterms:modified>
  <cp:revision>365</cp:revision>
  <dc:subject/>
  <dc:title>Análisis Financiero</dc:title>
</cp:coreProperties>
</file>