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CE1F3-82F4-43C2-BBEF-56B17FFE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A3C37-487D-44D9-9444-7DF9659B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80B6E-56E3-4820-83E2-1E80955C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70D7-D08C-4C7B-ACDD-75B1F96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7ED06-7A6B-4392-AA65-87E3F90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C4F5-6784-460F-AB7F-60108CAE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28AA4-D0E5-4ECF-9DC0-A0DCF04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6A336-4A61-4591-BC58-5916FDF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2FFB8-39BB-46D9-931B-A292D63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30DCF-92FF-4667-A160-888C6F3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61112-AA30-4862-B7DC-2034A3A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D10C-5A50-4428-AE5C-B7B55DB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1B53-1C0E-4AEF-9BDB-CB7FD8B6B83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941840" y="4176720"/>
            <a:ext cx="4588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78620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85324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559560" y="51879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559560" y="6102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79560" y="3643200"/>
              <a:ext cx="2064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5812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33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504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97120" y="2500200"/>
            <a:ext cx="179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47080" y="3719520"/>
            <a:ext cx="2177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654800" y="3643200"/>
            <a:ext cx="246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3864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76440" y="3289320"/>
            <a:ext cx="50598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Solidez Patrimonial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9880" y="3289320"/>
            <a:ext cx="5564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y en particula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s fuentes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la tendencia a l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iquidez es menor que la tendencia 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xigibilidad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902960" y="4094280"/>
            <a:ext cx="2005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5200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6:17Z</dcterms:modified>
  <cp:revision>365</cp:revision>
  <dc:subject/>
  <dc:title>Análisis Financiero</dc:title>
</cp:coreProperties>
</file>