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ECBF0-EFAB-4169-B4A7-B43A4958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CBE2F-CD8A-490C-BFC2-E564BD3E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EF23B-0416-4D90-B5A6-14B6CB33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96E27-5228-40E9-B6E5-B3D3A83D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A0428-DE95-4E6C-B342-C5C56F1C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EBBA9-6D7B-49A4-AC11-25A2E3D0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B6C4C-43B9-4DDB-BAEA-9296F4D1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ECFEA-68EE-4D75-97D1-6CCF0D34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9DB72-8E86-4181-B86B-2C24A6C2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E5B84-3D1D-4920-85F8-5263C81D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8F2DF-7459-403E-BE5A-C51C4328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4DBF2-44E0-413A-B7B7-32B189C6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9040-84F6-415C-84CA-B6BA0F9034BB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-248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cuentas de contrapartida son en este caso depreciación acumulad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idado, ya que si trabajamos con valores netos perdemos información: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941840" y="4176720"/>
            <a:ext cx="45889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                                    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n               n+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Bruto       100             1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  1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Neto          8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   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101720" y="4786200"/>
            <a:ext cx="1645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Hay esfuerz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7208280" y="5853240"/>
            <a:ext cx="1280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vendió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7848720" y="5492880"/>
            <a:ext cx="0" cy="52056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6559560" y="5187960"/>
            <a:ext cx="368280" cy="216000"/>
          </a:xfrm>
          <a:prstGeom prst="rightArrow">
            <a:avLst>
              <a:gd name="adj1" fmla="val 75000"/>
              <a:gd name="adj2" fmla="val 85258"/>
            </a:avLst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6559560" y="6102360"/>
            <a:ext cx="368280" cy="216000"/>
          </a:xfrm>
          <a:prstGeom prst="rightArrow">
            <a:avLst>
              <a:gd name="adj1" fmla="val 75000"/>
              <a:gd name="adj2" fmla="val 85258"/>
            </a:avLst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7778880" y="5715000"/>
            <a:ext cx="1396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484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1454040" y="2424240"/>
            <a:ext cx="5931000" cy="3436920"/>
            <a:chOff x="1454040" y="2424240"/>
            <a:chExt cx="5931000" cy="3436920"/>
          </a:xfrm>
        </p:grpSpPr>
        <p:sp>
          <p:nvSpPr>
            <p:cNvPr id="145" name="Rectangle 5"/>
            <p:cNvSpPr/>
            <p:nvPr/>
          </p:nvSpPr>
          <p:spPr>
            <a:xfrm>
              <a:off x="1454040" y="2978280"/>
              <a:ext cx="5931000" cy="28828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419720" y="2978280"/>
              <a:ext cx="0" cy="28828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3380760" y="2424240"/>
              <a:ext cx="2077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Balance año n + 5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454040" y="3581280"/>
              <a:ext cx="5931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2399400" y="3110040"/>
              <a:ext cx="99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5223240" y="3110040"/>
              <a:ext cx="984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1879560" y="3643200"/>
              <a:ext cx="206496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Disponible       10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           6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              4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Fijo      4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TOTAL          15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4758120" y="3643200"/>
              <a:ext cx="236088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tas. Contrapar.  3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Exigible C/P       3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Exigible L/P       30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pital Propio    6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TOTAL             155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454040" y="305424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419720" y="305424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158280" y="2500200"/>
            <a:ext cx="252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ferencias Contab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1454040" y="365760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399400" y="318600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223240" y="318600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633680" y="3719520"/>
            <a:ext cx="2292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1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  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1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4550400" y="3719520"/>
            <a:ext cx="2546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    15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1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3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1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6779880" y="5929200"/>
            <a:ext cx="2046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530360" y="305424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4495680" y="305424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97120" y="2500200"/>
            <a:ext cx="1796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uentes y U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1530360" y="365760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583000" y="3186000"/>
            <a:ext cx="77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5218920" y="3186000"/>
            <a:ext cx="114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UENT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1747080" y="3719520"/>
            <a:ext cx="2177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  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3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5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654800" y="3643200"/>
            <a:ext cx="246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   10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    1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5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779880" y="5929200"/>
            <a:ext cx="2046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Ordenamiento del Esquema F y U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892600" y="2500200"/>
            <a:ext cx="306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¿ Cómo ordenar el cuadro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2444760" y="3054240"/>
            <a:ext cx="4178160" cy="2882880"/>
            <a:chOff x="2444760" y="3054240"/>
            <a:chExt cx="4178160" cy="2882880"/>
          </a:xfrm>
        </p:grpSpPr>
        <p:sp>
          <p:nvSpPr>
            <p:cNvPr id="179" name="Rectangle 6"/>
            <p:cNvSpPr/>
            <p:nvPr/>
          </p:nvSpPr>
          <p:spPr>
            <a:xfrm>
              <a:off x="2444760" y="3054240"/>
              <a:ext cx="4178160" cy="28828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4618080" y="3054240"/>
              <a:ext cx="0" cy="28828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2444760" y="3657600"/>
              <a:ext cx="4178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2887920" y="318600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SO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5218920" y="3186000"/>
              <a:ext cx="1146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U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84" name="Rectangle 11"/>
          <p:cNvSpPr/>
          <p:nvPr/>
        </p:nvSpPr>
        <p:spPr>
          <a:xfrm>
            <a:off x="2436840" y="3659040"/>
            <a:ext cx="20574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ren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i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87840" y="3659040"/>
            <a:ext cx="21160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. Depreci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83480" y="5721480"/>
            <a:ext cx="19004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36440" y="379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1960" y="4405320"/>
            <a:ext cx="108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iquidez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837480" y="4481640"/>
            <a:ext cx="141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il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1243440" y="379584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7386480" y="50148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7263360" y="387180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1214280" y="50148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En que se ha invertid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terino o Activo Fi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pansión, Nuevos  merca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mple renovación de activo funcion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material, cuidado que aumenta e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minución de 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aneamiento financier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mento de stock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eficienci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roblemas con proveedor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umento participación de mercad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se ha financiado la invers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to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uentes no exigibles ( Reservas, Previsiones 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dicción Ampliación Capital v/s Autofinancia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dependencia financiera, menos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uede caer la renta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lítica de Endeudamiento L.P. v/s C.P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acidad de endeuda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umento de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uede aumentar la renta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¿Ha sido armónica la evolución patrimonial?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nálisis debe determinar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Hay correspondencia entre las inversiones efectuadas y los recursos captados ?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sos más consolidados  piden recursos poco exigib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juicio sobre la evolución debe ser relativa al análisis estático de comienzo del período de análisis 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 La tendencia ha sido hacia el endeudamiento o hacia la independencia financiera 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iesgo en relación al momento del inicio del análisi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sibilidad de continuar con la política diseñad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 IMPORTANT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cambios en la posición financier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milar al esquema de fuentes y empleos pero aplicado sólo a un ejercicio (entre el año “t” y el año “t-1”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gente en Chile desde 1979, fué reemplazado en EEUU por el Estado de Flujo de Efectivo en 1988 y en Chile en 1996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estado de flujo de efectivo recoge el concepto de cash flow, más relevante desde el punto de vista económic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5308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 no le resta utilidad al esquema de fuentes y empleos aplicado a periodos largos de tiemp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quema de Fuentes y empleos = Cuadro de origen y aplicación de fondos..... parecido (no igual) al Estado de Cambios en la posición financier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iferencias: además de la temporalidad, el Estado de Cambios se diferencia en que predefine las fuentes (Recursos Obtenidos) y los usos (Recursos Aplicados), restringiéndolos a los activos fijos y pasivos de largo plazo. Se determina por diferencia las variaciones en el capital de traba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528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. (Fuentes y Empleos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Ordenamiento del Esquema F y U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09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90720" y="14839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Queremos conocer la evolución del patrimonio de la empresa en el tiempo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 la evolución de las principales masas patrimoni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terminar el esfuerzo inversor o desinversor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 las fuentes de financiamiento del esfuerz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uzgar la evolución histórica de la empresa y así diseñar la estrategia para el futu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haremo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mpararemos dos balances de distintos años de ejercicio de una empresa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ucho cuidado con las fechas de cierre de los balances (Negocios cícl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emos que grandes masas patrimoniales crecieron y cuales disminuyero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tentaremos diagnosticar la evolución tempor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63680" y="2901960"/>
            <a:ext cx="24256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5"/>
          <p:cNvSpPr/>
          <p:nvPr/>
        </p:nvSpPr>
        <p:spPr>
          <a:xfrm>
            <a:off x="1676520" y="2901960"/>
            <a:ext cx="0" cy="29592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833400" y="2494080"/>
            <a:ext cx="168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Line 7"/>
          <p:cNvSpPr/>
          <p:nvPr/>
        </p:nvSpPr>
        <p:spPr>
          <a:xfrm>
            <a:off x="463680" y="4952880"/>
            <a:ext cx="12063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Line 8"/>
          <p:cNvSpPr/>
          <p:nvPr/>
        </p:nvSpPr>
        <p:spPr>
          <a:xfrm>
            <a:off x="1682640" y="53341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682640" y="37339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48920" y="3606840"/>
            <a:ext cx="1393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614160" y="4978440"/>
            <a:ext cx="906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563840" y="301932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777680" y="4162320"/>
            <a:ext cx="1016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625040" y="533412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376440" y="3289320"/>
            <a:ext cx="505980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Activo Fijo está financiado por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omponentes permanentes del Pasiv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or lo anterior, hay Solidez Patrimonial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Hay tendencia a la liquidez (AC &gt; AF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- ¿ Es alto el endeudamiento?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sabe que E &gt; 1, “al ojo” parece al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3680" y="2901960"/>
            <a:ext cx="24256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1676520" y="2901960"/>
            <a:ext cx="0" cy="29592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833400" y="2494080"/>
            <a:ext cx="168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63680" y="4952880"/>
            <a:ext cx="12063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1682640" y="53341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1682640" y="457200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48920" y="3606840"/>
            <a:ext cx="1393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614160" y="4978440"/>
            <a:ext cx="906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563840" y="347652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1777680" y="4619520"/>
            <a:ext cx="1016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1598040" y="530532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3359880" y="3289320"/>
            <a:ext cx="55641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Activo Fijo sigue financiado por 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pitales perma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ituación Patrimonial menos sólida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que la anterior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- Aumenta endeudamiento y en particular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s fuentes de corto plazo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odría pensarse que la tendencia a l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iquidez es menor que la tendencia a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xigibilidad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333360" indent="-333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44400" indent="-3096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54040" y="357336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4419720" y="3570120"/>
            <a:ext cx="0" cy="2883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844440" y="3178080"/>
            <a:ext cx="1696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1454040" y="403848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2399400" y="35607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223600" y="35607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902960" y="4094280"/>
            <a:ext cx="2005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4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3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14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4752000" y="4094280"/>
            <a:ext cx="23608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Contrapar.  2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6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4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14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627920" y="3581280"/>
            <a:ext cx="5256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mpresa con equilibrio Financiero, muy sól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deudamiento de buena calidad  LP v/s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Que son las cuentas de contrapartida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8-19T17:56:17Z</dcterms:modified>
  <cp:revision>365</cp:revision>
  <dc:subject/>
  <dc:title>Análisis Financiero</dc:title>
</cp:coreProperties>
</file>