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0EBB17-6BC2-4DF9-BCF4-C6D3FED3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5E9E29-87C0-4666-B9AB-CE4B374D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EE347E-B69B-42E0-BA10-084925A66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F80C81-7A9C-406C-96F0-1ED9A812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0781C6-A23B-49E0-B4A7-14426D271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E1EF86-DF9A-4338-9811-B6E08FDA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357BD-B726-45CC-A454-84DB3522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47A0D-68F8-4094-B918-6AC7F602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5214CC-426C-44CC-A718-65B19B70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E424B6-2EE8-4CBB-B36A-1D9EDB07E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5D971-39F9-4955-8D06-1604B84C8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B3D793-EFAF-43F5-9EF4-5B1779F5D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BF9E-A8F7-4F46-84E8-8D71E4CD6A6E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0" y="990720"/>
            <a:ext cx="830592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0000"/>
          </a:bodyPr>
          <a:p>
            <a:pPr marL="234720" indent="-23472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4720" indent="-23472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quilibrio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quilibrio contable ACT=PAS (por defini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: Debe haber un equilibrio financiero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fuerza interna a la liquidez debe equilibrarse con la tendencia a la exigibilidad”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453960" indent="-2181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.: Maquina que vale 100, vida útil 5 años, financiada con crédito a 3 añ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ende a la liquidez a razón de 20/añ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652320" indent="-197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xigibilidad de 33,3/año más interes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846720" indent="-19368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HAY DESEQUILIBRIO PATRIMONIAL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ANALISIS PATRIMONIAL I (ESTATICO) 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JO TEST: 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La empresa es insolvente? Contestar SI o N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0663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9000"/>
          </a:bodyPr>
          <a:p>
            <a:pPr marL="276840" indent="-276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el ejemplo anterior, en ausencia de otros activos y pasivos;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olución: Pagar con utilidades del proyecto (cash flow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35320" indent="-257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 hay riesgo (Ej.: caída de vent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76840" indent="-276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NOTA: La existencia de equilibrio no implica eliminar el riesgo propio del proyecto, pero garantiza más solvencia, un adverso al riesgo preferirá el equilibri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221760" y="561816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5805360"/>
            <a:ext cx="829152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osible equilibrio para adversos al riesg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149480" y="1981080"/>
            <a:ext cx="6692760" cy="3873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Line 5"/>
          <p:cNvSpPr/>
          <p:nvPr/>
        </p:nvSpPr>
        <p:spPr>
          <a:xfrm>
            <a:off x="1149480" y="266688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Line 6"/>
          <p:cNvSpPr/>
          <p:nvPr/>
        </p:nvSpPr>
        <p:spPr>
          <a:xfrm>
            <a:off x="4495680" y="1987560"/>
            <a:ext cx="0" cy="38736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323080" y="2112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5756760" y="2112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1548720" y="3179880"/>
            <a:ext cx="22359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Activo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Activo Fijo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4860000" y="3255840"/>
            <a:ext cx="162756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1. 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2. 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3. 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Line 11"/>
          <p:cNvSpPr/>
          <p:nvPr/>
        </p:nvSpPr>
        <p:spPr>
          <a:xfrm>
            <a:off x="1149480" y="4114800"/>
            <a:ext cx="341604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502160" y="3657600"/>
            <a:ext cx="33400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4502160" y="4724280"/>
            <a:ext cx="34164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23000"/>
          </a:bodyPr>
          <a:p>
            <a:pPr marL="108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08000" indent="-108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tio E= Exigible (CP y LP)/ Capital Propi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’ = Activo Total/Capital Propio= E + 1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08800" indent="-100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angos (Chile)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lt;0,4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=0,4 Medio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0,4&lt;E&lt;1 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299880" indent="-90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&gt;1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Otros país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spañ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 Medio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4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U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1: Baj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2:Medio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: Extremadamente Alt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6840" y="1413000"/>
            <a:ext cx="8178840" cy="5256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Algunos ejemplos en Chile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          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99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200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SQM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28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5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DELNOR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1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4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0,69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El Tepual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69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1,16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	</a:t>
            </a:r>
            <a:r>
              <a:rPr b="0" lang="es-MX" sz="3000" spc="-1" strike="noStrike">
                <a:solidFill>
                  <a:srgbClr val="4d4d4d"/>
                </a:solidFill>
                <a:latin typeface="Verdana"/>
              </a:rPr>
              <a:t>-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2000"/>
          </a:bodyPr>
          <a:p>
            <a:pPr marL="1501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 mayores ratios de endeudamiento requiero activos con mayor tendencia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=&gt; Riesgo </a:t>
            </a:r>
            <a:r>
              <a:rPr b="0" lang="es-ES_tradnl" sz="2400" spc="-1" strike="noStrike" u="sng">
                <a:solidFill>
                  <a:srgbClr val="4d4d4d"/>
                </a:solidFill>
                <a:uFillTx/>
                <a:latin typeface="Verdana"/>
              </a:rPr>
              <a:t>potencial, 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ero la empresa podría responder si genera suficiente liquidez.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alto y baja liquidez =&gt; Falta de garantías creditici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Ratios bajos y baja liquidez=&gt; Mayores garantías para los acreedores, estos pueden cobrar (en caso de no pago de deuda) adueñándose del capital propio, cambiando deuda por acciones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150120" indent="-15012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“</a:t>
            </a: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” depende del sector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98900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structura General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mpresas deberían tender a diferenciarse según su actividad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ductoras (Minería, empresas de energía y de transportes, manufactureras, etc.):AF &gt;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mercializadoras (consultoras, tiendas de abarrotes, restaurantes, etc.):AC&gt;A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920" y="1142640"/>
            <a:ext cx="864216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8000"/>
          </a:bodyPr>
          <a:p>
            <a:pPr marL="842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84240" indent="-842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Funcionales vs extrafuncionales e interino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 normal: Todo funcion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extrafuncional es pequeño OK, si es mayor al 10% habría que investigar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-709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Si es con ánimo especulativo ¿Es voluntad de los accionistas?, ¿Dificulta nuestra posición frente a nuestros acreedore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163080" indent="-78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inos: Hasta un 5% no es preocupante, mas sí porque los interinos no rinden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23472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904760" y="-2289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 Análisis de Rentabilidad y 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0834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14000"/>
          </a:bodyPr>
          <a:p>
            <a:pPr marL="6552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terial vs Inmater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sta un 30% de inmateriales , con más hay que investigar,ya que  no son garantía creditici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Hay gran volatilidad de precios en inmateriales, no están sujetos a apreciación directa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marL="65520" indent="-655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consolidación del activo fij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127080" indent="-6084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Consolidado: Tiende muy poco a la liquidez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Terrenos superconsolidados (no se deprecia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82520" indent="-550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dificios son muy consolidad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F muy consolidados, no tienden a la liquidez =&gt; Necesidad de correspondencia con el capital propio (no sirven para cubrir exigibles de CP y LP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Grado de obsolescencia del A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i la depreciación acumulada es un alto porcentaje del activo =&gt; necesidad de reponerlos y de contar con cash flow para ell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eneración interna de recursos, cuando aplicamos las utilidades a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65760" indent="-3834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serv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vis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OJO: La ampliación de capital no es de generación intern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utofinanciació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ntido restringido: Autofinanc.&lt;=&gt;Reserv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Restringir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oporción capital propio vs reservas dependerá de los intereses de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alidad del endeudamient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ánto exigible es a CP?, ¿Cuánto a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ejor LP que CP (Ej: 80% LP y 20% CP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ual es el horizonte del LP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: 80% es a LP pero a 2 años ¡¡¡ARGG!!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A quién le debo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Ojo con proveedores monopólicos y bancos que tengan garantías hipotecari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cursos cíclicos vs expres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tener cíclicos (se regeneran automáticament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rédito de proveedore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scuento bancario de document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 vencimiento expreso ( una vez y venc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No se adaptan a las necesidades de circul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uede ser un crédito bancari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íneas de crédito no son cíclica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0578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antiguedad del Activo Fij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p. Acumulada. /Activo Fijo Bruto = 15% =&gt; Activo jóven (Empresa de congelación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07840" indent="-3880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Grado de consolid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ct. Fijo no líquido / A.F.B = 289/375 = 77,09% =&gt; Alto grado de consolid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Pequeña proporción tiende a la liquidez ya que no se deprecian terrenos y acciones de ERAVI, y edificios e instalaciones tienen largo período de depreci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161360" indent="-35172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77,09 % ¿Está cubierto con capital propio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68000" y="16282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elación AF vs AC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9% AF con 61% A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mpresa industria ligera acostumbra a estar 50/50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Mucho circulante? ¿Poco AF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ctivo circulant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asa de clientes muy elevada (48%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Stock (9%) ¿bajo para empresa industrial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trafuncionales e inmaterial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00600" indent="-3636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onto irrelevant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 = Exigible / F.P = 2,49 (alto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¿Inversión en los congelados?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igible CP vs LP (calidad del endeudamiento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cp = 405,  Elp = 175 =&gt; Ecp/ Elp = 2,32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Más del doble de CP/LP: Mala ca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Además el LP no va más allá de 4 añ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1896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la estructura del pasivo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íclicos vs Expres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66% Cíclicos (Proveedores + descuentos)=268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34 % Recursos expres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o compensa el alto endeudamiento y la alta proporción de CP en el exigibl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social 16 % vs Reservas 13%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La empresa no está aplicando autofinanci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371240" y="-36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Solidez patrimonia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la estructura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 la estructura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436680" indent="-4366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de estructura del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ndeudamiento alto y de mala calidad, pero compensado en parte por los cíclic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peligra la operación pero la posición es preocupante si se requiere acudir a acreedores financier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44200" indent="-4057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hay autofinanciación &lt;=&gt; se están repartiendo los beneficios =&gt; Factible acudir a accionistas (ampliación de capital) argumentando que se han pagado dividend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996840" y="2673360"/>
            <a:ext cx="5931000" cy="34923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5" name="Line 5"/>
          <p:cNvSpPr/>
          <p:nvPr/>
        </p:nvSpPr>
        <p:spPr>
          <a:xfrm>
            <a:off x="3886200" y="2673360"/>
            <a:ext cx="0" cy="3492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6" name="Line 6"/>
          <p:cNvSpPr/>
          <p:nvPr/>
        </p:nvSpPr>
        <p:spPr>
          <a:xfrm>
            <a:off x="996840" y="43434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7" name="Line 7"/>
          <p:cNvSpPr/>
          <p:nvPr/>
        </p:nvSpPr>
        <p:spPr>
          <a:xfrm>
            <a:off x="996840" y="41148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8" name="Line 8"/>
          <p:cNvSpPr/>
          <p:nvPr/>
        </p:nvSpPr>
        <p:spPr>
          <a:xfrm>
            <a:off x="3886200" y="457848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9" name="Line 9"/>
          <p:cNvSpPr/>
          <p:nvPr/>
        </p:nvSpPr>
        <p:spPr>
          <a:xfrm>
            <a:off x="3892680" y="4419720"/>
            <a:ext cx="31114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0" name="Line 10"/>
          <p:cNvSpPr/>
          <p:nvPr/>
        </p:nvSpPr>
        <p:spPr>
          <a:xfrm>
            <a:off x="3892680" y="3657600"/>
            <a:ext cx="30351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1" name="Line 11"/>
          <p:cNvSpPr/>
          <p:nvPr/>
        </p:nvSpPr>
        <p:spPr>
          <a:xfrm>
            <a:off x="996840" y="5943600"/>
            <a:ext cx="2160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2" name="Line 12"/>
          <p:cNvSpPr/>
          <p:nvPr/>
        </p:nvSpPr>
        <p:spPr>
          <a:xfrm>
            <a:off x="996840" y="5943600"/>
            <a:ext cx="288288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1959120" y="3110040"/>
            <a:ext cx="9586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3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1792800" y="4024440"/>
            <a:ext cx="11401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5"/>
          <p:cNvSpPr/>
          <p:nvPr/>
        </p:nvSpPr>
        <p:spPr>
          <a:xfrm>
            <a:off x="1321200" y="5014800"/>
            <a:ext cx="1776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ealizable 49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1554120" y="5776920"/>
            <a:ext cx="17679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 2%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7" name="Rectangle 17"/>
          <p:cNvSpPr/>
          <p:nvPr/>
        </p:nvSpPr>
        <p:spPr>
          <a:xfrm>
            <a:off x="4460760" y="2881440"/>
            <a:ext cx="2205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apital Propio 28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Rectangle 18"/>
          <p:cNvSpPr/>
          <p:nvPr/>
        </p:nvSpPr>
        <p:spPr>
          <a:xfrm>
            <a:off x="4533840" y="3795840"/>
            <a:ext cx="1906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 21 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9" name="Rectangle 19"/>
          <p:cNvSpPr/>
          <p:nvPr/>
        </p:nvSpPr>
        <p:spPr>
          <a:xfrm>
            <a:off x="4550400" y="5167440"/>
            <a:ext cx="1871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 50%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pág. 15 cas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l AF está financiado con capital propio más que con exigible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ero el 77% muy consolidado (289 M$) debería estar cubierto con capital, este asciende a 233 =&gt; 56 M$ de LP están financiando AF consolid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SEQUILIBRIO EN CUANTO A INMOVILIZAD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graphicFrame>
        <p:nvGraphicFramePr>
          <p:cNvPr id="192" name="Object 2"/>
          <p:cNvGraphicFramePr/>
          <p:nvPr/>
        </p:nvGraphicFramePr>
        <p:xfrm>
          <a:off x="1523880" y="2120760"/>
          <a:ext cx="758880" cy="160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120760"/>
                    <a:ext cx="758880" cy="1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8380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1000"/>
          </a:bodyPr>
          <a:p>
            <a:pPr marL="427320" indent="-4273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Sin embargo..EQUILIBRIO EN CUANTO A CIRCULANTE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C cubre el Pasivo Circulante, además el PC tiene una gran proporción de cíclicos =&gt;Relativa tranquilidad 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C financia básicamente a clientes que son la mayor parte del AC (48%) =&gt; Poner atención a posibles problemas de moros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26200" indent="-3967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Ante necesidades financieras futuras: Difícil acudir a Bancos, factible con los accionista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Análisis activo + pasivo (Resumen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problemas de solidez están en el inmovilizado, considerando además que no se practica autofinanciación =&gt; Estar atentos a que no se resienta la liquidez en el medio plaz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295280" y="-360"/>
            <a:ext cx="66801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</a:t>
            </a:r>
            <a:br>
              <a:rPr sz="3600"/>
            </a:b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I CASO PRONASA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53352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conómico: Riqueza en funcionamiento para generar más riqueza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 Una máquina abandonada no es activo desde el punto de vista económic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Principio financiero: Fuerza interna (tendencia) a la liquidez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Concepto económico financier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Tiende a la liquidez el circulante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1149480" y="3289320"/>
            <a:ext cx="6692760" cy="3263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3" name="Line 5"/>
          <p:cNvSpPr/>
          <p:nvPr/>
        </p:nvSpPr>
        <p:spPr>
          <a:xfrm>
            <a:off x="4419720" y="3289320"/>
            <a:ext cx="0" cy="32637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4" name="Line 6"/>
          <p:cNvSpPr/>
          <p:nvPr/>
        </p:nvSpPr>
        <p:spPr>
          <a:xfrm>
            <a:off x="1143000" y="3816360"/>
            <a:ext cx="0" cy="633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5" name="Line 7"/>
          <p:cNvSpPr/>
          <p:nvPr/>
        </p:nvSpPr>
        <p:spPr>
          <a:xfrm>
            <a:off x="1149480" y="3733920"/>
            <a:ext cx="66927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2094480" y="325584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4842360" y="325584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1698480" y="3941640"/>
            <a:ext cx="208944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CIRCULANT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isponibl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Ctas. por cobrar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acabad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P.en curs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Stock Mat. P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Arc 11"/>
          <p:cNvSpPr/>
          <p:nvPr/>
        </p:nvSpPr>
        <p:spPr>
          <a:xfrm>
            <a:off x="1258920" y="4365720"/>
            <a:ext cx="146160" cy="298440"/>
          </a:xfrm>
          <a:custGeom>
            <a:avLst/>
            <a:gdLst>
              <a:gd name="textAreaLeft" fmla="*/ 0 w 146160"/>
              <a:gd name="textAreaRight" fmla="*/ 146520 w 1461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</a:path>
              <a:path stroke="0" w="21600" h="21599">
                <a:moveTo>
                  <a:pt x="0" y="21599"/>
                </a:moveTo>
                <a:cubicBezTo>
                  <a:pt x="0" y="9761"/>
                  <a:pt x="9528" y="129"/>
                  <a:pt x="21365" y="0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Arc 12"/>
          <p:cNvSpPr/>
          <p:nvPr/>
        </p:nvSpPr>
        <p:spPr>
          <a:xfrm>
            <a:off x="1187280" y="4724280"/>
            <a:ext cx="222480" cy="298440"/>
          </a:xfrm>
          <a:custGeom>
            <a:avLst/>
            <a:gdLst>
              <a:gd name="textAreaLeft" fmla="*/ 0 w 222480"/>
              <a:gd name="textAreaRight" fmla="*/ 222840 w 22248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</a:path>
              <a:path stroke="0" w="21600" h="21599">
                <a:moveTo>
                  <a:pt x="0" y="21599"/>
                </a:moveTo>
                <a:cubicBezTo>
                  <a:pt x="0" y="9729"/>
                  <a:pt x="9577" y="84"/>
                  <a:pt x="21445" y="-1"/>
                </a:cubicBezTo>
                <a:lnTo>
                  <a:pt x="21600" y="21599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Arc 13"/>
          <p:cNvSpPr/>
          <p:nvPr/>
        </p:nvSpPr>
        <p:spPr>
          <a:xfrm>
            <a:off x="1187280" y="5300640"/>
            <a:ext cx="374760" cy="298440"/>
          </a:xfrm>
          <a:custGeom>
            <a:avLst/>
            <a:gdLst>
              <a:gd name="textAreaLeft" fmla="*/ 0 w 374760"/>
              <a:gd name="textAreaRight" fmla="*/ 375120 w 374760"/>
              <a:gd name="textAreaTop" fmla="*/ 0 h 298440"/>
              <a:gd name="textAreaBottom" fmla="*/ 298800 h 29844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</a:path>
              <a:path stroke="0" w="21600" h="21600">
                <a:moveTo>
                  <a:pt x="21600" y="21600"/>
                </a:move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Tiende a la liquidez el Activo Fij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¡También! =&gt; Vía depreciación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a depreciación es una parte del cash flow que debería considerarse para reposiciones de equipo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xcepciones: Terrenos y accione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09480" y="12679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2000"/>
          </a:bodyPr>
          <a:p>
            <a:pPr marL="291240" indent="-2912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Concepto económico financiero del Pas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Económico: El pasivo es la lista de agentes económicos, dueños del activo, a ser retribuídos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Propio (Patrimonio): Propietarios de pleno derech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dividendo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2" marL="808920" indent="-24480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Capital Exigible (deuda):Propietarios transitori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050120" indent="-24012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Se retribuye con intereses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562680" indent="-270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Principio financiero: Tendencia a la exigibilidad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1143000" y="0"/>
            <a:ext cx="75438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 Black"/>
              </a:rPr>
              <a:t>ANALISIS PATRIMONIAL I (ESTATICO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Principi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endencia interna a la exigibilidad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n el exigible de CP tenemos  la mayor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4d4d4d"/>
                </a:solidFill>
                <a:latin typeface="Verdana"/>
              </a:rPr>
              <a:t>El LP tiende por definición a la exigibilidad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009800" y="3429000"/>
            <a:ext cx="6083280" cy="29592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Line 5"/>
          <p:cNvSpPr/>
          <p:nvPr/>
        </p:nvSpPr>
        <p:spPr>
          <a:xfrm>
            <a:off x="3962520" y="3130560"/>
            <a:ext cx="0" cy="303516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6"/>
          <p:cNvSpPr/>
          <p:nvPr/>
        </p:nvSpPr>
        <p:spPr>
          <a:xfrm>
            <a:off x="920880" y="3886200"/>
            <a:ext cx="600696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1256400" y="3332160"/>
            <a:ext cx="992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4461480" y="3332160"/>
            <a:ext cx="9846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S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9"/>
          <p:cNvSpPr/>
          <p:nvPr/>
        </p:nvSpPr>
        <p:spPr>
          <a:xfrm>
            <a:off x="4645800" y="4170240"/>
            <a:ext cx="137628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C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xigible LP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atrimoni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Arc 10"/>
          <p:cNvSpPr/>
          <p:nvPr/>
        </p:nvSpPr>
        <p:spPr>
          <a:xfrm>
            <a:off x="6400800" y="4267080"/>
            <a:ext cx="374760" cy="451080"/>
          </a:xfrm>
          <a:custGeom>
            <a:avLst/>
            <a:gdLst>
              <a:gd name="textAreaLeft" fmla="*/ 0 w 374760"/>
              <a:gd name="textAreaRight" fmla="*/ 375120 w 374760"/>
              <a:gd name="textAreaTop" fmla="*/ 0 h 451080"/>
              <a:gd name="textAreaBottom" fmla="*/ 451440 h 451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5" name="Arc 11"/>
          <p:cNvSpPr/>
          <p:nvPr/>
        </p:nvSpPr>
        <p:spPr>
          <a:xfrm>
            <a:off x="6400800" y="4724280"/>
            <a:ext cx="374760" cy="374760"/>
          </a:xfrm>
          <a:custGeom>
            <a:avLst/>
            <a:gdLst>
              <a:gd name="textAreaLeft" fmla="*/ 0 w 374760"/>
              <a:gd name="textAreaRight" fmla="*/ 375120 w 37476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fill="none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</a:path>
              <a:path stroke="0" w="21600" h="21600">
                <a:moveTo>
                  <a:pt x="21600" y="0"/>
                </a:moveTo>
                <a:cubicBezTo>
                  <a:pt x="21600" y="11929"/>
                  <a:pt x="11929" y="21599"/>
                  <a:pt x="0" y="21600"/>
                </a:cubicBezTo>
                <a:lnTo>
                  <a:pt x="0" y="0"/>
                </a:lnTo>
                <a:close/>
              </a:path>
            </a:pathLst>
          </a:custGeom>
          <a:noFill/>
          <a:ln cap="rnd" w="1260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3000"/>
          </a:bodyPr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Y el patrimonio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42720" indent="-34272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¡Tambien!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extremo: Al liquidar la empresa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62760" indent="-3182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aso normal: Cuando hay pérdidas (previsiones y regularización de pérdidas contra reservas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952560" indent="-2883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 una exigibilidad sin fecha concreta, no contractual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14264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ALISIS PATRIMONIAL I (ESTATICO)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Anita Ramírez</dc:creator>
  <dc:description/>
  <dc:language>en-US</dc:language>
  <cp:lastModifiedBy>Eduardo Contreras Villablanca</cp:lastModifiedBy>
  <cp:lastPrinted>2002-11-13T13:47:55Z</cp:lastPrinted>
  <dcterms:modified xsi:type="dcterms:W3CDTF">2010-08-12T14:52:04Z</dcterms:modified>
  <cp:revision>362</cp:revision>
  <dc:subject/>
  <dc:title>Formulación de Proyectos</dc:title>
</cp:coreProperties>
</file>