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30958-3699-4C07-996D-5E8A9D48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A091B-0CEC-40AF-8FE5-2DE6B144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CB6D0-E06B-4F80-B33E-6C05ADA7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18DB2-81F3-4875-87D9-BC0DA7D4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0947B-2EAA-4348-9016-ABA30FCC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BF333-E6AF-45D3-8BF6-1DBC3468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CB109-059E-456D-B4E4-EE2BE622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8943A-6D8A-4F9D-9B7D-0A7B23B7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EBCC3-6673-46E8-9582-55E6FFD9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22AAC-437B-4C20-9639-BEC13563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30EC4-2104-49B9-B1B4-7559025E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A56A6-DC19-450D-8BAD-E9163498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DD5E-81C8-4FD2-B57F-35AEF6D0C254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234720" indent="-23472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4720" indent="-23472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quilibrio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quilibrio contable ACT=PAS (por defini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: Debe haber un equilibrio financier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fuerza interna a la liquidez debe equilibrarse con la tendencia a la exigibilidad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Maquina que vale 100, vida útil 5 años, financiada con crédito a 3 añ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ende a la liquidez a razón de 20/añ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ilidad de 33,3/año más interes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846720" indent="-1936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Y DESEQUILIBRIO PATRIMON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ALISIS PATRIMONIAL I (ESTATICO) 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 TEST: 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La empresa es insolvente? Contestar SI o 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6840" indent="-276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ución: Pagar con utilidades del proyecto (cash flow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 hay riesgo (Ej.: caída de vent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osible equilibrio para adversos al riesg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49480" y="198108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323080" y="2112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56760" y="2112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48720" y="3179880"/>
            <a:ext cx="2235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860000" y="3255840"/>
            <a:ext cx="162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10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08000" indent="-108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E= Exigible (CP y LP)/ Capital Prop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’ = Activo Total/Capital Propio= E +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ngos (Chile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lt;0,4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=0,4 Med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,4&lt;E&lt;1 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gt;1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s país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pañ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 Medio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lgunos ejemplos en Chil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          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99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QM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28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DELNOR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1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l Tepual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6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50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=&gt; Riesgo </a:t>
            </a:r>
            <a:r>
              <a:rPr b="0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potenc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ero la empresa podría responder si genera suficiente liquidez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y baja liquidez =&gt; Falta de garantías creditici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depende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890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ructura General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mpresas deberían tender a diferenciarse según su activ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ductoras (Minería, empresas de energía y de transportes, manufactureras, etc.):AF &gt;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rcializadoras (consultoras, tiendas de abarrotes, restaurantes, etc.):AC&gt;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142640"/>
            <a:ext cx="8642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842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84240" indent="-84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es vs extrafuncionales e interino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normal: Tod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extrafuncional es pequeño OK, si es mayor al 10% habría que investiga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-70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Si es con ánimo especulativo ¿Es voluntad de los accionistas?, ¿Dificulta nuestra posición frente a nuestros acreedore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s: Hasta un 5% no es preocupante, mas sí porque los interinos no rinden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08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65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rial vs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sta un 30% de inmateriales , con más hay que investigar,ya que  no son garantía creditici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y gran volatilidad de precios en inmateriales, no están sujetos a apreciación direc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consolidación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nsolidado: Tiende muy poco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Terrenos superconsolidados (no se deprecia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dificios son muy consolidad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F muy consolidados, no tienden a la liquidez =&gt; Necesidad de correspondencia con el capital propio (no sirven para cubrir exigibles de CP y LP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obsolescencia del A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depreciación acumulada es un alto porcentaje del activo =&gt; necesidad de reponerlos y de contar con cash flow para ell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ción interna de recursos, cuando aplicamos las utilidades 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La ampliación de capital no es de generación intern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ntido restringido: Autofinanc.&lt;=&gt;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Restringi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orción capital propio vs reservas dependerá de los intereses de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lidad del 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ánto exigible es a CP?, ¿Cuánto a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ejor LP que CP (Ej: 80% LP y 20% CP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al es el horizonte del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: 80% es a LP pero a 2 años ¡¡¡ARGG!!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A quién le deb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 con proveedores monopólicos y bancos que tengan garantías hipoteca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cursos cíclicos vs expres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tener cíclicos (se regeneran automáticame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 de provee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bancario de documen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 vencimiento expreso ( una vez y venc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e adaptan a las necesidad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uede ser un crédito banc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íneas de crédito no son cícli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5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rado de antiguedad del Activo Fij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p. Acumulada. /Activo Fijo Bruto = 15% =&gt; Activo jóven (Empresa de congel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rado de consolid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. Fijo no líquido / A.F.B = 289/375 = 77,09% =&gt; Alto grado de consolid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queña proporción tiende a la liquidez ya que no se deprecian terrenos y acciones de ERAVI, y edificios e instalaciones tienen largo período de depreci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77,09 % ¿Está cubierto con capital propio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lación AF vs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9% AF con 61% A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mpresa industria ligera acostumbra a estar 50/5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Mucho circulante? ¿Poco AF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sa de clientes muy elevada (48%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tock (9%) ¿bajo para empresa industrial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es e inmater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nto irrelev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 = Exigible / F.P = 2,49 (alt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Inversión en los congelado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P vs LP (calidad del endeudamient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cp = 405,  Elp = 175 =&gt; Ecp/ Elp = 2,32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ás del doble de CP/LP: Mala ca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emás el LP no va más allá de 4 añ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pasiv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íclicos vs Expres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66% Cíclicos (Proveedores + descuentos)=268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4 % Recursos expre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compensa el alto endeudamiento y la alta proporción de CP en el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16 % vs Reservas 13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no está aplicando autofinanci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estructura del pasivo (resumen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deudamiento alto y de mala calidad, pero compensado en parte por los cíclic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peligra la operación pero la posición es preocupante si se requiere acudir a acreedores financier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autofinanciación &lt;=&gt; se están repartiendo los beneficios =&gt; Factible acudir a accionistas (ampliación de capital) argumentando que se han pagado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96840" y="2673360"/>
            <a:ext cx="5931000" cy="3492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886200" y="2673360"/>
            <a:ext cx="0" cy="3492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996840" y="43434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996840" y="41148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886200" y="457848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3892680" y="4419720"/>
            <a:ext cx="3111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3892680" y="3657600"/>
            <a:ext cx="3035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996840" y="5943600"/>
            <a:ext cx="216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996840" y="59436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959120" y="3110040"/>
            <a:ext cx="95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3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792800" y="4024440"/>
            <a:ext cx="114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321200" y="5014800"/>
            <a:ext cx="177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alizable 4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1554120" y="5776920"/>
            <a:ext cx="176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2%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4460760" y="2881440"/>
            <a:ext cx="220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28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4533840" y="3795840"/>
            <a:ext cx="190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 21 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4550400" y="5167440"/>
            <a:ext cx="187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 50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 (pág. 15 cas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AF está financiado con capital propio más que con exig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el 77% muy consolidado (289 M$) debería estar cubierto con capital, este asciende a 233 =&gt; 56 M$ de LP están financiando AF consolid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SEQUILIBRIO EN CUANTO A INMOVILIZ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1523880" y="2120760"/>
          <a:ext cx="758880" cy="1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20760"/>
                    <a:ext cx="75888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n embargo..EQUILIBRIO EN CUANTO A CIRCULANT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 cubre el Pasivo Circulante, además el PC tiene una gran proporción de cíclicos =&gt;Relativa tranquilidad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C financia básicamente a clientes que son la mayor parte del AC (48%) =&gt; Poner atención a posibles problemas de moros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nte necesidades financieras futuras: Difícil acudir a Bancos, factible con los accionist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 (Resumen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blemas de solidez están en el inmovilizado, considerando además que no se practica autofinanciación =&gt; Estar atentos a que no se resienta la liquidez en el medi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conómico: Riqueza en funcionamiento para generar más riquez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 Una máquina abandonada no es activo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financiero: Fuerza interna (tendencia) a la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l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9480" y="3289320"/>
            <a:ext cx="6692760" cy="3263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419720" y="3289320"/>
            <a:ext cx="0" cy="32637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094480" y="3255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842360" y="3255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698480" y="3941640"/>
            <a:ext cx="208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por cobr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acab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en curs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Mat.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Arc 11"/>
          <p:cNvSpPr/>
          <p:nvPr/>
        </p:nvSpPr>
        <p:spPr>
          <a:xfrm>
            <a:off x="1258920" y="4365720"/>
            <a:ext cx="146160" cy="298440"/>
          </a:xfrm>
          <a:custGeom>
            <a:avLst/>
            <a:gdLst>
              <a:gd name="textAreaLeft" fmla="*/ 0 w 146160"/>
              <a:gd name="textAreaRight" fmla="*/ 146520 w 146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</a:path>
              <a:path stroke="0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Arc 12"/>
          <p:cNvSpPr/>
          <p:nvPr/>
        </p:nvSpPr>
        <p:spPr>
          <a:xfrm>
            <a:off x="1187280" y="4724280"/>
            <a:ext cx="222480" cy="298440"/>
          </a:xfrm>
          <a:custGeom>
            <a:avLst/>
            <a:gdLst>
              <a:gd name="textAreaLeft" fmla="*/ 0 w 222480"/>
              <a:gd name="textAreaRight" fmla="*/ 222840 w 222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Arc 13"/>
          <p:cNvSpPr/>
          <p:nvPr/>
        </p:nvSpPr>
        <p:spPr>
          <a:xfrm>
            <a:off x="1187280" y="53006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liquidez el Activo Fij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¡También! =&gt; Vía 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depreciación es una parte del cash flow que debería considerarse para reposiciones de equip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cepciones: Terrenos y acc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2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91240" indent="-2912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conómico: El pasivo es la lista de agentes económicos, dueños del activo, a ser retribuíd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 (Patrimonio): Propietarios de pleno derech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dividen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Exigible (deuda):Propietarios transito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interes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rincipio financiero: Tendencia a la exigibi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ncipi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endencia interna a la exigibi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el exigible de CP tenemos  la mayor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LP tiende por definición a la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9800" y="3429000"/>
            <a:ext cx="60832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56400" y="33321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61480" y="33321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45800" y="4170240"/>
            <a:ext cx="1376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6400800" y="4267080"/>
            <a:ext cx="374760" cy="451080"/>
          </a:xfrm>
          <a:custGeom>
            <a:avLst/>
            <a:gdLst>
              <a:gd name="textAreaLeft" fmla="*/ 0 w 374760"/>
              <a:gd name="textAreaRight" fmla="*/ 375120 w 3747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Arc 11"/>
          <p:cNvSpPr/>
          <p:nvPr/>
        </p:nvSpPr>
        <p:spPr>
          <a:xfrm>
            <a:off x="6400800" y="4724280"/>
            <a:ext cx="374760" cy="374760"/>
          </a:xfrm>
          <a:custGeom>
            <a:avLst/>
            <a:gdLst>
              <a:gd name="textAreaLeft" fmla="*/ 0 w 374760"/>
              <a:gd name="textAreaRight" fmla="*/ 375120 w 3747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Y el patrimoni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¡Tambien!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extremo: Al liquidar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normal: Cuando hay pérdidas (previsiones y regularización de pérdidas contra reserv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52560" indent="-288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una exigibilidad sin fecha concreta, no contr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12T14:52:04Z</dcterms:modified>
  <cp:revision>362</cp:revision>
  <dc:subject/>
  <dc:title>Formulación de Proyectos</dc:title>
</cp:coreProperties>
</file>