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9C5B6-D4F4-4628-B54A-4D0795B3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CA9A7-ADBA-4DF5-81F3-AEA91517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8C706-D345-4DB4-9CC4-E7856670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DA49D-F64D-4F19-A6A4-BA774415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19210-9D3F-4F95-A883-2A04D9D6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84D57-AE86-454A-B282-ACCEE29D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940C3-DDE2-4AB4-9F5F-EA29F2E5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F87F6-34D2-4D1C-A252-EA9546B9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E910B-DF7C-48FB-91F1-0EE380C7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9B412-1E05-413E-A684-E0A82200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D7A88-D8E4-4177-AE95-E41D1E25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927A4-2B67-42F7-A997-CCE87AA6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8D11-318D-449D-A7AF-505481151A73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3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9T14:06:50Z</dcterms:modified>
  <cp:revision>363</cp:revision>
  <dc:subject/>
  <dc:title>Formulación de Proyectos</dc:title>
</cp:coreProperties>
</file>