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42DBD-F039-49AE-9F1D-E7610C3F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6C35A-2BC8-430D-B882-05357302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55701-9053-444D-9B7A-C99B32AA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132EE-6EA3-4D14-8EF2-46CE6AFB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DA07C-0F24-4045-9BC5-AA4F62D1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F2861-D96F-4EB4-BBAF-CBB4FA6C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0ED90-671D-4B15-840E-9B2B7C79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E752C-FE3B-498C-987F-5C407FB4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33DD5-5CA1-4331-B4BC-CC0D47BF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CEF7E-2007-422C-A877-3734E371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63931-AF3C-4997-9D51-7398398F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9E7DD-21E9-4F14-8261-D3E3B0A3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0E51-0F09-4EF5-8D31-E63FBD945625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3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9T14:06:50Z</dcterms:modified>
  <cp:revision>363</cp:revision>
  <dc:subject/>
  <dc:title>Formulación de Proyectos</dc:title>
</cp:coreProperties>
</file>