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20546-139E-454B-8781-A263B1C8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F5DCC-B781-4275-A63E-5A6ECB33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7090B-F080-4069-8D41-96E1ED32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C0AD2-F6EF-4C72-8ADD-F4CBE627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C7536-0EB9-47F5-A88D-3173D39A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603A8-7EBD-4184-8EB1-2ED98273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8DF98-6D6D-4BBB-BDC3-9226E05B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07A88-0739-4231-BC0F-BCC121D5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49175-40CF-4AFA-AB71-DB3BD473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2FDF2-6E52-452E-9120-9AEA1420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635B1-311B-44CE-A187-B5E9E371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B14BD-8F0A-4E30-8B3F-30DB3972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A7DE-CF8A-48F0-BD25-F38763280795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7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3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7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4038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51055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Profesor: Eduardo Contrer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Ingeniero Civil Industrial - Universidad de Chi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Master of Business Administration (MBA) - ES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6T21:22:05Z</dcterms:modified>
  <cp:revision>361</cp:revision>
  <dc:subject/>
  <dc:title>Formulación de Proyectos</dc:title>
</cp:coreProperties>
</file>