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7B99C-505D-4C12-850E-9503864A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430EB-9657-4468-A037-83BF5601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CC645-1E82-4874-8A4C-46A3DFD2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FB424-7415-4A6B-8CB5-6C19DDD9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DB163-54B7-4521-8F15-8FBF2411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B68AF-DD7A-44C8-8396-ACAEA3BA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3A480-8AE3-4D67-AC5C-E98C87F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00FC5-AA9A-4BC0-A9A3-8A82FBC4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42CC5-EFAD-4ABD-B2CC-AC7C22C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CA174-19F6-454A-B2D8-5BD9C5F0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E490A-61B3-4F70-B7EB-18BF978F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4ABF5-AC87-4F17-A79B-F25B34E4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0C7B-9F2B-4467-98ED-E448CC35B147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6T21:22:05Z</dcterms:modified>
  <cp:revision>361</cp:revision>
  <dc:subject/>
  <dc:title>Formulación de Proyectos</dc:title>
</cp:coreProperties>
</file>