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F247-D3CD-4AFA-869F-19E2BAD763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0196-1294-4567-B4A7-812D34B5167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9E0-F1EB-42FB-B5F1-833F05807B97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AD4E-C07E-4752-BCD1-69A2DDFDABBC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1B07-0D7C-4622-BABB-E47DB235759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A77-2210-4A4B-A3EA-7D8E51A51326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373-D053-48FF-863A-E59181045B3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EE971-AB1D-4E6C-8D6F-9442954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D6D09-765E-429A-A421-703BF1FC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D7CDC-552D-46DA-871C-0907A0A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FDEE9-2CA0-440C-8A73-9C16F53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921DF-5965-4116-A84D-854B801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01A29-ADC8-41BA-8418-62C13523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8B587-0A72-422B-BF3C-869E9638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F71D-BF6D-48D5-982E-7792F4D0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0291F-E703-42E3-AB9A-4A6657C3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1AB33-08AE-4BE3-9CED-2E077E08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1A9A5-7BE0-40ED-9F99-CD6CE312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BC887-161E-4232-8012-2D1FD114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AD42-D6B7-48ED-A4A0-0E2F7BDCFC7B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Realizar análisis de balances y estados de resultados con fines de gest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mprender el rol de la función financiera en el largo plazo de la empresa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Usar herramientas de matemáticas financieras para diseñar y analizar créditos e inversiones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nstruir flujos de caja de un proyecto y evaluarlo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 </a:t>
            </a: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(1ª mitad del semestre)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teoría y aplicaciones a cas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auxiliares (primera mitad del semestre se centra en un caso: Arose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además controles de lectura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6 controles. Individ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 (Casos): 2 a largo del semestre, grup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troles (2) y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6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0%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6 controles de lectura cortos y se elimina una not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(Casos)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19:09Z</dcterms:modified>
  <cp:revision>360</cp:revision>
  <dc:subject/>
  <dc:title>Formulación de Proyectos</dc:title>
</cp:coreProperties>
</file>