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51DD-C298-4E23-8054-4812D29F260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3EC9-9E7C-411A-833C-A29322B31402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5AAB-E432-408E-902A-50095FDE791A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CF40-CAFE-499A-8578-631AC50782C9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B10D-A3D8-4EBB-985E-8603667FFE2F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8B80-76A6-4309-838B-054F0D3B1A51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5809-034B-40B6-A4A4-077B77334E12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3E594-0BD7-416F-9FE1-3F24C35D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A0DA1-178F-4B12-9DE2-00AB6246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F11FC-518B-4C2B-8115-453568D3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ECB65-00EE-46F8-9DF0-DB239782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B18DB-EF8D-40BD-88E4-5DAD7994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59426-5B04-44D3-81FE-9F986011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804D6-0611-4DC7-8EA8-5080B2DC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4B754-1D40-4D5F-9909-BDC2EF37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8EC79-0764-4874-BC38-F57DD44C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51119-AC7A-4609-ABCF-2E702E1D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7693C-DFE7-445C-8A2E-E6D0942F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249C5-AEB9-4D15-8EA8-E5011598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21AA-C5C4-4F97-B81F-0849FD424849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Realizar análisis de balances y estados de resultados con fines de gest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Comprender el rol de la función financiera en el largo plazo de la empresa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Usar herramientas de matemáticas financieras para diseñar y analizar créditos e inversiones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Construir flujos de caja de un proyecto y evaluarlo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 </a:t>
            </a: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(1ª mitad del semestre)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(teoría y aplicaciones a caso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ases auxiliares (primera mitad del semestre se centra en un caso: Arosel); el resto de las aplicaciones se verán durante las clases de cátedr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además controles de lectura y posiblemente alguna actividad extr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 6 controles. Individ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 (Casos): 2 a largo del semestre, grup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troles (2) y Exame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058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 (6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2 controles y un examen. Controles en semanas 7 y 13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Tareas (20%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es de Lectura (2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6 controles de lectura cortos y se elimina una nota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2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(Casos)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6T21:19:09Z</dcterms:modified>
  <cp:revision>360</cp:revision>
  <dc:subject/>
  <dc:title>Formulación de Proyectos</dc:title>
</cp:coreProperties>
</file>