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98D0-755F-41B4-AF96-95602569774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9361-4B93-461B-A603-0B31042211B5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4C3B-086D-4AB8-B418-E5C07A8322B9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0750-31DA-4D75-BF2E-1ED4DDE746C7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0D59-7052-47B9-BA08-6CD15BD45971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A857-8EE5-48F3-B7AA-43CDA42785F5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31C7-7BD3-45D1-B0A0-58394D1EF20F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274E0-53DB-4486-AF67-2409A447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9CD02-1AD2-4F2C-948C-A7CED5CE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D3D18-F879-4CD0-8B77-28376A7E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1B9E5-F2D9-4751-816F-881A702A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FDAEE-DBB0-45C1-8BE0-00B54849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B698C-6F1A-4329-9E19-87AF219D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354F0-8348-496E-8730-5E53894E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988CF-23C8-4DD2-B823-C3B2531F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D200A-7FD7-421B-AE65-47FC801F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82EFB-FC68-40E0-A2F2-79446028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D47E5-FB2D-46A2-BBED-0AE5F572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F063A-79A9-45DD-8C04-1C2A5005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13D2-8820-4249-AFA3-AD1573EF81FA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Realizar análisis de balances y estados de resultados con fines de gest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Comprender el rol de la función financiera en el largo plazo de la empresa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Usar herramientas de matemáticas financieras para diseñar y analizar créditos e inversiones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Construir flujos de caja de un proyecto y evaluarlo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 </a:t>
            </a: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(1ª mitad del semestre)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teoría y aplicaciones a cas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auxiliares (primera mitad del semestre se centra en un caso: Arosel); el resto de las aplicaciones se verán durante las clases de cáted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además controles de lectura y posiblemente alguna actividad ext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 6 controles. Individ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 (Casos): 2 a largo del semestre, grup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troles (2) y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6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Controles en semanas 7 y 13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0%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6 controles de lectura cortos y se elimina una not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(Casos)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6T21:19:09Z</dcterms:modified>
  <cp:revision>360</cp:revision>
  <dc:subject/>
  <dc:title>Formulación de Proyectos</dc:title>
</cp:coreProperties>
</file>