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BDA-BFA2-4450-A087-B4F228CB56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745-6305-48E9-AAF6-9956B5D54F4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49D-D047-4580-9F79-2174F34B19C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3247-BFB3-44BC-A884-DC0E34218438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BD16-7818-4044-BA25-4F95E94E07F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D6FC-503C-4CBB-9FA3-DA38677C2F5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D085-01CB-4331-ACE2-33E84BEE05E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3594E-DC7F-4FDD-803D-74DF55A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1AB9-647E-4AC1-B710-356CB19C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6E048-2FB6-4D77-A474-5CF902B1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50639-3B13-4271-8197-C3C80A7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0C34C-968F-4214-9ABC-A365ADCB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FFBEB-AD1A-4CB1-80C5-148E4804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A8916-C9AC-4085-B73D-804C937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EF38-EF4F-4F95-A20C-6C5AB2EE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2FA58-EF38-41DC-8686-080C2FC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AE929-E305-4BD7-8A87-24684152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AE70A-C272-49ED-8127-04FAA10E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78215-798A-4428-828E-8FCC06DD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4947-B0BB-48D1-8EB4-AB64B73D2BA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Realizar análisis de balances y estados de resultados con fines de gest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mprender el rol de la función financiera en el largo plazo de la empresa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Usar herramientas de matemáticas financieras para diseñar y analizar créditos e inversiones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nstruir flujos de caja de un proyecto y evaluarlo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 </a:t>
            </a: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(1ª mitad del semestre)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teoría y aplicaciones a cas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auxiliares (primera mitad del semestre se centra en un caso: Arose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además controles de lectura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6 controles. Individ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 (Casos): 2 a largo del semestre, grup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troles (2) y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6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0%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6 controles de lectura cortos y se elimina una not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(Casos)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19:09Z</dcterms:modified>
  <cp:revision>360</cp:revision>
  <dc:subject/>
  <dc:title>Formulación de Proyectos</dc:title>
</cp:coreProperties>
</file>