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71D5-E040-4B7A-AF17-2D035EAD2B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6AA7-F03A-470C-8CB3-7CC9EEB5A720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BE31-3F3A-43EE-A6EE-30888AA4AFF4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E30-B860-425C-9220-043EBA88BA9B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83CA-976A-439C-87FD-BCBB9D6C3F31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35B0-7E34-4DFE-94AF-6C60BF20C28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5194-B30A-4F8A-B9C3-0BC1671AE50E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560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73811-350F-4E63-A641-9C9C92A3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B2265-E9B4-462B-A8E2-199F7DFA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54444-D5E9-4378-B966-7FFD1EF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89F0E-5249-4BCF-8429-C1DF3EE9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2F086-BE18-46D0-AF14-632FCBC4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E9697-30C6-43F9-AA4F-4BE51C57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5B886-A163-4343-B4C8-7F31138A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70CEF-1296-4FB6-BF54-9632AE89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C213E2-0B8B-421C-BA81-CD02E5E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417B2-5E48-48BF-9C44-FAA21797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F4139-BF30-4977-A40E-BFA4C3DC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ED5A8-5CB1-4B63-B6A4-1B3F10FB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EBDF-5AFF-4BBB-A6E6-6795488EA895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Realizar análisis de balances y estados de resultados con fines de gest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mprender el rol de la función financiera en el largo plazo de la empresa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Usar herramientas de matemáticas financieras para diseñar y analizar créditos e inversiones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Construir flujos de caja de un proyecto y evaluarlo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 </a:t>
            </a:r>
            <a:r>
              <a:rPr b="1" lang="es-ES_tradnl" sz="2800" spc="-1" strike="noStrike">
                <a:solidFill>
                  <a:srgbClr val="cc3300"/>
                </a:solidFill>
                <a:latin typeface="Verdana"/>
              </a:rPr>
              <a:t>(1ª mitad del semestre)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teoría y aplicaciones a cas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ases auxiliares (primera mitad del semestre se centra en un caso: Arosel); el resto de las aplicaciones se verán durante las clases de cáted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además controles de lectura y posiblemente alguna actividad extra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1378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 6 controles. Individ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 (Casos): 2 a largo del semestre, grup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troles (2) y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 (6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2 controles y un examen. Controles en semanas 7 y 13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Tareas (20%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d4d4d"/>
                </a:solidFill>
                <a:latin typeface="Verdana"/>
              </a:rPr>
              <a:t>Nota Controles de Lectura (20%):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se realizarán 6 controles de lectura cortos y se elimina una nota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pie de página"/>
          <p:cNvSpPr/>
          <p:nvPr/>
        </p:nvSpPr>
        <p:spPr>
          <a:xfrm>
            <a:off x="611280" y="6524640"/>
            <a:ext cx="79214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2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(Casos)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6T21:19:09Z</dcterms:modified>
  <cp:revision>360</cp:revision>
  <dc:subject/>
  <dc:title>Formulación de Proyectos</dc:title>
</cp:coreProperties>
</file>