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52D5E-D4EA-4611-825C-DFF348BF99FF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7533E-214B-4E78-96E7-22E213DC8B1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748-F9BA-404D-9D5A-195F292E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CEE-93FA-4FA3-99FE-50ACFCE7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5B4-A461-4DFC-A9FD-4C6F7A67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D97-D633-4FC6-A5EA-893BD5F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54A-4549-454C-AF37-90CA05B4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BBB-4935-4052-8339-A606F43A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5B5-4548-4A3E-B65B-C5992D32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348-9534-41D0-8384-18F7E4C9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3F2-35A6-4E25-A853-6FA1E021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F05-6DCE-41D1-8E2C-FA382D9C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F92-18B0-4819-8970-4F6CF87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448-AC52-4779-9EB1-5375B91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66DC9-9AA3-4640-8A24-AA625F2F0D2D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A59E4-D540-4F4C-8B6A-60182E64FD4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96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3120" y="46184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6040" y="25502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9800" y="2405160"/>
            <a:ext cx="8266320" cy="680760"/>
            <a:chOff x="469800" y="2405160"/>
            <a:chExt cx="8266320" cy="680760"/>
          </a:xfrm>
        </p:grpSpPr>
        <p:sp>
          <p:nvSpPr>
            <p:cNvPr id="91" name="Rectangle 5"/>
            <p:cNvSpPr/>
            <p:nvPr/>
          </p:nvSpPr>
          <p:spPr>
            <a:xfrm>
              <a:off x="469800" y="2405160"/>
              <a:ext cx="11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79160" y="3270240"/>
            <a:ext cx="8439480" cy="660240"/>
            <a:chOff x="479160" y="3270240"/>
            <a:chExt cx="8439480" cy="660240"/>
          </a:xfrm>
        </p:grpSpPr>
        <p:sp>
          <p:nvSpPr>
            <p:cNvPr id="94" name="Rectangle 6"/>
            <p:cNvSpPr/>
            <p:nvPr/>
          </p:nvSpPr>
          <p:spPr>
            <a:xfrm>
              <a:off x="479160" y="32702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3040" y="4357800"/>
            <a:ext cx="8445600" cy="704520"/>
            <a:chOff x="473040" y="4357800"/>
            <a:chExt cx="8445600" cy="704520"/>
          </a:xfrm>
        </p:grpSpPr>
        <p:sp>
          <p:nvSpPr>
            <p:cNvPr id="97" name="Rectangle 7"/>
            <p:cNvSpPr/>
            <p:nvPr/>
          </p:nvSpPr>
          <p:spPr>
            <a:xfrm>
              <a:off x="473040" y="435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0880" y="5472000"/>
            <a:ext cx="8295120" cy="916920"/>
            <a:chOff x="470880" y="5472000"/>
            <a:chExt cx="8295120" cy="916920"/>
          </a:xfrm>
        </p:grpSpPr>
        <p:sp>
          <p:nvSpPr>
            <p:cNvPr id="100" name="Rectangle 8"/>
            <p:cNvSpPr/>
            <p:nvPr/>
          </p:nvSpPr>
          <p:spPr>
            <a:xfrm>
              <a:off x="470880" y="550224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b0505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f0d0c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51500"/>
              </a:gs>
              <a:gs pos="100000">
                <a:srgbClr val="8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Ricardo San Martin</cp:lastModifiedBy>
  <dcterms:modified xsi:type="dcterms:W3CDTF">2010-09-22T02:46:43Z</dcterms:modified>
  <cp:revision>3</cp:revision>
  <dc:subject/>
  <dc:title>Análisis Sectorial </dc:title>
</cp:coreProperties>
</file>