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F74D5-9115-438D-A95B-4C33C5765F0F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C4CC1-45C4-479B-B535-D4C7BD8E1E0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3D3-FC7C-4EC7-B7E8-F15C3CFB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35A-0745-428E-8A79-DBB83321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A18-3895-4073-9815-1F13CFF5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756-E572-4103-BEE0-51EECA18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D0E-29A5-4892-BCD6-A758C3F4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0BB-70EF-4B8D-BF1D-A08C1317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4AA-48E2-4CCB-A577-2B5507CD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0D1-8555-4AD1-AF3E-6D670870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842-5CAE-4009-BA88-387EC0E0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201-0D3D-4A83-A57A-E6A6A7FE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E4B-BF16-41EC-BFBD-D544F173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BF5-F862-4063-93CB-09127FDE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A9E23-4562-46D6-8942-9A3CB393C009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A17DC-2195-44E1-A9B7-0A3384F4C1A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96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3120" y="46184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6040" y="25502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69800" y="2405160"/>
            <a:ext cx="8266320" cy="680760"/>
            <a:chOff x="469800" y="2405160"/>
            <a:chExt cx="8266320" cy="680760"/>
          </a:xfrm>
        </p:grpSpPr>
        <p:sp>
          <p:nvSpPr>
            <p:cNvPr id="91" name="Rectangle 5"/>
            <p:cNvSpPr/>
            <p:nvPr/>
          </p:nvSpPr>
          <p:spPr>
            <a:xfrm>
              <a:off x="469800" y="2405160"/>
              <a:ext cx="11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79160" y="3270240"/>
            <a:ext cx="8439480" cy="660240"/>
            <a:chOff x="479160" y="3270240"/>
            <a:chExt cx="8439480" cy="660240"/>
          </a:xfrm>
        </p:grpSpPr>
        <p:sp>
          <p:nvSpPr>
            <p:cNvPr id="94" name="Rectangle 6"/>
            <p:cNvSpPr/>
            <p:nvPr/>
          </p:nvSpPr>
          <p:spPr>
            <a:xfrm>
              <a:off x="479160" y="327024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3040" y="4357800"/>
            <a:ext cx="8445600" cy="704520"/>
            <a:chOff x="473040" y="4357800"/>
            <a:chExt cx="8445600" cy="704520"/>
          </a:xfrm>
        </p:grpSpPr>
        <p:sp>
          <p:nvSpPr>
            <p:cNvPr id="97" name="Rectangle 7"/>
            <p:cNvSpPr/>
            <p:nvPr/>
          </p:nvSpPr>
          <p:spPr>
            <a:xfrm>
              <a:off x="473040" y="43578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0880" y="5472000"/>
            <a:ext cx="8295120" cy="916920"/>
            <a:chOff x="470880" y="5472000"/>
            <a:chExt cx="8295120" cy="916920"/>
          </a:xfrm>
        </p:grpSpPr>
        <p:sp>
          <p:nvSpPr>
            <p:cNvPr id="100" name="Rectangle 8"/>
            <p:cNvSpPr/>
            <p:nvPr/>
          </p:nvSpPr>
          <p:spPr>
            <a:xfrm>
              <a:off x="470880" y="550224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b0505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f0d0c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51500"/>
              </a:gs>
              <a:gs pos="100000">
                <a:srgbClr val="8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Ricardo San Martin</cp:lastModifiedBy>
  <dcterms:modified xsi:type="dcterms:W3CDTF">2010-09-22T02:46:43Z</dcterms:modified>
  <cp:revision>3</cp:revision>
  <dc:subject/>
  <dc:title>Análisis Sectorial </dc:title>
</cp:coreProperties>
</file>