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ED63B-0504-4FBE-BAA5-928158D4BEAD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42E83-617B-4D3A-A69F-F1AA673D798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3A3-B634-4EA6-86E6-D332E2B3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771-3268-4BF6-BE10-97DAA53B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E45-9B7A-4C50-A220-2FBBE36D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6C4-51A1-4AD6-A648-DC31DD0D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19A-4BF1-4F8D-AC0F-6FFC3C17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3DC-7AFC-44ED-9618-1CB3C439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B85-8058-4279-9AA9-632B0BF0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4E2-5FA9-4D12-8298-7A03F3C3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A9D-1635-441D-B6FE-9E36232B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2BC-D730-4666-9134-170D6ED7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6A2-7C1B-480E-99A0-C0C5D26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930-C974-4EA6-8936-7B2CFD1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2C304-D9A2-4E95-959A-D2F86CC9B4F2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12B21-78DF-4903-9ED3-A2AFF852B34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96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3120" y="46184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6040" y="25502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69800" y="2405160"/>
            <a:ext cx="8266320" cy="680760"/>
            <a:chOff x="469800" y="2405160"/>
            <a:chExt cx="8266320" cy="680760"/>
          </a:xfrm>
        </p:grpSpPr>
        <p:sp>
          <p:nvSpPr>
            <p:cNvPr id="91" name="Rectangle 5"/>
            <p:cNvSpPr/>
            <p:nvPr/>
          </p:nvSpPr>
          <p:spPr>
            <a:xfrm>
              <a:off x="469800" y="2405160"/>
              <a:ext cx="11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79160" y="3270240"/>
            <a:ext cx="8439480" cy="660240"/>
            <a:chOff x="479160" y="3270240"/>
            <a:chExt cx="8439480" cy="660240"/>
          </a:xfrm>
        </p:grpSpPr>
        <p:sp>
          <p:nvSpPr>
            <p:cNvPr id="94" name="Rectangle 6"/>
            <p:cNvSpPr/>
            <p:nvPr/>
          </p:nvSpPr>
          <p:spPr>
            <a:xfrm>
              <a:off x="479160" y="327024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3040" y="4357800"/>
            <a:ext cx="8445600" cy="704520"/>
            <a:chOff x="473040" y="4357800"/>
            <a:chExt cx="8445600" cy="704520"/>
          </a:xfrm>
        </p:grpSpPr>
        <p:sp>
          <p:nvSpPr>
            <p:cNvPr id="97" name="Rectangle 7"/>
            <p:cNvSpPr/>
            <p:nvPr/>
          </p:nvSpPr>
          <p:spPr>
            <a:xfrm>
              <a:off x="473040" y="43578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0880" y="5472000"/>
            <a:ext cx="8295120" cy="916920"/>
            <a:chOff x="470880" y="5472000"/>
            <a:chExt cx="8295120" cy="916920"/>
          </a:xfrm>
        </p:grpSpPr>
        <p:sp>
          <p:nvSpPr>
            <p:cNvPr id="100" name="Rectangle 8"/>
            <p:cNvSpPr/>
            <p:nvPr/>
          </p:nvSpPr>
          <p:spPr>
            <a:xfrm>
              <a:off x="470880" y="550224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b0505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f0d0c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51500"/>
              </a:gs>
              <a:gs pos="100000">
                <a:srgbClr val="8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Ricardo San Martin</cp:lastModifiedBy>
  <dcterms:modified xsi:type="dcterms:W3CDTF">2010-09-22T02:46:43Z</dcterms:modified>
  <cp:revision>3</cp:revision>
  <dc:subject/>
  <dc:title>Análisis Sectorial </dc:title>
</cp:coreProperties>
</file>