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6CA-FC33-4904-AA92-EF2BB19A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B05-0ED4-4FB6-96D6-291E3521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67C-3F75-4441-AF49-37DD43D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C34-8F80-4157-849E-4CF60419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F34-4280-4BBE-BA69-81C3A4F4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D0F-5E3D-4B47-B66E-8B4B1FCA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1F2-B87F-4D0E-9C05-B88D267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540-569E-4259-96E3-450A4A5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201-403E-437E-A1B9-0DA81CEA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18E-D179-428E-8BC1-71648B2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6BB-D97A-4A87-A062-BBC0301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234-7C5B-4C4A-A1CA-833030D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15F8-27E6-4F68-A91A-6991F78A2460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2F31-44C3-4E9E-B327-68ACE40C5A1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ormación Integral 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28760" y="2817720"/>
          <a:ext cx="8286480" cy="701640"/>
        </p:xfrm>
        <a:graphic>
          <a:graphicData uri="http://schemas.openxmlformats.org/drawingml/2006/table">
            <a:tbl>
              <a:tblPr/>
              <a:tblGrid>
                <a:gridCol w="1857240"/>
                <a:gridCol w="64292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Común Ingeniería Civ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dad Ingeniería Civil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28760" y="1000080"/>
          <a:ext cx="8286480" cy="39708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la Curricular Acadé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" name="6 Flecha abajo"/>
          <p:cNvSpPr/>
          <p:nvPr/>
        </p:nvSpPr>
        <p:spPr>
          <a:xfrm>
            <a:off x="2928960" y="1531800"/>
            <a:ext cx="3071880" cy="121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Te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Flecha arriba"/>
          <p:cNvSpPr/>
          <p:nvPr/>
        </p:nvSpPr>
        <p:spPr>
          <a:xfrm>
            <a:off x="3214800" y="3603600"/>
            <a:ext cx="2571480" cy="132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Rectángulo"/>
          <p:cNvSpPr/>
          <p:nvPr/>
        </p:nvSpPr>
        <p:spPr>
          <a:xfrm>
            <a:off x="2500200" y="564048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4562640" y="5640480"/>
            <a:ext cx="129528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1 Rectángulo"/>
          <p:cNvSpPr/>
          <p:nvPr/>
        </p:nvSpPr>
        <p:spPr>
          <a:xfrm>
            <a:off x="6491160" y="614052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alleres de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2 Rectángulo"/>
          <p:cNvSpPr/>
          <p:nvPr/>
        </p:nvSpPr>
        <p:spPr>
          <a:xfrm>
            <a:off x="6491160" y="514044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Rectángulo"/>
          <p:cNvSpPr/>
          <p:nvPr/>
        </p:nvSpPr>
        <p:spPr>
          <a:xfrm>
            <a:off x="2286000" y="5072040"/>
            <a:ext cx="5786280" cy="164304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Flecha derecha"/>
          <p:cNvSpPr/>
          <p:nvPr/>
        </p:nvSpPr>
        <p:spPr>
          <a:xfrm>
            <a:off x="3857760" y="578628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5 Flecha derecha"/>
          <p:cNvSpPr/>
          <p:nvPr/>
        </p:nvSpPr>
        <p:spPr>
          <a:xfrm rot="19303800">
            <a:off x="5784480" y="5435280"/>
            <a:ext cx="717480" cy="243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6 Flecha derecha"/>
          <p:cNvSpPr/>
          <p:nvPr/>
        </p:nvSpPr>
        <p:spPr>
          <a:xfrm rot="2280000">
            <a:off x="5784840" y="6062760"/>
            <a:ext cx="717480" cy="24264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7 Flecha arriba y abajo"/>
          <p:cNvSpPr/>
          <p:nvPr/>
        </p:nvSpPr>
        <p:spPr>
          <a:xfrm>
            <a:off x="7000920" y="5643720"/>
            <a:ext cx="214200" cy="500040"/>
          </a:xfrm>
          <a:prstGeom prst="upDown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CuadroTexto"/>
          <p:cNvSpPr/>
          <p:nvPr/>
        </p:nvSpPr>
        <p:spPr>
          <a:xfrm>
            <a:off x="6143760" y="1460520"/>
            <a:ext cx="214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rami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or Ana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o 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9 CuadroTexto"/>
          <p:cNvSpPr/>
          <p:nvPr/>
        </p:nvSpPr>
        <p:spPr>
          <a:xfrm>
            <a:off x="6072120" y="3506760"/>
            <a:ext cx="271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joramiento contin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 colabo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0 CuadroTexto"/>
          <p:cNvSpPr/>
          <p:nvPr/>
        </p:nvSpPr>
        <p:spPr>
          <a:xfrm>
            <a:off x="2214720" y="4191120"/>
            <a:ext cx="157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ltura Profesional de alto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Pasos para el Mejoramiento Contin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605040" y="110484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nálisi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605040" y="20145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2) Mirada sistémi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05040" y="29433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3) Identificar quie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y Análisis de 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05040" y="3867120"/>
            <a:ext cx="26816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4) Gener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05040" y="4700520"/>
            <a:ext cx="26816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5) Evalu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610080" y="5672160"/>
            <a:ext cx="2681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6) Implementación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olu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7143840" y="3500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otr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9 Flecha abajo"/>
          <p:cNvSpPr/>
          <p:nvPr/>
        </p:nvSpPr>
        <p:spPr>
          <a:xfrm>
            <a:off x="4543560" y="1771560"/>
            <a:ext cx="4856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0 Flecha abajo"/>
          <p:cNvSpPr/>
          <p:nvPr/>
        </p:nvSpPr>
        <p:spPr>
          <a:xfrm>
            <a:off x="4543560" y="448632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1 Flecha abajo"/>
          <p:cNvSpPr/>
          <p:nvPr/>
        </p:nvSpPr>
        <p:spPr>
          <a:xfrm>
            <a:off x="4543560" y="548640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2 Flecha abajo"/>
          <p:cNvSpPr/>
          <p:nvPr/>
        </p:nvSpPr>
        <p:spPr>
          <a:xfrm>
            <a:off x="4543560" y="36291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3 Flecha abajo"/>
          <p:cNvSpPr/>
          <p:nvPr/>
        </p:nvSpPr>
        <p:spPr>
          <a:xfrm>
            <a:off x="4543560" y="27003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4 Flecha curvada hacia arriba"/>
          <p:cNvSpPr/>
          <p:nvPr/>
        </p:nvSpPr>
        <p:spPr>
          <a:xfrm rot="16200000">
            <a:off x="4757400" y="2814480"/>
            <a:ext cx="5214960" cy="1785960"/>
          </a:xfrm>
          <a:custGeom>
            <a:avLst/>
            <a:gdLst>
              <a:gd name="textAreaLeft" fmla="*/ 1136160 w 5214960"/>
              <a:gd name="textAreaRight" fmla="*/ 3855240 w 5214960"/>
              <a:gd name="textAreaTop" fmla="*/ 239040 h 1785960"/>
              <a:gd name="textAreaBottom" fmla="*/ 15469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-3561224"/>
                <a:lnTo>
                  <a:pt x="21301" y="5400"/>
                </a:lnTo>
                <a:lnTo>
                  <a:pt x="19751" y="0"/>
                </a:lnTo>
                <a:lnTo>
                  <a:pt x="17602" y="5400"/>
                </a:lnTo>
                <a:lnTo>
                  <a:pt x="18527" y="5400"/>
                </a:lnTo>
                <a:arcTo wR="9413" hR="21600" stAng="1838776" swAng="3413462"/>
                <a:lnTo>
                  <a:pt x="10338" y="21496"/>
                </a:lnTo>
                <a:arcTo wR="9413" hR="21600" stAng="5547763" swAng="5252237"/>
                <a:close/>
              </a:path>
              <a:path fill="darkenLess"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147763"/>
                <a:lnTo>
                  <a:pt x="10338" y="21496"/>
                </a:lnTo>
                <a:arcTo wR="9413" hR="21600" stAng="5547763" swAng="525223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4240" y="496872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mplementar  lo diseñ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14240" y="318276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dentificar quiebres y selección de alternativas de solu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14240" y="135720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análisis sistémico y crítico durante la fase de diseño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8" name="68 Cheurón"/>
          <p:cNvSpPr/>
          <p:nvPr/>
        </p:nvSpPr>
        <p:spPr>
          <a:xfrm rot="10800000">
            <a:off x="3071520" y="1428480"/>
            <a:ext cx="500040" cy="92844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heurón"/>
          <p:cNvSpPr/>
          <p:nvPr/>
        </p:nvSpPr>
        <p:spPr>
          <a:xfrm rot="10800000">
            <a:off x="3071520" y="328608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0 Cheurón"/>
          <p:cNvSpPr/>
          <p:nvPr/>
        </p:nvSpPr>
        <p:spPr>
          <a:xfrm rot="10800000">
            <a:off x="3071520" y="507204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1 Elipse"/>
          <p:cNvSpPr/>
          <p:nvPr/>
        </p:nvSpPr>
        <p:spPr>
          <a:xfrm>
            <a:off x="214200" y="2643120"/>
            <a:ext cx="892980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CuadroTexto"/>
          <p:cNvSpPr/>
          <p:nvPr/>
        </p:nvSpPr>
        <p:spPr>
          <a:xfrm>
            <a:off x="428760" y="1285920"/>
            <a:ext cx="82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L finalizar el curso, el alumno(a) tendrá las competencia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dentificar, de manera clara y correcta, tanto quiebres como oportunidades frente a problemáticas actuales y de interés para una comunidad determi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eñar y evaluar, en ambientes colaborativos de aprendizaje, un conjunto de alternativas de solución que agreguen valor a la problemática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ructurar, en base a sus conocimientos y a la información generada, un marco teórico coherente con el quiebre det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terminar aquellas habilidades requeridas para materializar, de manera colaborativa, soluciones concretas que respondan a oportunidades det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ultados de Aprendizaje para el 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es Ejes Centrales de Aprendizaj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8 Flecha arriba"/>
          <p:cNvSpPr/>
          <p:nvPr/>
        </p:nvSpPr>
        <p:spPr>
          <a:xfrm>
            <a:off x="3214800" y="1285920"/>
            <a:ext cx="428400" cy="300024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9 Flecha derecha"/>
          <p:cNvSpPr/>
          <p:nvPr/>
        </p:nvSpPr>
        <p:spPr>
          <a:xfrm>
            <a:off x="3214800" y="4429080"/>
            <a:ext cx="3643200" cy="357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0 Flecha izquierda"/>
          <p:cNvSpPr/>
          <p:nvPr/>
        </p:nvSpPr>
        <p:spPr>
          <a:xfrm rot="19941000">
            <a:off x="775800" y="5072040"/>
            <a:ext cx="2857680" cy="357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1 CuadroTexto"/>
          <p:cNvSpPr/>
          <p:nvPr/>
        </p:nvSpPr>
        <p:spPr>
          <a:xfrm>
            <a:off x="3643200" y="2219400"/>
            <a:ext cx="1285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Tra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2 Elipse"/>
          <p:cNvSpPr/>
          <p:nvPr/>
        </p:nvSpPr>
        <p:spPr>
          <a:xfrm>
            <a:off x="3000240" y="4214880"/>
            <a:ext cx="92880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TII -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3 Triángulo isósceles"/>
          <p:cNvSpPr/>
          <p:nvPr/>
        </p:nvSpPr>
        <p:spPr>
          <a:xfrm rot="5400000">
            <a:off x="4786560" y="2464560"/>
            <a:ext cx="892080" cy="392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4 CuadroTexto"/>
          <p:cNvSpPr/>
          <p:nvPr/>
        </p:nvSpPr>
        <p:spPr>
          <a:xfrm>
            <a:off x="5572080" y="1000080"/>
            <a:ext cx="335772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frente a un trabajo prev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F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nto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aboración Marco 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o y evaluación de soluciones que crean 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ción procesos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786200" y="500076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ctura continu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Triángulo isósceles"/>
          <p:cNvSpPr/>
          <p:nvPr/>
        </p:nvSpPr>
        <p:spPr>
          <a:xfrm rot="10800000">
            <a:off x="5571720" y="5500440"/>
            <a:ext cx="893880" cy="393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7 Triángulo isósceles"/>
          <p:cNvSpPr/>
          <p:nvPr/>
        </p:nvSpPr>
        <p:spPr>
          <a:xfrm>
            <a:off x="1320840" y="3929040"/>
            <a:ext cx="893880" cy="393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357120" y="442908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arlas ex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9 CuadroTexto"/>
          <p:cNvSpPr/>
          <p:nvPr/>
        </p:nvSpPr>
        <p:spPr>
          <a:xfrm>
            <a:off x="4429080" y="5929200"/>
            <a:ext cx="3714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a las fases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mas contemporáneos de la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iteratura en inglé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0 CuadroTexto"/>
          <p:cNvSpPr/>
          <p:nvPr/>
        </p:nvSpPr>
        <p:spPr>
          <a:xfrm>
            <a:off x="500040" y="3000240"/>
            <a:ext cx="2571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cercamiento mundo profesional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xperienci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7120" y="928800"/>
          <a:ext cx="8572680" cy="5035320"/>
        </p:xfrm>
        <a:graphic>
          <a:graphicData uri="http://schemas.openxmlformats.org/drawingml/2006/table">
            <a:tbl>
              <a:tblPr/>
              <a:tblGrid>
                <a:gridCol w="1905120"/>
                <a:gridCol w="2595600"/>
                <a:gridCol w="4071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eg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Memorias 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sión crítica de  soluciones  ya desarrollada en el ámbito de la Ingeniería 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de En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los factores de éxito para una determinada industria o 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un quiebre (problema u oportunidad de negocio), las variables relevantes, las alternativas de solución y la selección de la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 de a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ón e informe de cier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l proceso de nego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9 Flecha arriba" descr=""/>
          <p:cNvPicPr/>
          <p:nvPr/>
        </p:nvPicPr>
        <p:blipFill>
          <a:blip r:embed="rId1"/>
          <a:stretch/>
        </p:blipFill>
        <p:spPr>
          <a:xfrm>
            <a:off x="2693880" y="1463760"/>
            <a:ext cx="3829320" cy="718920"/>
          </a:xfrm>
          <a:prstGeom prst="rect">
            <a:avLst/>
          </a:prstGeom>
          <a:ln w="0">
            <a:noFill/>
          </a:ln>
        </p:spPr>
      </p:pic>
      <p:sp>
        <p:nvSpPr>
          <p:cNvPr id="102" name="7 Elipse"/>
          <p:cNvSpPr/>
          <p:nvPr/>
        </p:nvSpPr>
        <p:spPr>
          <a:xfrm>
            <a:off x="6643800" y="1428840"/>
            <a:ext cx="2071440" cy="10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Propuestas concretas de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Pentágono"/>
          <p:cNvSpPr/>
          <p:nvPr/>
        </p:nvSpPr>
        <p:spPr>
          <a:xfrm>
            <a:off x="642960" y="2786040"/>
            <a:ext cx="1714320" cy="114300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2" y="0"/>
                </a:lnTo>
                <a:lnTo>
                  <a:pt x="21600" y="10800"/>
                </a:lnTo>
                <a:lnTo>
                  <a:pt x="175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Áreas de Interés de la 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Cheurón"/>
          <p:cNvSpPr/>
          <p:nvPr/>
        </p:nvSpPr>
        <p:spPr>
          <a:xfrm>
            <a:off x="242892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Detección de carencias  re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Cheurón"/>
          <p:cNvSpPr/>
          <p:nvPr/>
        </p:nvSpPr>
        <p:spPr>
          <a:xfrm>
            <a:off x="442908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Análisi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heurón"/>
          <p:cNvSpPr/>
          <p:nvPr/>
        </p:nvSpPr>
        <p:spPr>
          <a:xfrm>
            <a:off x="642924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eño de Propuesta de V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Elipse"/>
          <p:cNvSpPr/>
          <p:nvPr/>
        </p:nvSpPr>
        <p:spPr>
          <a:xfrm>
            <a:off x="571680" y="1357200"/>
            <a:ext cx="20001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Neces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2786040" y="1214280"/>
            <a:ext cx="32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cebir + Diseñ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642960" y="4071960"/>
            <a:ext cx="3214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35780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650088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Flecha abajo"/>
          <p:cNvSpPr/>
          <p:nvPr/>
        </p:nvSpPr>
        <p:spPr>
          <a:xfrm>
            <a:off x="1428840" y="4572000"/>
            <a:ext cx="157140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Flecha abajo"/>
          <p:cNvSpPr/>
          <p:nvPr/>
        </p:nvSpPr>
        <p:spPr>
          <a:xfrm>
            <a:off x="442908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Flecha abajo"/>
          <p:cNvSpPr/>
          <p:nvPr/>
        </p:nvSpPr>
        <p:spPr>
          <a:xfrm>
            <a:off x="657216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1 CuadroTexto"/>
          <p:cNvSpPr/>
          <p:nvPr/>
        </p:nvSpPr>
        <p:spPr>
          <a:xfrm>
            <a:off x="642960" y="5353200"/>
            <a:ext cx="3071880" cy="855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ón Bibliográ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yo del cuer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2 CuadroTexto"/>
          <p:cNvSpPr/>
          <p:nvPr/>
        </p:nvSpPr>
        <p:spPr>
          <a:xfrm>
            <a:off x="4286160" y="5357880"/>
            <a:ext cx="1857600" cy="109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vis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stadíst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3 CuadroTexto"/>
          <p:cNvSpPr/>
          <p:nvPr/>
        </p:nvSpPr>
        <p:spPr>
          <a:xfrm>
            <a:off x="6429240" y="5357880"/>
            <a:ext cx="1857600" cy="1067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ip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CuadroTexto"/>
          <p:cNvSpPr/>
          <p:nvPr/>
        </p:nvSpPr>
        <p:spPr>
          <a:xfrm>
            <a:off x="428760" y="1131840"/>
            <a:ext cx="821520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arrollo de Traba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en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la presentación de sus compañ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uniones con el equi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itore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 y presentación de cierre de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sión de informe a cargo de prof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presentación de sus compañer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cturas periód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oles de Le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licación de la lectura al proyect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icipación A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 evalu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ulación de preguntas a ser revisadas por el cuer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etodologías de Evalu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9:08:22Z</dcterms:created>
  <dc:creator>Juan</dc:creator>
  <dc:description/>
  <dc:language>en-US</dc:language>
  <cp:lastModifiedBy>Enrique Jofré Rojas</cp:lastModifiedBy>
  <dcterms:modified xsi:type="dcterms:W3CDTF">2010-08-10T19:32:20Z</dcterms:modified>
  <cp:revision>88</cp:revision>
  <dc:subject/>
  <dc:title>Departamento de Ingeniería Industrial FCFM - Universidad de Chile</dc:title>
</cp:coreProperties>
</file>