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33E-933B-48C2-A326-5BC0FE12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513-C7F4-4DE7-BD88-A59629FF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DAF3-3D3C-478C-8D3F-DC57726C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79C-0893-4E06-94EC-99E3156F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CCC-7184-442F-BD39-8D3F43DD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05E-C47A-4C6D-BFB5-FD58F82C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BD8-778A-421F-A724-81134272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C7EA-1A4B-4678-8160-7512F627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D64B-DCA3-4472-B715-7B66EFBD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98A-613A-458B-AF05-80F18643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7A97-D5C2-4348-902D-4CF63276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B03D-8A01-4E75-A3D3-A8ACDDD1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ED1D-9BFB-4EC6-80DF-26D30FFEC74D}" type="datetime">
              <a:rPr b="0" lang="es-C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6E6F-6F2D-4FD3-A804-82A47C66D34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Departamento de Ingeniería Industrial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FCFM - Universidad de Chi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Taller TII-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3 CuadroTexto"/>
          <p:cNvSpPr/>
          <p:nvPr/>
        </p:nvSpPr>
        <p:spPr>
          <a:xfrm>
            <a:off x="3786120" y="57862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ost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Formación Integral I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28760" y="2817720"/>
          <a:ext cx="8286480" cy="701640"/>
        </p:xfrm>
        <a:graphic>
          <a:graphicData uri="http://schemas.openxmlformats.org/drawingml/2006/table">
            <a:tbl>
              <a:tblPr/>
              <a:tblGrid>
                <a:gridCol w="1857240"/>
                <a:gridCol w="642924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 Común Ingeniería Civ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pecialidad Ingeniería Civil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28760" y="1000080"/>
          <a:ext cx="8286480" cy="397080"/>
        </p:xfrm>
        <a:graphic>
          <a:graphicData uri="http://schemas.openxmlformats.org/drawingml/2006/table">
            <a:tbl>
              <a:tblPr/>
              <a:tblGrid>
                <a:gridCol w="828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lla Curricular Académ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47" name="6 Flecha abajo"/>
          <p:cNvSpPr/>
          <p:nvPr/>
        </p:nvSpPr>
        <p:spPr>
          <a:xfrm>
            <a:off x="2928960" y="1531800"/>
            <a:ext cx="3071880" cy="1214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Formación Teó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Flecha arriba"/>
          <p:cNvSpPr/>
          <p:nvPr/>
        </p:nvSpPr>
        <p:spPr>
          <a:xfrm>
            <a:off x="3214800" y="3603600"/>
            <a:ext cx="2571480" cy="1325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Formación Prá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9 Rectángulo"/>
          <p:cNvSpPr/>
          <p:nvPr/>
        </p:nvSpPr>
        <p:spPr>
          <a:xfrm>
            <a:off x="2500200" y="5640480"/>
            <a:ext cx="129564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alibri"/>
              </a:rPr>
              <a:t>TI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0 Rectángulo"/>
          <p:cNvSpPr/>
          <p:nvPr/>
        </p:nvSpPr>
        <p:spPr>
          <a:xfrm>
            <a:off x="4562640" y="5640480"/>
            <a:ext cx="129528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alibri"/>
              </a:rPr>
              <a:t>TII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1 Rectángulo"/>
          <p:cNvSpPr/>
          <p:nvPr/>
        </p:nvSpPr>
        <p:spPr>
          <a:xfrm>
            <a:off x="6491160" y="6140520"/>
            <a:ext cx="129564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alibri"/>
              </a:rPr>
              <a:t>Talleres de Tí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2 Rectángulo"/>
          <p:cNvSpPr/>
          <p:nvPr/>
        </p:nvSpPr>
        <p:spPr>
          <a:xfrm>
            <a:off x="6491160" y="5140440"/>
            <a:ext cx="1295640" cy="50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alibri"/>
              </a:rPr>
              <a:t>TII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3 Rectángulo"/>
          <p:cNvSpPr/>
          <p:nvPr/>
        </p:nvSpPr>
        <p:spPr>
          <a:xfrm>
            <a:off x="2286000" y="5072040"/>
            <a:ext cx="5786280" cy="1643040"/>
          </a:xfrm>
          <a:prstGeom prst="rect">
            <a:avLst/>
          </a:pr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Flecha derecha"/>
          <p:cNvSpPr/>
          <p:nvPr/>
        </p:nvSpPr>
        <p:spPr>
          <a:xfrm>
            <a:off x="3857760" y="5786280"/>
            <a:ext cx="64296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5 Flecha derecha"/>
          <p:cNvSpPr/>
          <p:nvPr/>
        </p:nvSpPr>
        <p:spPr>
          <a:xfrm rot="19303800">
            <a:off x="5784480" y="5435280"/>
            <a:ext cx="717480" cy="24300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6 Flecha derecha"/>
          <p:cNvSpPr/>
          <p:nvPr/>
        </p:nvSpPr>
        <p:spPr>
          <a:xfrm rot="2280000">
            <a:off x="5784840" y="6062760"/>
            <a:ext cx="717480" cy="24264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7 Flecha arriba y abajo"/>
          <p:cNvSpPr/>
          <p:nvPr/>
        </p:nvSpPr>
        <p:spPr>
          <a:xfrm>
            <a:off x="7000920" y="5643720"/>
            <a:ext cx="214200" cy="500040"/>
          </a:xfrm>
          <a:prstGeom prst="upDownArrow">
            <a:avLst>
              <a:gd name="adj1" fmla="val 50000"/>
              <a:gd name="adj2" fmla="val 5002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8 CuadroTexto"/>
          <p:cNvSpPr/>
          <p:nvPr/>
        </p:nvSpPr>
        <p:spPr>
          <a:xfrm>
            <a:off x="6143760" y="1460520"/>
            <a:ext cx="2143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tajas Distin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ación bá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rramien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odolog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gor Analí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co Concep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9 CuadroTexto"/>
          <p:cNvSpPr/>
          <p:nvPr/>
        </p:nvSpPr>
        <p:spPr>
          <a:xfrm>
            <a:off x="6072120" y="3506760"/>
            <a:ext cx="2714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tajas Distin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joramiento contin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ción de 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es colabora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licación de cono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od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0 CuadroTexto"/>
          <p:cNvSpPr/>
          <p:nvPr/>
        </p:nvSpPr>
        <p:spPr>
          <a:xfrm>
            <a:off x="2214720" y="4191120"/>
            <a:ext cx="157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ultura Profesional de alto Desemp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Pasos para el Mejoramiento Continu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605040" y="1104840"/>
            <a:ext cx="26816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nálisis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605040" y="2014560"/>
            <a:ext cx="26816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2) Mirada sistémica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605040" y="2943360"/>
            <a:ext cx="268164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3) Identificar quieb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y Análisis de cau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605040" y="3867120"/>
            <a:ext cx="26816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4) Gener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605040" y="4700520"/>
            <a:ext cx="26816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5) Evalua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Altern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610080" y="5672160"/>
            <a:ext cx="26812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(6) Implementación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Times New Roman"/>
              </a:rPr>
              <a:t>Solu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7143840" y="3500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alibri"/>
              </a:rPr>
              <a:t>Mejo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alibri"/>
              </a:rPr>
              <a:t>otra m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9 Flecha abajo"/>
          <p:cNvSpPr/>
          <p:nvPr/>
        </p:nvSpPr>
        <p:spPr>
          <a:xfrm>
            <a:off x="4543560" y="1771560"/>
            <a:ext cx="48564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60 Flecha abajo"/>
          <p:cNvSpPr/>
          <p:nvPr/>
        </p:nvSpPr>
        <p:spPr>
          <a:xfrm>
            <a:off x="4543560" y="4486320"/>
            <a:ext cx="4856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61 Flecha abajo"/>
          <p:cNvSpPr/>
          <p:nvPr/>
        </p:nvSpPr>
        <p:spPr>
          <a:xfrm>
            <a:off x="4543560" y="5486400"/>
            <a:ext cx="4856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2 Flecha abajo"/>
          <p:cNvSpPr/>
          <p:nvPr/>
        </p:nvSpPr>
        <p:spPr>
          <a:xfrm>
            <a:off x="4543560" y="3629160"/>
            <a:ext cx="4856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63 Flecha abajo"/>
          <p:cNvSpPr/>
          <p:nvPr/>
        </p:nvSpPr>
        <p:spPr>
          <a:xfrm>
            <a:off x="4543560" y="2700360"/>
            <a:ext cx="4856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64 Flecha curvada hacia arriba"/>
          <p:cNvSpPr/>
          <p:nvPr/>
        </p:nvSpPr>
        <p:spPr>
          <a:xfrm rot="16200000">
            <a:off x="4757400" y="2814480"/>
            <a:ext cx="5214960" cy="1785960"/>
          </a:xfrm>
          <a:custGeom>
            <a:avLst/>
            <a:gdLst>
              <a:gd name="textAreaLeft" fmla="*/ 1136160 w 5214960"/>
              <a:gd name="textAreaRight" fmla="*/ 3855240 w 5214960"/>
              <a:gd name="textAreaTop" fmla="*/ 239040 h 1785960"/>
              <a:gd name="textAreaBottom" fmla="*/ 154692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13" hR="21600" stAng="10800000" swAng="-5400000"/>
                <a:lnTo>
                  <a:pt x="11262" y="21600"/>
                </a:lnTo>
                <a:arcTo wR="9413" hR="21600" stAng="5400000" swAng="-3561224"/>
                <a:lnTo>
                  <a:pt x="21301" y="5400"/>
                </a:lnTo>
                <a:lnTo>
                  <a:pt x="19751" y="0"/>
                </a:lnTo>
                <a:lnTo>
                  <a:pt x="17602" y="5400"/>
                </a:lnTo>
                <a:lnTo>
                  <a:pt x="18527" y="5400"/>
                </a:lnTo>
                <a:arcTo wR="9413" hR="21600" stAng="1838776" swAng="3413462"/>
                <a:lnTo>
                  <a:pt x="10338" y="21496"/>
                </a:lnTo>
                <a:arcTo wR="9413" hR="21600" stAng="5547763" swAng="5252237"/>
                <a:close/>
              </a:path>
              <a:path fill="darkenLess" w="21600" h="21600">
                <a:moveTo>
                  <a:pt x="0" y="0"/>
                </a:moveTo>
                <a:arcTo wR="9413" hR="21600" stAng="10800000" swAng="-5400000"/>
                <a:lnTo>
                  <a:pt x="11262" y="21600"/>
                </a:lnTo>
                <a:arcTo wR="9413" hR="21600" stAng="5400000" swAng="147763"/>
                <a:lnTo>
                  <a:pt x="10338" y="21496"/>
                </a:lnTo>
                <a:arcTo wR="9413" hR="21600" stAng="5547763" swAng="5252237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14240" y="4968720"/>
          <a:ext cx="2262240" cy="1103400"/>
        </p:xfrm>
        <a:graphic>
          <a:graphicData uri="http://schemas.openxmlformats.org/drawingml/2006/table">
            <a:tbl>
              <a:tblPr/>
              <a:tblGrid>
                <a:gridCol w="226224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ler TII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dades de Implementar  lo diseñ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14240" y="3182760"/>
          <a:ext cx="2262240" cy="1103400"/>
        </p:xfrm>
        <a:graphic>
          <a:graphicData uri="http://schemas.openxmlformats.org/drawingml/2006/table">
            <a:tbl>
              <a:tblPr/>
              <a:tblGrid>
                <a:gridCol w="226224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ler TII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dades de identificar quiebres y selección de alternativas de solució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714240" y="1357200"/>
          <a:ext cx="2262240" cy="1103400"/>
        </p:xfrm>
        <a:graphic>
          <a:graphicData uri="http://schemas.openxmlformats.org/drawingml/2006/table">
            <a:tbl>
              <a:tblPr/>
              <a:tblGrid>
                <a:gridCol w="2262240"/>
              </a:tblGrid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ller TII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dades de análisis sistémico y crítico durante la fase de diseño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78" name="68 Cheurón"/>
          <p:cNvSpPr/>
          <p:nvPr/>
        </p:nvSpPr>
        <p:spPr>
          <a:xfrm rot="10800000">
            <a:off x="3071520" y="1428480"/>
            <a:ext cx="500040" cy="928440"/>
          </a:xfrm>
          <a:custGeom>
            <a:avLst/>
            <a:gdLst>
              <a:gd name="textAreaLeft" fmla="*/ 0 w 500040"/>
              <a:gd name="textAreaRight" fmla="*/ 500400 w 50004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69 Cheurón"/>
          <p:cNvSpPr/>
          <p:nvPr/>
        </p:nvSpPr>
        <p:spPr>
          <a:xfrm rot="10800000">
            <a:off x="3071520" y="3286080"/>
            <a:ext cx="500040" cy="928800"/>
          </a:xfrm>
          <a:custGeom>
            <a:avLst/>
            <a:gdLst>
              <a:gd name="textAreaLeft" fmla="*/ 0 w 500040"/>
              <a:gd name="textAreaRight" fmla="*/ 500400 w 5000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0 Cheurón"/>
          <p:cNvSpPr/>
          <p:nvPr/>
        </p:nvSpPr>
        <p:spPr>
          <a:xfrm rot="10800000">
            <a:off x="3071520" y="5072040"/>
            <a:ext cx="500040" cy="928800"/>
          </a:xfrm>
          <a:custGeom>
            <a:avLst/>
            <a:gdLst>
              <a:gd name="textAreaLeft" fmla="*/ 0 w 500040"/>
              <a:gd name="textAreaRight" fmla="*/ 500400 w 5000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21 Elipse"/>
          <p:cNvSpPr/>
          <p:nvPr/>
        </p:nvSpPr>
        <p:spPr>
          <a:xfrm>
            <a:off x="214200" y="2643120"/>
            <a:ext cx="8929800" cy="2143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9 CuadroTexto"/>
          <p:cNvSpPr/>
          <p:nvPr/>
        </p:nvSpPr>
        <p:spPr>
          <a:xfrm>
            <a:off x="428760" y="1285920"/>
            <a:ext cx="82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AL finalizar el curso, el alumno(a) tendrá las competencias par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Identificar, de manera clara y correcta, tanto quiebres como oportunidades frente a problemáticas actuales y de interés para una comunidad determin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iseñar y evaluar, en ambientes colaborativos de aprendizaje, un conjunto de alternativas de solución que agreguen valor a la problemática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structurar, en base a sus conocimientos y a la información generada, un marco teórico coherente con el quiebre detec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Determinar aquellas habilidades requeridas para materializar, de manera colaborativa, soluciones concretas que respondan a oportunidades detect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Resultados de Aprendizaje para el Tall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Tres Ejes Centrales de Aprendizaj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18 Flecha arriba"/>
          <p:cNvSpPr/>
          <p:nvPr/>
        </p:nvSpPr>
        <p:spPr>
          <a:xfrm>
            <a:off x="3214800" y="1285920"/>
            <a:ext cx="428400" cy="300024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9 Flecha derecha"/>
          <p:cNvSpPr/>
          <p:nvPr/>
        </p:nvSpPr>
        <p:spPr>
          <a:xfrm>
            <a:off x="3214800" y="4429080"/>
            <a:ext cx="3643200" cy="35712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0 Flecha izquierda"/>
          <p:cNvSpPr/>
          <p:nvPr/>
        </p:nvSpPr>
        <p:spPr>
          <a:xfrm rot="19941000">
            <a:off x="775800" y="5072040"/>
            <a:ext cx="2857680" cy="35712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1 CuadroTexto"/>
          <p:cNvSpPr/>
          <p:nvPr/>
        </p:nvSpPr>
        <p:spPr>
          <a:xfrm>
            <a:off x="3643200" y="2219400"/>
            <a:ext cx="1285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rrollo de Traba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22 Elipse"/>
          <p:cNvSpPr/>
          <p:nvPr/>
        </p:nvSpPr>
        <p:spPr>
          <a:xfrm>
            <a:off x="3000240" y="4214880"/>
            <a:ext cx="928800" cy="785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Calibri"/>
              </a:rPr>
              <a:t>TII -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23 Triángulo isósceles"/>
          <p:cNvSpPr/>
          <p:nvPr/>
        </p:nvSpPr>
        <p:spPr>
          <a:xfrm rot="5400000">
            <a:off x="4786560" y="2464560"/>
            <a:ext cx="892080" cy="3920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24 CuadroTexto"/>
          <p:cNvSpPr/>
          <p:nvPr/>
        </p:nvSpPr>
        <p:spPr>
          <a:xfrm>
            <a:off x="5572080" y="1000080"/>
            <a:ext cx="3357720" cy="325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ª F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álisis crítico frente a un trabajo previo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ª Fas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álisis de entor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aboración Marco Concep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ª F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eño y evaluación de soluciones que crean val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ción procesos de nego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25 CuadroTexto"/>
          <p:cNvSpPr/>
          <p:nvPr/>
        </p:nvSpPr>
        <p:spPr>
          <a:xfrm>
            <a:off x="4786200" y="5000760"/>
            <a:ext cx="2428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ctura continu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6 Triángulo isósceles"/>
          <p:cNvSpPr/>
          <p:nvPr/>
        </p:nvSpPr>
        <p:spPr>
          <a:xfrm rot="10800000">
            <a:off x="5571720" y="5500440"/>
            <a:ext cx="893880" cy="3934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7 Triángulo isósceles"/>
          <p:cNvSpPr/>
          <p:nvPr/>
        </p:nvSpPr>
        <p:spPr>
          <a:xfrm>
            <a:off x="1320840" y="3929040"/>
            <a:ext cx="893880" cy="3938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8 CuadroTexto"/>
          <p:cNvSpPr/>
          <p:nvPr/>
        </p:nvSpPr>
        <p:spPr>
          <a:xfrm>
            <a:off x="357120" y="4429080"/>
            <a:ext cx="2428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arlas exposi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29 CuadroTexto"/>
          <p:cNvSpPr/>
          <p:nvPr/>
        </p:nvSpPr>
        <p:spPr>
          <a:xfrm>
            <a:off x="4429080" y="5929200"/>
            <a:ext cx="371484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poyo a las fases d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emas contemporáneos de la 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iteratura en inglés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0 CuadroTexto"/>
          <p:cNvSpPr/>
          <p:nvPr/>
        </p:nvSpPr>
        <p:spPr>
          <a:xfrm>
            <a:off x="500040" y="3000240"/>
            <a:ext cx="2571840" cy="82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cercamiento mundo profesional 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xperienci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Desarrollo de Proyectos 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57120" y="928800"/>
          <a:ext cx="8572680" cy="5035320"/>
        </p:xfrm>
        <a:graphic>
          <a:graphicData uri="http://schemas.openxmlformats.org/drawingml/2006/table">
            <a:tbl>
              <a:tblPr/>
              <a:tblGrid>
                <a:gridCol w="1905120"/>
                <a:gridCol w="2595600"/>
                <a:gridCol w="4071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tiv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regab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E I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is Memorias 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sión crítica de  soluciones  ya desarrollada en el ámbito de la Ingeniería Indus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 F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E II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is de Entor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ar los factores de éxito para una determinada industria o contex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e F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SE III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eño de Propuesta de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ar un quiebre (problema u oportunidad de negocio), las variables relevantes, las alternativas de solución y la selección de la propuesta de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ciones de av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ción e informe de cier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eño del proceso de nego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Desarrollo de Proyectos 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19 Flecha arriba" descr=""/>
          <p:cNvPicPr/>
          <p:nvPr/>
        </p:nvPicPr>
        <p:blipFill>
          <a:blip r:embed="rId1"/>
          <a:stretch/>
        </p:blipFill>
        <p:spPr>
          <a:xfrm>
            <a:off x="2693880" y="1463760"/>
            <a:ext cx="3829320" cy="718920"/>
          </a:xfrm>
          <a:prstGeom prst="rect">
            <a:avLst/>
          </a:prstGeom>
          <a:ln w="0">
            <a:noFill/>
          </a:ln>
        </p:spPr>
      </p:pic>
      <p:sp>
        <p:nvSpPr>
          <p:cNvPr id="102" name="7 Elipse"/>
          <p:cNvSpPr/>
          <p:nvPr/>
        </p:nvSpPr>
        <p:spPr>
          <a:xfrm>
            <a:off x="6643800" y="1428840"/>
            <a:ext cx="2071440" cy="1000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Propuestas concretas de s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Pentágono"/>
          <p:cNvSpPr/>
          <p:nvPr/>
        </p:nvSpPr>
        <p:spPr>
          <a:xfrm>
            <a:off x="642960" y="2786040"/>
            <a:ext cx="1714320" cy="1143000"/>
          </a:xfrm>
          <a:custGeom>
            <a:avLst/>
            <a:gdLst>
              <a:gd name="textAreaLeft" fmla="*/ 0 w 1714320"/>
              <a:gd name="textAreaRight" fmla="*/ 1714680 w 17143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52" y="0"/>
                </a:lnTo>
                <a:lnTo>
                  <a:pt x="21600" y="10800"/>
                </a:lnTo>
                <a:lnTo>
                  <a:pt x="1755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Áreas de Interés de la 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9 Cheurón"/>
          <p:cNvSpPr/>
          <p:nvPr/>
        </p:nvSpPr>
        <p:spPr>
          <a:xfrm>
            <a:off x="2428920" y="2786040"/>
            <a:ext cx="1785960" cy="11430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4" y="0"/>
                </a:lnTo>
                <a:lnTo>
                  <a:pt x="21600" y="10800"/>
                </a:lnTo>
                <a:lnTo>
                  <a:pt x="17714" y="21600"/>
                </a:lnTo>
                <a:lnTo>
                  <a:pt x="0" y="21600"/>
                </a:lnTo>
                <a:lnTo>
                  <a:pt x="3886" y="108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Detección de carencias  re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0 Cheurón"/>
          <p:cNvSpPr/>
          <p:nvPr/>
        </p:nvSpPr>
        <p:spPr>
          <a:xfrm>
            <a:off x="4429080" y="2786040"/>
            <a:ext cx="1785960" cy="11430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4" y="0"/>
                </a:lnTo>
                <a:lnTo>
                  <a:pt x="21600" y="10800"/>
                </a:lnTo>
                <a:lnTo>
                  <a:pt x="17714" y="21600"/>
                </a:lnTo>
                <a:lnTo>
                  <a:pt x="0" y="21600"/>
                </a:lnTo>
                <a:lnTo>
                  <a:pt x="3886" y="108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Análisis de Ent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1 Cheurón"/>
          <p:cNvSpPr/>
          <p:nvPr/>
        </p:nvSpPr>
        <p:spPr>
          <a:xfrm>
            <a:off x="6429240" y="2786040"/>
            <a:ext cx="1785960" cy="11430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4" y="0"/>
                </a:lnTo>
                <a:lnTo>
                  <a:pt x="21600" y="10800"/>
                </a:lnTo>
                <a:lnTo>
                  <a:pt x="17714" y="21600"/>
                </a:lnTo>
                <a:lnTo>
                  <a:pt x="0" y="21600"/>
                </a:lnTo>
                <a:lnTo>
                  <a:pt x="3886" y="10800"/>
                </a:lnTo>
                <a:close/>
              </a:path>
            </a:pathLst>
          </a:custGeom>
          <a:solidFill>
            <a:srgbClr val="ddd9c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seño de Propuesta de Va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2 Elipse"/>
          <p:cNvSpPr/>
          <p:nvPr/>
        </p:nvSpPr>
        <p:spPr>
          <a:xfrm>
            <a:off x="571680" y="1357200"/>
            <a:ext cx="2000160" cy="1000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alibri"/>
              </a:rPr>
              <a:t>Neces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3 CuadroTexto"/>
          <p:cNvSpPr/>
          <p:nvPr/>
        </p:nvSpPr>
        <p:spPr>
          <a:xfrm>
            <a:off x="2786040" y="1214280"/>
            <a:ext cx="328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ncebir + Diseñ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4 CuadroTexto"/>
          <p:cNvSpPr/>
          <p:nvPr/>
        </p:nvSpPr>
        <p:spPr>
          <a:xfrm>
            <a:off x="642960" y="4071960"/>
            <a:ext cx="32148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5 CuadroTexto"/>
          <p:cNvSpPr/>
          <p:nvPr/>
        </p:nvSpPr>
        <p:spPr>
          <a:xfrm>
            <a:off x="4357800" y="4071960"/>
            <a:ext cx="17143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ase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6 CuadroTexto"/>
          <p:cNvSpPr/>
          <p:nvPr/>
        </p:nvSpPr>
        <p:spPr>
          <a:xfrm>
            <a:off x="6500880" y="4071960"/>
            <a:ext cx="17143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Fas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7 Flecha abajo"/>
          <p:cNvSpPr/>
          <p:nvPr/>
        </p:nvSpPr>
        <p:spPr>
          <a:xfrm>
            <a:off x="1428840" y="4572000"/>
            <a:ext cx="1571400" cy="642960"/>
          </a:xfrm>
          <a:prstGeom prst="downArrow">
            <a:avLst>
              <a:gd name="adj1" fmla="val 50000"/>
              <a:gd name="adj2" fmla="val 78046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8 Flecha abajo"/>
          <p:cNvSpPr/>
          <p:nvPr/>
        </p:nvSpPr>
        <p:spPr>
          <a:xfrm>
            <a:off x="4429080" y="4572000"/>
            <a:ext cx="1571760" cy="642960"/>
          </a:xfrm>
          <a:prstGeom prst="downArrow">
            <a:avLst>
              <a:gd name="adj1" fmla="val 50000"/>
              <a:gd name="adj2" fmla="val 78046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20 Flecha abajo"/>
          <p:cNvSpPr/>
          <p:nvPr/>
        </p:nvSpPr>
        <p:spPr>
          <a:xfrm>
            <a:off x="6572160" y="4572000"/>
            <a:ext cx="1571760" cy="642960"/>
          </a:xfrm>
          <a:prstGeom prst="downArrow">
            <a:avLst>
              <a:gd name="adj1" fmla="val 50000"/>
              <a:gd name="adj2" fmla="val 78046"/>
            </a:avLst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21 CuadroTexto"/>
          <p:cNvSpPr/>
          <p:nvPr/>
        </p:nvSpPr>
        <p:spPr>
          <a:xfrm>
            <a:off x="642960" y="5353200"/>
            <a:ext cx="3071880" cy="855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álisis Crí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sión Bibliográ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oyo del cuerpo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22 CuadroTexto"/>
          <p:cNvSpPr/>
          <p:nvPr/>
        </p:nvSpPr>
        <p:spPr>
          <a:xfrm>
            <a:off x="4286160" y="5357880"/>
            <a:ext cx="1857600" cy="10983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evist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chmark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álisis de Estadístic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23 CuadroTexto"/>
          <p:cNvSpPr/>
          <p:nvPr/>
        </p:nvSpPr>
        <p:spPr>
          <a:xfrm>
            <a:off x="6429240" y="5357880"/>
            <a:ext cx="1857600" cy="1067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tip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amie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9 CuadroTexto"/>
          <p:cNvSpPr/>
          <p:nvPr/>
        </p:nvSpPr>
        <p:spPr>
          <a:xfrm>
            <a:off x="428760" y="1131840"/>
            <a:ext cx="8215200" cy="60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arrollo de Trabaj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senta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umnos evalúan la presentación de sus compañ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uniones con el equipo do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itoreo contin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formes  y presentación de cierre de mód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visión de informe a cargo de profe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umnos evalúan presentación de sus compañero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cturas periód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troles de Le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plicación de la lectura al proyecto del cu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ticipación Acti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ist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ol  evaluad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mulación de preguntas a ser revisadas por el cuerpo do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Metodologías de Evalu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Departamento de Ingeniería Industrial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Calibri"/>
              </a:rPr>
              <a:t>FCFM - Universidad de Chi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Taller TII-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CuadroTexto"/>
          <p:cNvSpPr/>
          <p:nvPr/>
        </p:nvSpPr>
        <p:spPr>
          <a:xfrm>
            <a:off x="3786120" y="57862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osto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19:08:22Z</dcterms:created>
  <dc:creator>Juan</dc:creator>
  <dc:description/>
  <dc:language>en-US</dc:language>
  <cp:lastModifiedBy>Enrique Jofré Rojas</cp:lastModifiedBy>
  <dcterms:modified xsi:type="dcterms:W3CDTF">2010-08-10T19:32:20Z</dcterms:modified>
  <cp:revision>88</cp:revision>
  <dc:subject/>
  <dc:title>Departamento de Ingeniería Industrial FCFM - Universidad de Chile</dc:title>
</cp:coreProperties>
</file>