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FC8-89BE-4E77-98DC-A16E993C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075-3A24-4555-9A4E-FC2C7A3D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44E-73CD-41EC-BB47-15085F44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9D2-4B73-46E5-96D3-E6911CA8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88A-AD43-4C99-B7CF-B66B703F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442-629E-4090-A412-B587AC7D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A4F-B0AF-4E95-9A0F-5CC26714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B7B-1C47-443C-B424-BDED6783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D1C-5092-44FA-9FEC-14FF05A9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CEE-5B44-401B-AA1C-8B4713D8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9FF-8302-4F41-969C-367ACE9E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49A-4F7A-49B0-8EEA-A5D7D329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5130-EAC1-464D-BC57-F1B20099104F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A14F-5A1A-4B66-A414-78EB4EB0A0B5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Departamento de Ingeniería Industrial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FCFM - Universidad de Chi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Taller TII-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CuadroTexto"/>
          <p:cNvSpPr/>
          <p:nvPr/>
        </p:nvSpPr>
        <p:spPr>
          <a:xfrm>
            <a:off x="3786120" y="57862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ost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Formación Integral I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28760" y="2817720"/>
          <a:ext cx="8286480" cy="701640"/>
        </p:xfrm>
        <a:graphic>
          <a:graphicData uri="http://schemas.openxmlformats.org/drawingml/2006/table">
            <a:tbl>
              <a:tblPr/>
              <a:tblGrid>
                <a:gridCol w="1857240"/>
                <a:gridCol w="642924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 Común Ingeniería Civ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ecialidad Ingeniería Civil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28760" y="1000080"/>
          <a:ext cx="8286480" cy="397080"/>
        </p:xfrm>
        <a:graphic>
          <a:graphicData uri="http://schemas.openxmlformats.org/drawingml/2006/table">
            <a:tbl>
              <a:tblPr/>
              <a:tblGrid>
                <a:gridCol w="828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lla Curricular Académ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7" name="6 Flecha abajo"/>
          <p:cNvSpPr/>
          <p:nvPr/>
        </p:nvSpPr>
        <p:spPr>
          <a:xfrm>
            <a:off x="2928960" y="1531800"/>
            <a:ext cx="3071880" cy="1214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Formación Teó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Flecha arriba"/>
          <p:cNvSpPr/>
          <p:nvPr/>
        </p:nvSpPr>
        <p:spPr>
          <a:xfrm>
            <a:off x="3214800" y="3603600"/>
            <a:ext cx="2571480" cy="132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Formación Pr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9 Rectángulo"/>
          <p:cNvSpPr/>
          <p:nvPr/>
        </p:nvSpPr>
        <p:spPr>
          <a:xfrm>
            <a:off x="2500200" y="5640480"/>
            <a:ext cx="129564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alibri"/>
              </a:rPr>
              <a:t>TI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0 Rectángulo"/>
          <p:cNvSpPr/>
          <p:nvPr/>
        </p:nvSpPr>
        <p:spPr>
          <a:xfrm>
            <a:off x="4562640" y="5640480"/>
            <a:ext cx="129528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alibri"/>
              </a:rPr>
              <a:t>TII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1 Rectángulo"/>
          <p:cNvSpPr/>
          <p:nvPr/>
        </p:nvSpPr>
        <p:spPr>
          <a:xfrm>
            <a:off x="6491160" y="6140520"/>
            <a:ext cx="129564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alibri"/>
              </a:rPr>
              <a:t>Talleres de Tí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2 Rectángulo"/>
          <p:cNvSpPr/>
          <p:nvPr/>
        </p:nvSpPr>
        <p:spPr>
          <a:xfrm>
            <a:off x="6491160" y="5140440"/>
            <a:ext cx="129564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alibri"/>
              </a:rPr>
              <a:t>TII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3 Rectángulo"/>
          <p:cNvSpPr/>
          <p:nvPr/>
        </p:nvSpPr>
        <p:spPr>
          <a:xfrm>
            <a:off x="2286000" y="5072040"/>
            <a:ext cx="5786280" cy="164304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Flecha derecha"/>
          <p:cNvSpPr/>
          <p:nvPr/>
        </p:nvSpPr>
        <p:spPr>
          <a:xfrm>
            <a:off x="3857760" y="578628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5 Flecha derecha"/>
          <p:cNvSpPr/>
          <p:nvPr/>
        </p:nvSpPr>
        <p:spPr>
          <a:xfrm rot="19303800">
            <a:off x="5784480" y="5435280"/>
            <a:ext cx="717480" cy="2430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6 Flecha derecha"/>
          <p:cNvSpPr/>
          <p:nvPr/>
        </p:nvSpPr>
        <p:spPr>
          <a:xfrm rot="2280000">
            <a:off x="5784840" y="6062760"/>
            <a:ext cx="717480" cy="24264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7 Flecha arriba y abajo"/>
          <p:cNvSpPr/>
          <p:nvPr/>
        </p:nvSpPr>
        <p:spPr>
          <a:xfrm>
            <a:off x="7000920" y="5643720"/>
            <a:ext cx="214200" cy="500040"/>
          </a:xfrm>
          <a:prstGeom prst="upDownArrow">
            <a:avLst>
              <a:gd name="adj1" fmla="val 50000"/>
              <a:gd name="adj2" fmla="val 5002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8 CuadroTexto"/>
          <p:cNvSpPr/>
          <p:nvPr/>
        </p:nvSpPr>
        <p:spPr>
          <a:xfrm>
            <a:off x="6143760" y="1460520"/>
            <a:ext cx="2143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tajas Distin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ción bá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rrami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odolog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gor Ana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o Concep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9 CuadroTexto"/>
          <p:cNvSpPr/>
          <p:nvPr/>
        </p:nvSpPr>
        <p:spPr>
          <a:xfrm>
            <a:off x="6072120" y="3506760"/>
            <a:ext cx="2714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tajas Distin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joramiento contin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ción de 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es colabor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licación de 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od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0 CuadroTexto"/>
          <p:cNvSpPr/>
          <p:nvPr/>
        </p:nvSpPr>
        <p:spPr>
          <a:xfrm>
            <a:off x="2214720" y="4191120"/>
            <a:ext cx="157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ultura Profesional de alto 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Pasos para el Mejoramiento Continu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605040" y="1104840"/>
            <a:ext cx="26816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nálisis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605040" y="2014560"/>
            <a:ext cx="26816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2) Mirada sistémic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605040" y="2943360"/>
            <a:ext cx="26816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3) Identificar quieb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y Análisis de cau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605040" y="3867120"/>
            <a:ext cx="26816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4) Gener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605040" y="4700520"/>
            <a:ext cx="26816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5) Evalu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610080" y="5672160"/>
            <a:ext cx="2681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6) Implementación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Solu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7143840" y="3500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alibri"/>
              </a:rPr>
              <a:t>Mejo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alibri"/>
              </a:rPr>
              <a:t>otra m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9 Flecha abajo"/>
          <p:cNvSpPr/>
          <p:nvPr/>
        </p:nvSpPr>
        <p:spPr>
          <a:xfrm>
            <a:off x="4543560" y="1771560"/>
            <a:ext cx="48564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60 Flecha abajo"/>
          <p:cNvSpPr/>
          <p:nvPr/>
        </p:nvSpPr>
        <p:spPr>
          <a:xfrm>
            <a:off x="4543560" y="4486320"/>
            <a:ext cx="4856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61 Flecha abajo"/>
          <p:cNvSpPr/>
          <p:nvPr/>
        </p:nvSpPr>
        <p:spPr>
          <a:xfrm>
            <a:off x="4543560" y="5486400"/>
            <a:ext cx="4856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2 Flecha abajo"/>
          <p:cNvSpPr/>
          <p:nvPr/>
        </p:nvSpPr>
        <p:spPr>
          <a:xfrm>
            <a:off x="4543560" y="3629160"/>
            <a:ext cx="4856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63 Flecha abajo"/>
          <p:cNvSpPr/>
          <p:nvPr/>
        </p:nvSpPr>
        <p:spPr>
          <a:xfrm>
            <a:off x="4543560" y="2700360"/>
            <a:ext cx="4856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64 Flecha curvada hacia arriba"/>
          <p:cNvSpPr/>
          <p:nvPr/>
        </p:nvSpPr>
        <p:spPr>
          <a:xfrm rot="16200000">
            <a:off x="4757400" y="2814480"/>
            <a:ext cx="5214960" cy="1785960"/>
          </a:xfrm>
          <a:custGeom>
            <a:avLst/>
            <a:gdLst>
              <a:gd name="textAreaLeft" fmla="*/ 1136160 w 5214960"/>
              <a:gd name="textAreaRight" fmla="*/ 3855240 w 5214960"/>
              <a:gd name="textAreaTop" fmla="*/ 239040 h 1785960"/>
              <a:gd name="textAreaBottom" fmla="*/ 154692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13" hR="21600" stAng="10800000" swAng="-5400000"/>
                <a:lnTo>
                  <a:pt x="11262" y="21600"/>
                </a:lnTo>
                <a:arcTo wR="9413" hR="21600" stAng="5400000" swAng="-3561224"/>
                <a:lnTo>
                  <a:pt x="21301" y="5400"/>
                </a:lnTo>
                <a:lnTo>
                  <a:pt x="19751" y="0"/>
                </a:lnTo>
                <a:lnTo>
                  <a:pt x="17602" y="5400"/>
                </a:lnTo>
                <a:lnTo>
                  <a:pt x="18527" y="5400"/>
                </a:lnTo>
                <a:arcTo wR="9413" hR="21600" stAng="1838776" swAng="3413462"/>
                <a:lnTo>
                  <a:pt x="10338" y="21496"/>
                </a:lnTo>
                <a:arcTo wR="9413" hR="21600" stAng="5547763" swAng="5252237"/>
                <a:close/>
              </a:path>
              <a:path fill="darkenLess" w="21600" h="21600">
                <a:moveTo>
                  <a:pt x="0" y="0"/>
                </a:moveTo>
                <a:arcTo wR="9413" hR="21600" stAng="10800000" swAng="-5400000"/>
                <a:lnTo>
                  <a:pt x="11262" y="21600"/>
                </a:lnTo>
                <a:arcTo wR="9413" hR="21600" stAng="5400000" swAng="147763"/>
                <a:lnTo>
                  <a:pt x="10338" y="21496"/>
                </a:lnTo>
                <a:arcTo wR="9413" hR="21600" stAng="5547763" swAng="525223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14240" y="4968720"/>
          <a:ext cx="2262240" cy="1103400"/>
        </p:xfrm>
        <a:graphic>
          <a:graphicData uri="http://schemas.openxmlformats.org/drawingml/2006/table">
            <a:tbl>
              <a:tblPr/>
              <a:tblGrid>
                <a:gridCol w="226224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ler TII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dades de Implementar  lo diseñ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14240" y="3182760"/>
          <a:ext cx="2262240" cy="1103400"/>
        </p:xfrm>
        <a:graphic>
          <a:graphicData uri="http://schemas.openxmlformats.org/drawingml/2006/table">
            <a:tbl>
              <a:tblPr/>
              <a:tblGrid>
                <a:gridCol w="226224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ler TII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dades de identificar quiebres y selección de alternativas de solució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714240" y="1357200"/>
          <a:ext cx="2262240" cy="1103400"/>
        </p:xfrm>
        <a:graphic>
          <a:graphicData uri="http://schemas.openxmlformats.org/drawingml/2006/table">
            <a:tbl>
              <a:tblPr/>
              <a:tblGrid>
                <a:gridCol w="226224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ler TII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dades de análisis sistémico y crítico durante la fase de diseño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78" name="68 Cheurón"/>
          <p:cNvSpPr/>
          <p:nvPr/>
        </p:nvSpPr>
        <p:spPr>
          <a:xfrm rot="10800000">
            <a:off x="3071520" y="1428480"/>
            <a:ext cx="500040" cy="928440"/>
          </a:xfrm>
          <a:custGeom>
            <a:avLst/>
            <a:gdLst>
              <a:gd name="textAreaLeft" fmla="*/ 0 w 500040"/>
              <a:gd name="textAreaRight" fmla="*/ 500400 w 50004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69 Cheurón"/>
          <p:cNvSpPr/>
          <p:nvPr/>
        </p:nvSpPr>
        <p:spPr>
          <a:xfrm rot="10800000">
            <a:off x="3071520" y="3286080"/>
            <a:ext cx="500040" cy="928800"/>
          </a:xfrm>
          <a:custGeom>
            <a:avLst/>
            <a:gdLst>
              <a:gd name="textAreaLeft" fmla="*/ 0 w 500040"/>
              <a:gd name="textAreaRight" fmla="*/ 500400 w 5000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0 Cheurón"/>
          <p:cNvSpPr/>
          <p:nvPr/>
        </p:nvSpPr>
        <p:spPr>
          <a:xfrm rot="10800000">
            <a:off x="3071520" y="5072040"/>
            <a:ext cx="500040" cy="928800"/>
          </a:xfrm>
          <a:custGeom>
            <a:avLst/>
            <a:gdLst>
              <a:gd name="textAreaLeft" fmla="*/ 0 w 500040"/>
              <a:gd name="textAreaRight" fmla="*/ 500400 w 5000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21 Elipse"/>
          <p:cNvSpPr/>
          <p:nvPr/>
        </p:nvSpPr>
        <p:spPr>
          <a:xfrm>
            <a:off x="214200" y="2643120"/>
            <a:ext cx="8929800" cy="2143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9 CuadroTexto"/>
          <p:cNvSpPr/>
          <p:nvPr/>
        </p:nvSpPr>
        <p:spPr>
          <a:xfrm>
            <a:off x="428760" y="1285920"/>
            <a:ext cx="82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L finalizar el curso, el alumno(a) tendrá las competencias par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dentificar, de manera clara y correcta, tanto quiebres como oportunidades frente a problemáticas actuales y de interés para una comunidad determin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eñar y evaluar, en ambientes colaborativos de aprendizaje, un conjunto de alternativas de solución que agreguen valor a la problemática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tructurar, en base a sus conocimientos y a la información generada, un marco teórico coherente con el quiebre detec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eterminar aquellas habilidades requeridas para materializar, de manera colaborativa, soluciones concretas que respondan a oportunidades detect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Resultados de Aprendizaje para el Tal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Tres Ejes Centrales de Aprendizaj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18 Flecha arriba"/>
          <p:cNvSpPr/>
          <p:nvPr/>
        </p:nvSpPr>
        <p:spPr>
          <a:xfrm>
            <a:off x="3214800" y="1285920"/>
            <a:ext cx="428400" cy="300024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9 Flecha derecha"/>
          <p:cNvSpPr/>
          <p:nvPr/>
        </p:nvSpPr>
        <p:spPr>
          <a:xfrm>
            <a:off x="3214800" y="4429080"/>
            <a:ext cx="3643200" cy="3571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0 Flecha izquierda"/>
          <p:cNvSpPr/>
          <p:nvPr/>
        </p:nvSpPr>
        <p:spPr>
          <a:xfrm rot="19941000">
            <a:off x="775800" y="5072040"/>
            <a:ext cx="2857680" cy="35712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1 CuadroTexto"/>
          <p:cNvSpPr/>
          <p:nvPr/>
        </p:nvSpPr>
        <p:spPr>
          <a:xfrm>
            <a:off x="3643200" y="2219400"/>
            <a:ext cx="1285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 Traba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2 Elipse"/>
          <p:cNvSpPr/>
          <p:nvPr/>
        </p:nvSpPr>
        <p:spPr>
          <a:xfrm>
            <a:off x="3000240" y="4214880"/>
            <a:ext cx="92880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alibri"/>
              </a:rPr>
              <a:t>TII -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23 Triángulo isósceles"/>
          <p:cNvSpPr/>
          <p:nvPr/>
        </p:nvSpPr>
        <p:spPr>
          <a:xfrm rot="5400000">
            <a:off x="4786560" y="2464560"/>
            <a:ext cx="892080" cy="3920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24 CuadroTexto"/>
          <p:cNvSpPr/>
          <p:nvPr/>
        </p:nvSpPr>
        <p:spPr>
          <a:xfrm>
            <a:off x="5572080" y="1000080"/>
            <a:ext cx="3357720" cy="325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ª F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álisis crítico frente a un trabajo previ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ª Fas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álisis de entor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aboración Marco Concep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ª F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ño y evaluación de soluciones que crean va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ción procesos de nego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25 CuadroTexto"/>
          <p:cNvSpPr/>
          <p:nvPr/>
        </p:nvSpPr>
        <p:spPr>
          <a:xfrm>
            <a:off x="4786200" y="5000760"/>
            <a:ext cx="2428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ctura continu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6 Triángulo isósceles"/>
          <p:cNvSpPr/>
          <p:nvPr/>
        </p:nvSpPr>
        <p:spPr>
          <a:xfrm rot="10800000">
            <a:off x="5571720" y="5500440"/>
            <a:ext cx="893880" cy="3934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7 Triángulo isósceles"/>
          <p:cNvSpPr/>
          <p:nvPr/>
        </p:nvSpPr>
        <p:spPr>
          <a:xfrm>
            <a:off x="1320840" y="3929040"/>
            <a:ext cx="893880" cy="3938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8 CuadroTexto"/>
          <p:cNvSpPr/>
          <p:nvPr/>
        </p:nvSpPr>
        <p:spPr>
          <a:xfrm>
            <a:off x="357120" y="4429080"/>
            <a:ext cx="2428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arlas exposi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9 CuadroTexto"/>
          <p:cNvSpPr/>
          <p:nvPr/>
        </p:nvSpPr>
        <p:spPr>
          <a:xfrm>
            <a:off x="4429080" y="5929200"/>
            <a:ext cx="371484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a las fases d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mas contemporáneos de la 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iteratura en inglés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0 CuadroTexto"/>
          <p:cNvSpPr/>
          <p:nvPr/>
        </p:nvSpPr>
        <p:spPr>
          <a:xfrm>
            <a:off x="500040" y="3000240"/>
            <a:ext cx="257184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cercamiento mundo profesional 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xperienci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Desarrollo de Proyectos 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57120" y="928800"/>
          <a:ext cx="8572680" cy="5035320"/>
        </p:xfrm>
        <a:graphic>
          <a:graphicData uri="http://schemas.openxmlformats.org/drawingml/2006/table">
            <a:tbl>
              <a:tblPr/>
              <a:tblGrid>
                <a:gridCol w="1905120"/>
                <a:gridCol w="2595600"/>
                <a:gridCol w="4071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tiv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regab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E I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is Memorias 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sión crítica de  soluciones  ya desarrollada en el ámbito de la Ingeniería Indus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 F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E II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is de Ent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ar los factores de éxito para una determinada industria o contex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 F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E III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eño de Propuesta de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r un quiebre (problema u oportunidad de negocio), las variables relevantes, las alternativas de solución y la selección de la propuesta de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ciones de av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ción e informe de cier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eño del proceso de nego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Desarrollo de Proyectos 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19 Flecha arriba" descr=""/>
          <p:cNvPicPr/>
          <p:nvPr/>
        </p:nvPicPr>
        <p:blipFill>
          <a:blip r:embed="rId1"/>
          <a:stretch/>
        </p:blipFill>
        <p:spPr>
          <a:xfrm>
            <a:off x="2693880" y="1463760"/>
            <a:ext cx="3829320" cy="718920"/>
          </a:xfrm>
          <a:prstGeom prst="rect">
            <a:avLst/>
          </a:prstGeom>
          <a:ln w="0">
            <a:noFill/>
          </a:ln>
        </p:spPr>
      </p:pic>
      <p:sp>
        <p:nvSpPr>
          <p:cNvPr id="102" name="7 Elipse"/>
          <p:cNvSpPr/>
          <p:nvPr/>
        </p:nvSpPr>
        <p:spPr>
          <a:xfrm>
            <a:off x="6643800" y="1428840"/>
            <a:ext cx="2071440" cy="1000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Propuestas concretas de s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Pentágono"/>
          <p:cNvSpPr/>
          <p:nvPr/>
        </p:nvSpPr>
        <p:spPr>
          <a:xfrm>
            <a:off x="642960" y="2786040"/>
            <a:ext cx="1714320" cy="1143000"/>
          </a:xfrm>
          <a:custGeom>
            <a:avLst/>
            <a:gdLst>
              <a:gd name="textAreaLeft" fmla="*/ 0 w 1714320"/>
              <a:gd name="textAreaRight" fmla="*/ 1714680 w 17143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52" y="0"/>
                </a:lnTo>
                <a:lnTo>
                  <a:pt x="21600" y="10800"/>
                </a:lnTo>
                <a:lnTo>
                  <a:pt x="175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Áreas de Interés de la 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9 Cheurón"/>
          <p:cNvSpPr/>
          <p:nvPr/>
        </p:nvSpPr>
        <p:spPr>
          <a:xfrm>
            <a:off x="2428920" y="2786040"/>
            <a:ext cx="1785960" cy="11430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4" y="0"/>
                </a:lnTo>
                <a:lnTo>
                  <a:pt x="21600" y="10800"/>
                </a:lnTo>
                <a:lnTo>
                  <a:pt x="17714" y="21600"/>
                </a:lnTo>
                <a:lnTo>
                  <a:pt x="0" y="21600"/>
                </a:lnTo>
                <a:lnTo>
                  <a:pt x="3886" y="10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Detección de carencias  re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0 Cheurón"/>
          <p:cNvSpPr/>
          <p:nvPr/>
        </p:nvSpPr>
        <p:spPr>
          <a:xfrm>
            <a:off x="4429080" y="2786040"/>
            <a:ext cx="1785960" cy="11430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4" y="0"/>
                </a:lnTo>
                <a:lnTo>
                  <a:pt x="21600" y="10800"/>
                </a:lnTo>
                <a:lnTo>
                  <a:pt x="17714" y="21600"/>
                </a:lnTo>
                <a:lnTo>
                  <a:pt x="0" y="21600"/>
                </a:lnTo>
                <a:lnTo>
                  <a:pt x="3886" y="10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Análisis de 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1 Cheurón"/>
          <p:cNvSpPr/>
          <p:nvPr/>
        </p:nvSpPr>
        <p:spPr>
          <a:xfrm>
            <a:off x="6429240" y="2786040"/>
            <a:ext cx="1785960" cy="11430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4" y="0"/>
                </a:lnTo>
                <a:lnTo>
                  <a:pt x="21600" y="10800"/>
                </a:lnTo>
                <a:lnTo>
                  <a:pt x="17714" y="21600"/>
                </a:lnTo>
                <a:lnTo>
                  <a:pt x="0" y="21600"/>
                </a:lnTo>
                <a:lnTo>
                  <a:pt x="3886" y="10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seño de Propuesta de Va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2 Elipse"/>
          <p:cNvSpPr/>
          <p:nvPr/>
        </p:nvSpPr>
        <p:spPr>
          <a:xfrm>
            <a:off x="571680" y="1357200"/>
            <a:ext cx="200016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Neces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3 CuadroTexto"/>
          <p:cNvSpPr/>
          <p:nvPr/>
        </p:nvSpPr>
        <p:spPr>
          <a:xfrm>
            <a:off x="2786040" y="1214280"/>
            <a:ext cx="328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ncebir + Diseñ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4 CuadroTexto"/>
          <p:cNvSpPr/>
          <p:nvPr/>
        </p:nvSpPr>
        <p:spPr>
          <a:xfrm>
            <a:off x="642960" y="4071960"/>
            <a:ext cx="3214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5 CuadroTexto"/>
          <p:cNvSpPr/>
          <p:nvPr/>
        </p:nvSpPr>
        <p:spPr>
          <a:xfrm>
            <a:off x="4357800" y="4071960"/>
            <a:ext cx="17143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as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6 CuadroTexto"/>
          <p:cNvSpPr/>
          <p:nvPr/>
        </p:nvSpPr>
        <p:spPr>
          <a:xfrm>
            <a:off x="6500880" y="4071960"/>
            <a:ext cx="17143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as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7 Flecha abajo"/>
          <p:cNvSpPr/>
          <p:nvPr/>
        </p:nvSpPr>
        <p:spPr>
          <a:xfrm>
            <a:off x="1428840" y="4572000"/>
            <a:ext cx="1571400" cy="642960"/>
          </a:xfrm>
          <a:prstGeom prst="downArrow">
            <a:avLst>
              <a:gd name="adj1" fmla="val 50000"/>
              <a:gd name="adj2" fmla="val 78046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8 Flecha abajo"/>
          <p:cNvSpPr/>
          <p:nvPr/>
        </p:nvSpPr>
        <p:spPr>
          <a:xfrm>
            <a:off x="4429080" y="4572000"/>
            <a:ext cx="1571760" cy="642960"/>
          </a:xfrm>
          <a:prstGeom prst="downArrow">
            <a:avLst>
              <a:gd name="adj1" fmla="val 50000"/>
              <a:gd name="adj2" fmla="val 78046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20 Flecha abajo"/>
          <p:cNvSpPr/>
          <p:nvPr/>
        </p:nvSpPr>
        <p:spPr>
          <a:xfrm>
            <a:off x="6572160" y="4572000"/>
            <a:ext cx="1571760" cy="642960"/>
          </a:xfrm>
          <a:prstGeom prst="downArrow">
            <a:avLst>
              <a:gd name="adj1" fmla="val 50000"/>
              <a:gd name="adj2" fmla="val 78046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1 CuadroTexto"/>
          <p:cNvSpPr/>
          <p:nvPr/>
        </p:nvSpPr>
        <p:spPr>
          <a:xfrm>
            <a:off x="642960" y="5353200"/>
            <a:ext cx="3071880" cy="855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álisis Crí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ión Bibliográ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yo del cuerpo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22 CuadroTexto"/>
          <p:cNvSpPr/>
          <p:nvPr/>
        </p:nvSpPr>
        <p:spPr>
          <a:xfrm>
            <a:off x="4286160" y="5357880"/>
            <a:ext cx="1857600" cy="10983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vis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álisis de Estadístic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3 CuadroTexto"/>
          <p:cNvSpPr/>
          <p:nvPr/>
        </p:nvSpPr>
        <p:spPr>
          <a:xfrm>
            <a:off x="6429240" y="5357880"/>
            <a:ext cx="1857600" cy="1067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ip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CuadroTexto"/>
          <p:cNvSpPr/>
          <p:nvPr/>
        </p:nvSpPr>
        <p:spPr>
          <a:xfrm>
            <a:off x="428760" y="1131840"/>
            <a:ext cx="8215200" cy="60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arrollo de Trabaj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sent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umnos evalúan la presentación de sus compañ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uniones con el equipo do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itoreo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es  y presentación de cierre de mód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sión de informe a cargo de profe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umnos evalúan presentación de sus compañero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cturas periód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troles de Le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licación de la lectura al proyecto del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ticipación A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ist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  evalu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mulación de preguntas a ser revisadas por el cuerpo do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Metodologías de Evalu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Departamento de Ingeniería Industrial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FCFM - Universidad de Chi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Taller TII-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CuadroTexto"/>
          <p:cNvSpPr/>
          <p:nvPr/>
        </p:nvSpPr>
        <p:spPr>
          <a:xfrm>
            <a:off x="3786120" y="57862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ost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19:08:22Z</dcterms:created>
  <dc:creator>Juan</dc:creator>
  <dc:description/>
  <dc:language>en-US</dc:language>
  <cp:lastModifiedBy>Enrique Jofré Rojas</cp:lastModifiedBy>
  <dcterms:modified xsi:type="dcterms:W3CDTF">2010-08-10T19:32:20Z</dcterms:modified>
  <cp:revision>88</cp:revision>
  <dc:subject/>
  <dc:title>Departamento de Ingeniería Industrial FCFM - Universidad de Chile</dc:title>
</cp:coreProperties>
</file>