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6D44D-C1C2-4836-B415-2002D4BCD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56776-DDED-4E3C-A0E5-F7E120549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8AE97B3-7F01-4D04-AB6E-038DA9F1642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63709EF-B0A4-4CC9-BA6C-501DD202FF6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43187D9-062C-4285-96AA-FFFB42D4CEE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E50285A-FF8F-45C1-9743-726D62C9D6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2AB7CD9-7FA3-4C2F-947B-469947EA15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ADD76F4-9AD3-49A8-9250-9211740FA4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461B094-7F93-44FE-9965-8B92BB2C6AE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515750F-A064-4B62-A67C-740497957BA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1D822FE-794D-4310-A4C3-EF2452E3F81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ABC7962-F5D8-465A-999B-700E80AADE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A0BD5-FDCB-4167-9B45-90147500E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368561E-E00B-4B6E-A73A-04FD94D0E9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BC352FB-4D11-431A-9CC2-49C31D8B42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EDA7DB9-CD3D-4A2F-A6A7-A8405B53E7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CA29194-6004-4587-8DB9-F4162C8F35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0145AAE-1C0D-4787-8A80-AF7AC195B8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9B1FA3-1C83-4511-B814-CB220FCD26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5DF86EB-EB61-4049-8B3F-9B00B84392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3800FAB-339F-4A05-8DC8-3FC796033B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EE22F18-4CD7-4CEC-B745-1575EC81CC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0641739-5946-4878-B574-BA7D768C47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E1FD7-580B-4950-909C-A813D9E27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1D9378B-5CAA-4031-9509-11CB094805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160DA9-1BEB-4E0F-8396-C07341F0BE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B26954-CB81-4127-9463-7C623707F4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069905-DEA0-4775-90DA-AF20FF322B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40879C-7CD6-4102-9189-F21F518152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B08B06-BC12-49D3-88B3-C0A98C032E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BB7E43-DDDB-4CDF-83A6-5B5C92D582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649509-D90E-48AC-8340-E2B18CACB5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1670CD-1529-4A0B-8A6F-3236772CCA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005378-9391-4767-A303-BA89CA7119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D7573-F2A7-47DA-9B58-80C49B4E9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1BD320-5232-486A-AA44-7B3F9F7907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0298DE4-628C-41B5-AA16-3EE80FB7A8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2CC1E9-7089-4717-9DF9-C2493833F5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34C1D83-2A3C-425D-988B-07378857A1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2F18403-170D-4571-AA51-F1F2A20917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E229F33-225E-44BD-AA39-FBB514DA40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B9490A1-C611-427F-8EB8-AA1257EEBE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2ADB1B0-3B55-4277-A00F-76F6FD922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A3915AE-7E5A-4135-9698-CCE015AD2F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38E97A7-3EEA-490F-933A-9AF59F4808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B5520-CFDA-4A8A-941F-6F9D98EDB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68C9BA5-0F16-4E7A-960E-244B5F91AD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729B419-295A-4C1C-9910-A86AE87610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D977C73-5161-4E0F-BC1D-9884BAE7E1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8E6DD41-55BB-4539-997B-23196BEFFB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7900147-0D75-4102-86C0-16D472E4C8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20D1B2C-0B73-481F-A314-FB62521CD9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0DBA7F-5BF4-45DC-90B5-EC8B23E6B4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2F1E0C-A8CF-4886-803B-96933EFF05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221A63-3E21-4990-8AA5-38B04792E2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041F66-4F65-4C1A-896B-D1DEF9B686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1DE43-0CD4-4423-9C4B-BF2D97DD1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B18471-9359-4FA8-96EF-6F5388C8B9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D31BAA-D73F-490F-9BB2-6F8F12AB1A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79D55E-7CB4-43F2-92A9-05766E36AA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C3F548-EA29-4301-98C3-92EF3D540B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F0F5BD-845C-4C74-A70B-FB2E47A1E7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DF30880-FED6-4844-BB1E-92A5E147B82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311659F-F1F4-4CA1-BF0B-3E8FDE739E4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08E2A-DEBA-48F5-9975-D2BC0BFE4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0EF4D-8555-4638-82CA-0B5AF9453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FB154-796B-41EB-B6D8-5F1F93020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145F5-8439-41F2-BFCA-876BD14EB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8F5E9-631A-4E17-A9E3-670AA9C5F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D6647-6EE1-4D5A-95A5-059995E0F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74357-497E-4021-A719-46AD43670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939F3-A984-4D2F-8A78-22749E5DC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7888D5-28EC-4C39-BA20-42DD8F708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2784F-8A5E-46DD-9CEF-2F9E2666A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7571D2-3387-49C0-ADEF-C058371FC7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92203-DAB7-4BA4-B24A-996CD15DA5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F59B6-CC56-4AE6-B0F9-A5BDB5035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D4804C-B352-48F9-9677-DB7BE0D393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9098F9-5F3F-4D5D-A4F2-1C15CF02EC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E82AE-1D31-4715-8AC5-7C77AB759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624E6E-C3EE-4B0F-8B80-C78F85926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BA2EA-A184-4447-856B-931A304DC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8D5D3-569F-40D4-B49F-DDE54C52B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172BB-B3CD-4F41-BF3B-E39176974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D51B68-5D00-44FC-AB06-C0ADFE12A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84BD99-4308-41C8-9697-F0CFF397F3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D5EF3F-4051-4F46-9649-F39E206CA2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CA13B73-D0C3-45C5-A55A-45BC2B50587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447F833-A5BA-40F6-9021-08D0A339B2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AF84D66-2006-4657-854B-5723C30BAD2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8EC3D-FE86-48D6-A399-776924990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C4CC163-791B-4D97-A33D-A64BEEE6F6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A00EA47-4BD5-4B76-A9F4-3B7A0C5152F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BE96F40-10C7-4172-88F2-ED457BCCB66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A4FD4C5-C57E-42B3-AB0B-2A804E00D3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F2EFC3F-39B6-41D3-9B07-2361DD0A08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B5F24D2-B858-4888-9CEE-3CAF4F58D8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2A2FE74-3F51-44AC-BB98-973C8B8080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71FE863-B860-4541-88A3-6C0049F27F2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713E731-0DAB-4775-8462-E7FA67432DA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B21C7E-E117-4875-B572-09734729CB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71C1F-AA78-4FF9-9322-57895BDAB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330D3-EE7A-408E-B32A-E6FBFD654C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F4D21-0D88-4F4C-AC77-576C5FF892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303AF-7F43-4F96-8573-E84F0F59F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D2CC7-4F95-40F5-AE15-AF5955E54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7E1266-0405-43FA-B818-11981579B4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57FE9-40DA-4A51-926F-78F91B6761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57FB0C-2D76-453C-B72E-016F93B16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2E8E4-AF6E-4252-9F81-E870D1507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7ACF52-6D26-4201-9C1F-357CC83D0F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58DC3C-06A8-4E46-87A8-4F29F9E8C7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7B17D-E843-4A9E-882A-29468DE26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C462E8-C84B-460C-8682-5B684687D5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35B360-C0DB-46AE-B203-746E2A4303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ADA40B-33D1-416E-96CB-BC037BBCC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C41B2E-B4F0-45B2-A004-22D106742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E778F-5A97-4650-8EA5-562A73472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048B01-733E-4B43-B673-9572CCFD3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904272-FE49-4DBF-8D33-CAF6FFCE8D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15A52F-A67B-4CDB-9984-7C48C0ED7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B9685D-A1C6-4DDF-ACCF-D377F53F2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63B7B-3BAF-45C7-8A69-D23F33499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BA479-B2BE-4769-9C5D-C678BA701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4E415F-3C74-4ACE-89C7-39A1E9BD8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F1D788-94D8-4C43-8EEA-8A20E0E3E8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C36F00-B34E-4409-9F25-DD03D937A9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39793F-8479-4633-B674-C8F929BEC7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8FDD8C-B261-4BF8-9AE3-FA073F0F98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8CED49-F9A9-4348-B006-F2A6FB3261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565A05-6C41-4A8E-B51C-62C17925EA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0CF248-6E72-49BB-85CF-5D82C3DD8D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AD8141-0F08-4831-BD4D-4ED8422D49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C3BF6-6126-4D35-B5BD-190B4D35D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0AF0F-C890-4816-90C2-B8B50FF35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E64AB-4FAB-463F-A860-964A7D49FF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E3C307-1466-499B-9799-2B7EBA909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1DA4D6-2CAE-41C4-9119-5E5A00E4EE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B54640-F94F-48FB-9B55-CEC620C720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B9E1E3-1006-448C-ADD5-F84FFCDFE7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113840-FDB6-487D-AD4D-EE892DEA09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C649C2-E6F0-4142-9B81-EA1932B091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B7C10A-2FB4-4A95-8ECF-2A65F163BD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AC62D2-5770-484E-AE05-BC8724BC6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0E0706-9F95-4733-9E4C-7FE44AC8FD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95A57-012E-4378-9F95-0C37C784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92478A-835B-477E-AED5-94B8DC3E1F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2397B7-F323-415A-8494-66C482FB4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62C52A-619A-48FF-890B-6B9142608F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A5766F-91EA-49A0-9EA3-1FF38B7B76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BF27DD-F297-483E-A246-4B16AFD3D7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52E948-AFF9-4E90-B682-90BE4102FF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AFDF9F-F1BB-4906-87E3-29C659E2D7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B242206-39DD-485B-8D10-BA9484971B1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640DF91-BCB1-43BA-A58E-AFAE66029F0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09F5A86-E824-4C33-99B7-F5BB0779EFE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15D3-1931-4B4A-AC66-E43E8487AB03}"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A617-2CD6-4F90-BAFC-DF10AE50F3BF}"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E449-6FC8-4131-AD80-882993A717DD}"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5035-9E85-4F55-B87A-D50658BE9017}"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61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6553080" y="6248520"/>
            <a:ext cx="1905120" cy="4572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89FC-BA1F-44B1-86F7-A73A041B2F8C}"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72ED-F3BB-4FE7-A23B-448E841C8331}"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AD05-3A6B-409D-8E73-3D019A301D13}"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2FE0-F6BE-4A5B-AC09-4E43CD4E6AB6}"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F124-7B67-46D7-BC02-439836D24963}"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41A6-8622-4D63-B692-6739D19B0672}"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5EC5-3AAF-46F1-9361-AEE266C8B5BC}"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C8E7-6BDC-4C95-8B33-2D1C27C5C514}" type="slidenum">
              <a:rPr b="0" lang="es-ES_trad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A1CD-235A-4D1B-A6E6-2209B0A54DFA}"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324000" y="4149720"/>
            <a:ext cx="8229600" cy="240336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CENTRO DE ECONOMÍA APLICADA</a:t>
            </a:r>
            <a:endParaRPr b="0" lang="en-US" sz="1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DEPARTAMENTO DE INGENIERÍA INDUSTRIAL</a:t>
            </a:r>
            <a:endParaRPr b="0" lang="en-US" sz="1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UNIVERSIDAD DE CHILE</a:t>
            </a:r>
            <a:endParaRPr b="0" lang="en-US" sz="1400" spc="-1" strike="noStrike">
              <a:solidFill>
                <a:srgbClr val="000000"/>
              </a:solidFill>
              <a:latin typeface="Calibri"/>
            </a:endParaRPr>
          </a:p>
        </p:txBody>
      </p:sp>
      <p:sp>
        <p:nvSpPr>
          <p:cNvPr id="657" name="PlaceHolder 2"/>
          <p:cNvSpPr>
            <a:spLocks noGrp="1"/>
          </p:cNvSpPr>
          <p:nvPr>
            <p:ph type="title"/>
          </p:nvPr>
        </p:nvSpPr>
        <p:spPr>
          <a:xfrm>
            <a:off x="380520" y="22093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endParaRPr b="0" lang="en-US" sz="3800" spc="-1" strike="noStrike">
              <a:solidFill>
                <a:srgbClr val="7b9899"/>
              </a:solidFill>
              <a:latin typeface="Calibri"/>
            </a:endParaRPr>
          </a:p>
        </p:txBody>
      </p:sp>
      <p:sp>
        <p:nvSpPr>
          <p:cNvPr id="658" name="Rectangle 5"/>
          <p:cNvSpPr/>
          <p:nvPr/>
        </p:nvSpPr>
        <p:spPr>
          <a:xfrm>
            <a:off x="685800" y="792000"/>
            <a:ext cx="7772400" cy="21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16349"/>
                </a:solidFill>
                <a:latin typeface="Calibri"/>
              </a:rPr>
              <a:t>SISTEMA NACIONAL DE EVALUACIÓN DE DESEMPEÑO DE LOS ESTABLECIMIENTOS SUBVENCIONADOS, SN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9" name="Picture 8" descr="logo_dii"/>
          <p:cNvPicPr/>
          <p:nvPr/>
        </p:nvPicPr>
        <p:blipFill>
          <a:blip r:embed="rId1"/>
          <a:srcRect l="12774" t="10878" r="11905" b="22050"/>
          <a:stretch/>
        </p:blipFill>
        <p:spPr>
          <a:xfrm>
            <a:off x="560520" y="260280"/>
            <a:ext cx="2968560" cy="793800"/>
          </a:xfrm>
          <a:prstGeom prst="rect">
            <a:avLst/>
          </a:prstGeom>
          <a:ln w="0">
            <a:noFill/>
          </a:ln>
        </p:spPr>
      </p:pic>
      <p:graphicFrame>
        <p:nvGraphicFramePr>
          <p:cNvPr id="660" name="Object 9"/>
          <p:cNvGraphicFramePr/>
          <p:nvPr/>
        </p:nvGraphicFramePr>
        <p:xfrm>
          <a:off x="7361280" y="228600"/>
          <a:ext cx="1387440" cy="1387440"/>
        </p:xfrm>
        <a:graphic>
          <a:graphicData uri="http://schemas.openxmlformats.org/presentationml/2006/ole">
            <p:oleObj r:id="rId2" spid="">
              <p:embed/>
              <p:pic>
                <p:nvPicPr>
                  <p:cNvPr id="661" name="Object 9" descr=""/>
                  <p:cNvPicPr/>
                  <p:nvPr/>
                </p:nvPicPr>
                <p:blipFill>
                  <a:blip r:embed="rId3"/>
                  <a:stretch/>
                </p:blipFill>
                <p:spPr>
                  <a:xfrm>
                    <a:off x="7361280" y="228600"/>
                    <a:ext cx="1387440" cy="13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Ficha y Encuesta SNED</a:t>
            </a:r>
            <a:endParaRPr b="0" lang="en-US" sz="2800" spc="-1" strike="noStrike">
              <a:solidFill>
                <a:srgbClr val="000000"/>
              </a:solidFill>
              <a:latin typeface="Times New Roman"/>
            </a:endParaRPr>
          </a:p>
        </p:txBody>
      </p:sp>
      <p:sp>
        <p:nvSpPr>
          <p:cNvPr id="704" name="Rectangle 3"/>
          <p:cNvSpPr/>
          <p:nvPr/>
        </p:nvSpPr>
        <p:spPr>
          <a:xfrm>
            <a:off x="576360" y="1557360"/>
            <a:ext cx="7991280" cy="53006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SNED corresponde a un cuestionario que es respondido por el Director de cada establecimiento subvencionado.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cluye aquellos temas de interés para la construcción de indicadores que componen el Índice SNED.</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SNED aplica distintas preguntas según el Tipo de Establecimiento, es una estratificación ad-hoc diseñada solamente a propósito de la Ficha.</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válida la información respondida por los establecimientos y mide indicadores de los  factores: Iniciativa e Igualdad de Oportunidades.</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corresponde a la Ficha SNED validada por los DEPROV y preguntas relativas a sanciones indebidas y prácticas discriminatoria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7b9899"/>
                </a:solidFill>
                <a:latin typeface="Calibri"/>
              </a:rPr>
              <a:t>Tipos de establecimiento</a:t>
            </a:r>
            <a:endParaRPr b="0" lang="en-US" sz="3300" spc="-1" strike="noStrike">
              <a:solidFill>
                <a:srgbClr val="7b9899"/>
              </a:solidFill>
              <a:latin typeface="Calibri"/>
            </a:endParaRPr>
          </a:p>
        </p:txBody>
      </p:sp>
      <p:sp>
        <p:nvSpPr>
          <p:cNvPr id="706" name=""/>
          <p:cNvSpPr txBox="1"/>
          <p:nvPr/>
        </p:nvSpPr>
        <p:spPr>
          <a:xfrm>
            <a:off x="320760" y="1649520"/>
            <a:ext cx="8502480" cy="4572000"/>
          </a:xfrm>
          <a:prstGeom prst="rect">
            <a:avLst/>
          </a:prstGeom>
          <a:noFill/>
          <a:ln w="0">
            <a:noFill/>
          </a:ln>
        </p:spPr>
        <p:txBody>
          <a:bodyPr lIns="90000" rIns="90000" tIns="46800" bIns="46800" anchor="t">
            <a:normAutofit/>
          </a:bodyPr>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básica urbana y básica rural. Se excluye a la educación básica rural multigrado).</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Media</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y Media</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Rural Multigrado </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Especial</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de Adultos</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rresponde a Escuela Cárcel</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Parvularia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er – 2º nivel de transición).</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08" name="Picture 2" descr=""/>
          <p:cNvPicPr/>
          <p:nvPr/>
        </p:nvPicPr>
        <p:blipFill>
          <a:blip r:embed="rId1"/>
          <a:stretch/>
        </p:blipFill>
        <p:spPr>
          <a:xfrm>
            <a:off x="0" y="936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0" name=""/>
          <p:cNvGraphicFramePr/>
          <p:nvPr/>
        </p:nvGraphicFramePr>
        <p:xfrm>
          <a:off x="365040" y="1600200"/>
          <a:ext cx="8367840" cy="4915080"/>
        </p:xfrm>
        <a:graphic>
          <a:graphicData uri="http://schemas.openxmlformats.org/drawingml/2006/table">
            <a:tbl>
              <a:tblPr/>
              <a:tblGrid>
                <a:gridCol w="981000"/>
                <a:gridCol w="2535480"/>
                <a:gridCol w="979560"/>
                <a:gridCol w="261720"/>
                <a:gridCol w="407880"/>
                <a:gridCol w="425520"/>
                <a:gridCol w="620640"/>
                <a:gridCol w="624240"/>
                <a:gridCol w="576000"/>
                <a:gridCol w="527040"/>
                <a:gridCol w="428760"/>
              </a:tblGrid>
              <a:tr h="217440">
                <a:tc gridSpan="2">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umeración</a:t>
                      </a:r>
                      <a:endParaRPr b="0" lang="en-US" sz="1200" spc="-1" strike="noStrike">
                        <a:solidFill>
                          <a:srgbClr val="000000"/>
                        </a:solidFill>
                        <a:latin typeface="Times New Roman"/>
                      </a:endParaRPr>
                    </a:p>
                  </a:txBody>
                  <a:tcPr anchor="b" marL="8280" marR="8280">
                    <a:lnL>
                      <a:noFill/>
                    </a:lnL>
                    <a:lnR>
                      <a:noFill/>
                    </a:lnR>
                    <a:lnT>
                      <a:noFill/>
                    </a:lnT>
                    <a:lnB>
                      <a:noFill/>
                    </a:lnB>
                    <a:noFill/>
                  </a:tcPr>
                </a:tc>
                <a:tc gridSpan="7">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Tipos de Establecimiento</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17440">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17440">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08080">
                <a:tc gridSpan="11">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IATIVA</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224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1</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de trabajo pedagógico grupal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88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2</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formativa complementaria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6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772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3</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curriculares de libre elección</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8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2240">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4</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de equipo de gestión representativo y periodicidad de reunion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6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8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0608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5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y Funcionamiento del Consejo Escolar</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35568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interescolar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2552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 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poyo efectivo a alumnos integrados a la educación regular</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3812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8</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tablecimiento define compromisos educativos y de gestión</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0</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27160">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9</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de marco de bases curriculares de educación parvularia</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5</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7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2" name=""/>
          <p:cNvGraphicFramePr/>
          <p:nvPr/>
        </p:nvGraphicFramePr>
        <p:xfrm>
          <a:off x="457200" y="1676520"/>
          <a:ext cx="8335800" cy="4587840"/>
        </p:xfrm>
        <a:graphic>
          <a:graphicData uri="http://schemas.openxmlformats.org/drawingml/2006/table">
            <a:tbl>
              <a:tblPr/>
              <a:tblGrid>
                <a:gridCol w="1015920"/>
                <a:gridCol w="1017720"/>
                <a:gridCol w="1523880"/>
                <a:gridCol w="763560"/>
                <a:gridCol w="254160"/>
                <a:gridCol w="423720"/>
                <a:gridCol w="422280"/>
                <a:gridCol w="662040"/>
                <a:gridCol w="660600"/>
                <a:gridCol w="609480"/>
                <a:gridCol w="542880"/>
                <a:gridCol w="439560"/>
              </a:tblGrid>
              <a:tr h="214200">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9000" marR="9000">
                    <a:lnL>
                      <a:noFill/>
                    </a:lnL>
                    <a:lnR>
                      <a:noFill/>
                    </a:lnR>
                    <a:lnT>
                      <a:noFill/>
                    </a:lnT>
                    <a:lnB>
                      <a:noFill/>
                    </a:lnB>
                    <a:noFill/>
                  </a:tcPr>
                </a:tc>
              </a:tr>
              <a:tr h="203040">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9000" marR="9000">
                    <a:lnL>
                      <a:noFill/>
                    </a:lnL>
                    <a:lnR>
                      <a:noFill/>
                    </a:lnR>
                    <a:lnT>
                      <a:noFill/>
                    </a:lnT>
                    <a:lnB>
                      <a:noFill/>
                    </a:lnB>
                    <a:noFill/>
                  </a:tcPr>
                </a:tc>
              </a:tr>
              <a:tr h="214560">
                <a:tc gridSpan="12">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LDAD</a:t>
                      </a:r>
                      <a:endParaRPr b="0" lang="en-US" sz="1200" spc="-1" strike="noStrike">
                        <a:solidFill>
                          <a:srgbClr val="000000"/>
                        </a:solidFill>
                        <a:latin typeface="Times New Roman"/>
                      </a:endParaRPr>
                    </a:p>
                  </a:txBody>
                  <a:tcPr anchor="b"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5960">
                <a:tc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y desarrollo de proyecto de integración escolar</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4</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345960">
                <a:tc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2</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de alumnos con discapacidad múltiple y/o sever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rowSpan="8">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3_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8">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usencia de prácticas discriminatorias</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040">
                <a:tc rowSpan="6">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4_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6">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usencia de sanciones indebidas sobre los alumnos</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2</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3</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4" name=""/>
          <p:cNvGraphicFramePr/>
          <p:nvPr/>
        </p:nvGraphicFramePr>
        <p:xfrm>
          <a:off x="304920" y="1569960"/>
          <a:ext cx="8442360" cy="5137200"/>
        </p:xfrm>
        <a:graphic>
          <a:graphicData uri="http://schemas.openxmlformats.org/drawingml/2006/table">
            <a:tbl>
              <a:tblPr/>
              <a:tblGrid>
                <a:gridCol w="449280"/>
                <a:gridCol w="3423960"/>
                <a:gridCol w="898560"/>
                <a:gridCol w="231840"/>
                <a:gridCol w="387360"/>
                <a:gridCol w="387360"/>
                <a:gridCol w="604800"/>
                <a:gridCol w="603360"/>
                <a:gridCol w="557280"/>
                <a:gridCol w="496800"/>
                <a:gridCol w="401760"/>
              </a:tblGrid>
              <a:tr h="190800">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umeración</a:t>
                      </a:r>
                      <a:endParaRPr b="0" lang="en-US" sz="1200" spc="-1" strike="noStrike">
                        <a:solidFill>
                          <a:srgbClr val="000000"/>
                        </a:solidFill>
                        <a:latin typeface="Times New Roman"/>
                      </a:endParaRPr>
                    </a:p>
                  </a:txBody>
                  <a:tcPr anchor="b" marL="7920" marR="7920">
                    <a:lnL>
                      <a:noFill/>
                    </a:lnL>
                    <a:lnR>
                      <a:noFill/>
                    </a:lnR>
                    <a:lnT>
                      <a:noFill/>
                    </a:lnT>
                    <a:lnB>
                      <a:noFill/>
                    </a:lnB>
                    <a:noFill/>
                  </a:tcPr>
                </a:tc>
                <a:tc gridSpan="7">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Tipos de Establecimiento</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160">
                <a:tc gridSpan="11">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TEGRACIÓN</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080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1 </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uncionamiento del Consejo General de Profesore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1160">
                <a:tc rowSpan="4">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2 </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4">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uncionamiento del Centro de Padre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2</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rowSpan="6">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3</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6">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titución, representatividad y funcionamiento del Centro de Alumno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4</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6</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52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4</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a la comunidad en compromisos educativos y de gestión</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2</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3733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5</a:t>
                      </a:r>
                      <a:endParaRPr b="0" lang="en-US" sz="8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forma/analiza resultados del SIMCE</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3733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6</a:t>
                      </a:r>
                      <a:endParaRPr b="0" lang="en-US" sz="8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forma/analiza resultados del SNED</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4</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7</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tegra a padres y apoderado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sp>
        <p:nvSpPr>
          <p:cNvPr id="716" name="Rectangle 3"/>
          <p:cNvSpPr/>
          <p:nvPr/>
        </p:nvSpPr>
        <p:spPr>
          <a:xfrm>
            <a:off x="576360" y="1557360"/>
            <a:ext cx="7991280" cy="53006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ide indicadores de los  factores: Iniciativa , Igualdad de Oportunidades e Integración y participación de padres y profesore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corresponde a la Ficha SNED validada por los DEPROV y preguntas relativas a sanciones indebidas y prácticas discriminatoria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es respondida a través de una aplicación disponible en el sitio web del Ministerio de Educación, al cual ingresan los establecimientos con una clave. Los establecimientos habilitados para responder son los que forman parte del Directorio Validado. Para el SNED 2008-2009 el 87,9% de los establecimientos respondió la Ficha SNED.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Text Box 3"/>
          <p:cNvSpPr/>
          <p:nvPr/>
        </p:nvSpPr>
        <p:spPr>
          <a:xfrm>
            <a:off x="609480" y="1600200"/>
            <a:ext cx="8153640" cy="5672160"/>
          </a:xfrm>
          <a:prstGeom prst="rect">
            <a:avLst/>
          </a:prstGeom>
          <a:noFill/>
          <a:ln w="0">
            <a:noFill/>
          </a:ln>
        </p:spPr>
        <p:style>
          <a:lnRef idx="0"/>
          <a:fillRef idx="0"/>
          <a:effectRef idx="0"/>
          <a:fontRef idx="minor"/>
        </p:style>
        <p:txBody>
          <a:bodyPr lIns="90000" rIns="90000" tIns="46800" bIns="46800" anchor="t">
            <a:spAutoFit/>
          </a:bodyPr>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ecolección Información Existente a nivel central del MINEDUC (SIMCE)</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ecolección de Información desde Regiones: Encuesta y Ficha SNED </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nálisis de la Información Recogida</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Cálculo de cada uno de los </a:t>
            </a:r>
            <a:r>
              <a:rPr b="0" lang="es-ES_tradnl" sz="2400" spc="-1" strike="noStrike" u="sng">
                <a:solidFill>
                  <a:srgbClr val="000000"/>
                </a:solidFill>
                <a:uFillTx/>
                <a:latin typeface="Calibri"/>
              </a:rPr>
              <a:t>Factores</a:t>
            </a:r>
            <a:r>
              <a:rPr b="0" lang="es-ES_tradnl" sz="2400" spc="-1" strike="noStrike">
                <a:solidFill>
                  <a:srgbClr val="000000"/>
                </a:solidFill>
                <a:latin typeface="Calibri"/>
              </a:rPr>
              <a:t> (de acuerdo a los </a:t>
            </a:r>
            <a:r>
              <a:rPr b="0" lang="es-ES_tradnl" sz="2400" spc="-1" strike="noStrike" u="sng">
                <a:solidFill>
                  <a:srgbClr val="000000"/>
                </a:solidFill>
                <a:uFillTx/>
                <a:latin typeface="Calibri"/>
              </a:rPr>
              <a:t>Indicadores</a:t>
            </a:r>
            <a:r>
              <a:rPr b="0" lang="es-ES_tradnl" sz="2400" spc="-1" strike="noStrike">
                <a:solidFill>
                  <a:srgbClr val="000000"/>
                </a:solidFill>
                <a:latin typeface="Calibri"/>
              </a:rPr>
              <a:t> considerados)</a:t>
            </a:r>
            <a:endParaRPr b="0" lang="en-US" sz="2400" spc="-1" strike="noStrike">
              <a:solidFill>
                <a:srgbClr val="000000"/>
              </a:solidFill>
              <a:latin typeface="Times New Roman"/>
            </a:endParaRPr>
          </a:p>
          <a:p>
            <a:pPr marL="449280" indent="-449280" algn="just">
              <a:lnSpc>
                <a:spcPct val="3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Cálculo del Indice SNED (de acuerdo a los ponderadores). Escala 0 a 100.</a:t>
            </a:r>
            <a:endParaRPr b="0" lang="en-US" sz="2400" spc="-1" strike="noStrike">
              <a:solidFill>
                <a:srgbClr val="000000"/>
              </a:solidFill>
              <a:latin typeface="Times New Roman"/>
            </a:endParaRPr>
          </a:p>
          <a:p>
            <a:pPr marL="449280" indent="-449280" algn="just">
              <a:lnSpc>
                <a:spcPct val="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lección de Establecimientos Beneficiarios</a:t>
            </a:r>
            <a:endParaRPr b="0" lang="en-US" sz="2400" spc="-1" strike="noStrike">
              <a:solidFill>
                <a:srgbClr val="000000"/>
              </a:solidFill>
              <a:latin typeface="Times New Roman"/>
            </a:endParaRPr>
          </a:p>
        </p:txBody>
      </p:sp>
      <p:sp>
        <p:nvSpPr>
          <p:cNvPr id="719" name="Rectangle 4"/>
          <p:cNvSpPr/>
          <p:nvPr/>
        </p:nvSpPr>
        <p:spPr>
          <a:xfrm>
            <a:off x="1219320" y="457200"/>
            <a:ext cx="6172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INDICE SNED: Etap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Text Box 3"/>
          <p:cNvSpPr/>
          <p:nvPr/>
        </p:nvSpPr>
        <p:spPr>
          <a:xfrm>
            <a:off x="609480" y="1600200"/>
            <a:ext cx="815364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Picture 20" descr=""/>
          <p:cNvPicPr/>
          <p:nvPr/>
        </p:nvPicPr>
        <p:blipFill>
          <a:blip r:embed="rId1"/>
          <a:stretch/>
        </p:blipFill>
        <p:spPr>
          <a:xfrm>
            <a:off x="444600" y="1500120"/>
            <a:ext cx="8281800" cy="4756320"/>
          </a:xfrm>
          <a:prstGeom prst="rect">
            <a:avLst/>
          </a:prstGeom>
          <a:ln w="0">
            <a:noFill/>
          </a:ln>
        </p:spPr>
      </p:pic>
      <p:sp>
        <p:nvSpPr>
          <p:cNvPr id="723" name="Text Box 21"/>
          <p:cNvSpPr/>
          <p:nvPr/>
        </p:nvSpPr>
        <p:spPr>
          <a:xfrm>
            <a:off x="2133720" y="3608280"/>
            <a:ext cx="1654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Igualdad</a:t>
            </a:r>
            <a:endParaRPr b="0" lang="en-US" sz="1600" spc="-1" strike="noStrike">
              <a:solidFill>
                <a:srgbClr val="000000"/>
              </a:solidFill>
              <a:latin typeface="Times New Roman"/>
            </a:endParaRPr>
          </a:p>
        </p:txBody>
      </p:sp>
      <p:sp>
        <p:nvSpPr>
          <p:cNvPr id="724" name="Line 22"/>
          <p:cNvSpPr/>
          <p:nvPr/>
        </p:nvSpPr>
        <p:spPr>
          <a:xfrm>
            <a:off x="2971800" y="4191120"/>
            <a:ext cx="1219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23"/>
          <p:cNvSpPr/>
          <p:nvPr/>
        </p:nvSpPr>
        <p:spPr>
          <a:xfrm>
            <a:off x="3200400" y="4114800"/>
            <a:ext cx="53352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24"/>
          <p:cNvSpPr/>
          <p:nvPr/>
        </p:nvSpPr>
        <p:spPr>
          <a:xfrm>
            <a:off x="3200400" y="838080"/>
            <a:ext cx="1066680" cy="381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25"/>
          <p:cNvSpPr/>
          <p:nvPr/>
        </p:nvSpPr>
        <p:spPr>
          <a:xfrm>
            <a:off x="3200400" y="838080"/>
            <a:ext cx="83808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26"/>
          <p:cNvSpPr/>
          <p:nvPr/>
        </p:nvSpPr>
        <p:spPr>
          <a:xfrm>
            <a:off x="2697120" y="402444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Text Box 27"/>
          <p:cNvSpPr/>
          <p:nvPr/>
        </p:nvSpPr>
        <p:spPr>
          <a:xfrm>
            <a:off x="6522840" y="347976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NED</a:t>
            </a:r>
            <a:endParaRPr b="0" lang="en-US" sz="1600" spc="-1" strike="noStrike">
              <a:solidFill>
                <a:srgbClr val="000000"/>
              </a:solidFill>
              <a:latin typeface="Times New Roman"/>
            </a:endParaRPr>
          </a:p>
        </p:txBody>
      </p:sp>
      <p:sp>
        <p:nvSpPr>
          <p:cNvPr id="730" name="Line 28"/>
          <p:cNvSpPr/>
          <p:nvPr/>
        </p:nvSpPr>
        <p:spPr>
          <a:xfrm flipH="1">
            <a:off x="5638680" y="3733920"/>
            <a:ext cx="914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Text Box 29"/>
          <p:cNvSpPr/>
          <p:nvPr/>
        </p:nvSpPr>
        <p:spPr>
          <a:xfrm>
            <a:off x="7203600" y="48243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IMCE</a:t>
            </a:r>
            <a:endParaRPr b="0" lang="en-US" sz="1600" spc="-1" strike="noStrike">
              <a:solidFill>
                <a:srgbClr val="000000"/>
              </a:solidFill>
              <a:latin typeface="Times New Roman"/>
            </a:endParaRPr>
          </a:p>
        </p:txBody>
      </p:sp>
      <p:sp>
        <p:nvSpPr>
          <p:cNvPr id="732" name="Line 30"/>
          <p:cNvSpPr/>
          <p:nvPr/>
        </p:nvSpPr>
        <p:spPr>
          <a:xfrm flipV="1">
            <a:off x="7620120" y="4267080"/>
            <a:ext cx="152280" cy="53352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Text Box 31"/>
          <p:cNvSpPr/>
          <p:nvPr/>
        </p:nvSpPr>
        <p:spPr>
          <a:xfrm>
            <a:off x="179280" y="404640"/>
            <a:ext cx="8713800" cy="90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16349"/>
                </a:solidFill>
                <a:latin typeface="Calibri"/>
              </a:rPr>
              <a:t>Porcentaje  Premiados según Nivel Socioeconómic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16349"/>
                </a:solidFill>
                <a:latin typeface="Calibri"/>
              </a:rPr>
              <a:t>por Establecimi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4360" y="259920"/>
            <a:ext cx="777240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d16349"/>
                </a:solidFill>
                <a:latin typeface="Calibri"/>
              </a:rPr>
              <a:t>Antecedentes del SNED</a:t>
            </a:r>
            <a:endParaRPr b="0" lang="en-US" sz="2800" spc="-1" strike="noStrike">
              <a:solidFill>
                <a:srgbClr val="7b9899"/>
              </a:solidFill>
              <a:latin typeface="Calibri"/>
            </a:endParaRPr>
          </a:p>
        </p:txBody>
      </p:sp>
      <p:sp>
        <p:nvSpPr>
          <p:cNvPr id="663" name=""/>
          <p:cNvSpPr txBox="1"/>
          <p:nvPr/>
        </p:nvSpPr>
        <p:spPr>
          <a:xfrm>
            <a:off x="685800" y="1673280"/>
            <a:ext cx="7772400" cy="5184720"/>
          </a:xfrm>
          <a:prstGeom prst="rect">
            <a:avLst/>
          </a:prstGeom>
          <a:noFill/>
          <a:ln w="0">
            <a:noFill/>
          </a:ln>
        </p:spPr>
        <p:txBody>
          <a:bodyPr lIns="90000" rIns="90000" tIns="46800" bIns="46800" anchor="t">
            <a:normAutofit/>
          </a:bodyPr>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NED </a:t>
            </a:r>
            <a:r>
              <a:rPr b="0" lang="es-CL" sz="2000" spc="-1" strike="noStrike">
                <a:solidFill>
                  <a:srgbClr val="000000"/>
                </a:solidFill>
                <a:latin typeface="Calibri"/>
              </a:rPr>
              <a:t>fue </a:t>
            </a:r>
            <a:r>
              <a:rPr b="0" lang="es-ES" sz="2000" spc="-1" strike="noStrike">
                <a:solidFill>
                  <a:srgbClr val="000000"/>
                </a:solidFill>
                <a:latin typeface="Calibri"/>
              </a:rPr>
              <a:t>creado en 1995</a:t>
            </a:r>
            <a:r>
              <a:rPr b="0" lang="es-CL" sz="2000" spc="-1" strike="noStrike">
                <a:solidFill>
                  <a:srgbClr val="000000"/>
                </a:solidFill>
                <a:latin typeface="Calibri"/>
              </a:rPr>
              <a:t> con el objeto de vincular </a:t>
            </a:r>
            <a:r>
              <a:rPr b="0" lang="es-ES" sz="2000" spc="-1" strike="noStrike">
                <a:solidFill>
                  <a:srgbClr val="000000"/>
                </a:solidFill>
                <a:latin typeface="Calibri"/>
              </a:rPr>
              <a:t>aumento</a:t>
            </a:r>
            <a:r>
              <a:rPr b="0" lang="es-CL" sz="2000" spc="-1" strike="noStrike">
                <a:solidFill>
                  <a:srgbClr val="000000"/>
                </a:solidFill>
                <a:latin typeface="Calibri"/>
              </a:rPr>
              <a:t>s</a:t>
            </a:r>
            <a:r>
              <a:rPr b="0" lang="es-ES" sz="2000" spc="-1" strike="noStrike">
                <a:solidFill>
                  <a:srgbClr val="000000"/>
                </a:solidFill>
                <a:latin typeface="Calibri"/>
              </a:rPr>
              <a:t> </a:t>
            </a:r>
            <a:r>
              <a:rPr b="0" lang="es-CL" sz="2000" spc="-1" strike="noStrike">
                <a:solidFill>
                  <a:srgbClr val="000000"/>
                </a:solidFill>
                <a:latin typeface="Calibri"/>
              </a:rPr>
              <a:t>de </a:t>
            </a:r>
            <a:r>
              <a:rPr b="0" lang="es-ES" sz="2000" spc="-1" strike="noStrike">
                <a:solidFill>
                  <a:srgbClr val="000000"/>
                </a:solidFill>
                <a:latin typeface="Calibri"/>
              </a:rPr>
              <a:t>remuneraciones con desempeño</a:t>
            </a:r>
            <a:r>
              <a:rPr b="0" lang="es-CL" sz="2000" spc="-1" strike="noStrike">
                <a:solidFill>
                  <a:srgbClr val="000000"/>
                </a:solidFill>
                <a:latin typeface="Calibri"/>
              </a:rPr>
              <a:t>, incentivar a docentes destacados, y proveer de información a la comunidad escolar, contribuyendo así a mejorar la calidad de la educación subvencionada</a:t>
            </a:r>
            <a:r>
              <a:rPr b="0" lang="es-ES" sz="2000" spc="-1" strike="noStrike">
                <a:solidFill>
                  <a:srgbClr val="000000"/>
                </a:solidFill>
                <a:latin typeface="Calibri"/>
              </a:rPr>
              <a:t>.</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lecciona</a:t>
            </a:r>
            <a:r>
              <a:rPr b="0" lang="es-ES" sz="2000" spc="-1" strike="noStrike">
                <a:solidFill>
                  <a:srgbClr val="000000"/>
                </a:solidFill>
                <a:latin typeface="Calibri"/>
              </a:rPr>
              <a:t> cada dos años a los establecimientos municipales y particular subvencionados de mejor desempeño en cada región del país. </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templa la entrega de un beneficio económico denominado “Subvención por Desempeño de Excelencia”, para los establecimientos de mejor desempeño, que se distribuye entre los docentes de acuerdo a horas cronológicas.</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NED se ha aplicado en 7 ocasiones</a:t>
            </a:r>
            <a:r>
              <a:rPr b="0" lang="es-CL" sz="2000" spc="-1" strike="noStrike">
                <a:solidFill>
                  <a:srgbClr val="000000"/>
                </a:solidFill>
                <a:latin typeface="Calibri"/>
              </a:rPr>
              <a:t>, para los siguientes períodos bianuales: 1996-1997, 1998–1999, 2000-2001, 2002-2003, 2004-2005, 2006-2007, 2008-2009.</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664" name="Group 4"/>
          <p:cNvGrpSpPr/>
          <p:nvPr/>
        </p:nvGrpSpPr>
        <p:grpSpPr>
          <a:xfrm>
            <a:off x="203040" y="173160"/>
            <a:ext cx="8705520" cy="6526080"/>
            <a:chOff x="203040" y="173160"/>
            <a:chExt cx="8705520" cy="6526080"/>
          </a:xfrm>
        </p:grpSpPr>
        <p:sp>
          <p:nvSpPr>
            <p:cNvPr id="665" name="Line 5"/>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6"/>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8"/>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182880"/>
            <a:ext cx="7772400" cy="1306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d16349"/>
                </a:solidFill>
                <a:latin typeface="Calibri"/>
              </a:rPr>
              <a:t>Cómo resuelve el SNED los desafíos metodológicos de los sistemas de incentivos</a:t>
            </a:r>
            <a:endParaRPr b="0" lang="en-US" sz="2400" spc="-1" strike="noStrike">
              <a:solidFill>
                <a:srgbClr val="7b9899"/>
              </a:solidFill>
              <a:latin typeface="Calibri"/>
            </a:endParaRPr>
          </a:p>
        </p:txBody>
      </p:sp>
      <p:sp>
        <p:nvSpPr>
          <p:cNvPr id="670" name=""/>
          <p:cNvSpPr txBox="1"/>
          <p:nvPr/>
        </p:nvSpPr>
        <p:spPr>
          <a:xfrm>
            <a:off x="539640" y="1989000"/>
            <a:ext cx="7772400" cy="4114800"/>
          </a:xfrm>
          <a:prstGeom prst="rect">
            <a:avLst/>
          </a:prstGeom>
          <a:noFill/>
          <a:ln w="0">
            <a:noFill/>
          </a:ln>
        </p:spPr>
        <p:txBody>
          <a:bodyPr lIns="90000" rIns="90000" tIns="46800" bIns="46800" anchor="t">
            <a:normAutofit/>
          </a:bodyPr>
          <a:p>
            <a:pPr marL="272880" indent="-2728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47560" indent="-272880" algn="just">
              <a:spcBef>
                <a:spcPts val="15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ómo comparar establecimientos con características diferentes las cuales afectan su desempeño?</a:t>
            </a:r>
            <a:endParaRPr b="0" lang="en-US" sz="2400" spc="-1" strike="noStrike">
              <a:solidFill>
                <a:srgbClr val="646b86"/>
              </a:solidFill>
              <a:latin typeface="Calibri"/>
            </a:endParaRPr>
          </a:p>
          <a:p>
            <a:pPr lvl="1" marL="547560" indent="-272880" algn="just">
              <a:spcBef>
                <a:spcPts val="15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Qué medir?</a:t>
            </a:r>
            <a:endParaRPr b="0" lang="en-US" sz="2400" spc="-1" strike="noStrike">
              <a:solidFill>
                <a:srgbClr val="646b86"/>
              </a:solidFill>
              <a:latin typeface="Calibri"/>
            </a:endParaRPr>
          </a:p>
        </p:txBody>
      </p:sp>
      <p:grpSp>
        <p:nvGrpSpPr>
          <p:cNvPr id="671" name="Group 4"/>
          <p:cNvGrpSpPr/>
          <p:nvPr/>
        </p:nvGrpSpPr>
        <p:grpSpPr>
          <a:xfrm>
            <a:off x="203040" y="173160"/>
            <a:ext cx="8705520" cy="6526080"/>
            <a:chOff x="203040" y="173160"/>
            <a:chExt cx="8705520" cy="6526080"/>
          </a:xfrm>
        </p:grpSpPr>
        <p:sp>
          <p:nvSpPr>
            <p:cNvPr id="672" name="Line 5"/>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6"/>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Line 7"/>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Line 8"/>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255240"/>
            <a:ext cx="7772400" cy="1679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16349"/>
                </a:solidFill>
                <a:latin typeface="Calibri"/>
              </a:rPr>
              <a:t>Al comparar escuelas hay que considerar metodologías que permitan comparar entre escuelas similares</a:t>
            </a:r>
            <a:br>
              <a:rPr sz="2000"/>
            </a:br>
            <a:r>
              <a:rPr b="1" lang="es-CL" sz="2000" spc="-1" strike="noStrike">
                <a:solidFill>
                  <a:srgbClr val="d16349"/>
                </a:solidFill>
                <a:latin typeface="Calibri"/>
              </a:rPr>
              <a:t>  </a:t>
            </a:r>
            <a:br>
              <a:rPr sz="2000"/>
            </a:br>
            <a:r>
              <a:rPr b="1" lang="es-CL" sz="2000" spc="-1" strike="noStrike">
                <a:solidFill>
                  <a:srgbClr val="d16349"/>
                </a:solidFill>
                <a:latin typeface="Calibri"/>
              </a:rPr>
              <a:t>Logro promedio vs ISE del colegio. 4° Básico</a:t>
            </a:r>
            <a:endParaRPr b="0" lang="en-US" sz="2000" spc="-1" strike="noStrike">
              <a:solidFill>
                <a:srgbClr val="7b9899"/>
              </a:solidFill>
              <a:latin typeface="Calibri"/>
            </a:endParaRPr>
          </a:p>
        </p:txBody>
      </p:sp>
      <p:graphicFrame>
        <p:nvGraphicFramePr>
          <p:cNvPr id="677" name="Object 4"/>
          <p:cNvGraphicFramePr/>
          <p:nvPr/>
        </p:nvGraphicFramePr>
        <p:xfrm>
          <a:off x="1209600" y="2028960"/>
          <a:ext cx="6724800" cy="4086000"/>
        </p:xfrm>
        <a:graphic>
          <a:graphicData uri="http://schemas.openxmlformats.org/presentationml/2006/ole">
            <p:oleObj progId="Excel.Sheet.12" r:id="rId1" spid="">
              <p:embed/>
              <p:pic>
                <p:nvPicPr>
                  <p:cNvPr id="678" name="Object 4" descr=""/>
                  <p:cNvPicPr/>
                  <p:nvPr/>
                </p:nvPicPr>
                <p:blipFill>
                  <a:blip r:embed="rId2"/>
                  <a:stretch/>
                </p:blipFill>
                <p:spPr>
                  <a:xfrm>
                    <a:off x="1209600" y="2028960"/>
                    <a:ext cx="6724800" cy="4086000"/>
                  </a:xfrm>
                  <a:prstGeom prst="rect">
                    <a:avLst/>
                  </a:prstGeom>
                  <a:ln w="0">
                    <a:noFill/>
                  </a:ln>
                </p:spPr>
              </p:pic>
            </p:oleObj>
          </a:graphicData>
        </a:graphic>
      </p:graphicFrame>
      <p:grpSp>
        <p:nvGrpSpPr>
          <p:cNvPr id="679" name="Group 6"/>
          <p:cNvGrpSpPr/>
          <p:nvPr/>
        </p:nvGrpSpPr>
        <p:grpSpPr>
          <a:xfrm>
            <a:off x="203040" y="174600"/>
            <a:ext cx="8704080" cy="6524640"/>
            <a:chOff x="203040" y="174600"/>
            <a:chExt cx="8704080" cy="6524640"/>
          </a:xfrm>
        </p:grpSpPr>
        <p:sp>
          <p:nvSpPr>
            <p:cNvPr id="680" name="Line 7"/>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10"/>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Line 2"/>
          <p:cNvSpPr/>
          <p:nvPr/>
        </p:nvSpPr>
        <p:spPr>
          <a:xfrm>
            <a:off x="205740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Text Box 3"/>
          <p:cNvSpPr/>
          <p:nvPr/>
        </p:nvSpPr>
        <p:spPr>
          <a:xfrm>
            <a:off x="971640" y="677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Grupos Homogéneos: x Región</a:t>
            </a:r>
            <a:endParaRPr b="0" lang="en-US" sz="2800" spc="-1" strike="noStrike">
              <a:solidFill>
                <a:srgbClr val="000000"/>
              </a:solidFill>
              <a:latin typeface="Times New Roman"/>
            </a:endParaRPr>
          </a:p>
        </p:txBody>
      </p:sp>
      <p:sp>
        <p:nvSpPr>
          <p:cNvPr id="684" name="Text Box 4"/>
          <p:cNvSpPr/>
          <p:nvPr/>
        </p:nvSpPr>
        <p:spPr>
          <a:xfrm>
            <a:off x="1295280" y="1981080"/>
            <a:ext cx="655344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5" name=""/>
          <p:cNvGraphicFramePr/>
          <p:nvPr/>
        </p:nvGraphicFramePr>
        <p:xfrm>
          <a:off x="1523880" y="2286000"/>
          <a:ext cx="6096240" cy="3324240"/>
        </p:xfrm>
        <a:graphic>
          <a:graphicData uri="http://schemas.openxmlformats.org/drawingml/2006/table">
            <a:tbl>
              <a:tblPr/>
              <a:tblGrid>
                <a:gridCol w="2032200"/>
                <a:gridCol w="2031840"/>
                <a:gridCol w="2032200"/>
              </a:tblGrid>
              <a:tr h="888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rba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ural</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89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ásic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8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di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v)</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7360">
                <a:tc grid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ucación Especial</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86" name="Line 34"/>
          <p:cNvSpPr/>
          <p:nvPr/>
        </p:nvSpPr>
        <p:spPr>
          <a:xfrm>
            <a:off x="7238880" y="312408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32 Rectángulo"/>
          <p:cNvSpPr/>
          <p:nvPr/>
        </p:nvSpPr>
        <p:spPr>
          <a:xfrm>
            <a:off x="1768320" y="1504800"/>
            <a:ext cx="5607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os establecimientos se clasifican p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Line 2"/>
          <p:cNvSpPr/>
          <p:nvPr/>
        </p:nvSpPr>
        <p:spPr>
          <a:xfrm>
            <a:off x="205740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Text Box 3"/>
          <p:cNvSpPr/>
          <p:nvPr/>
        </p:nvSpPr>
        <p:spPr>
          <a:xfrm>
            <a:off x="324000" y="333360"/>
            <a:ext cx="84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Grupos Homogéneos: Etapas</a:t>
            </a:r>
            <a:endParaRPr b="0" lang="en-US" sz="2800" spc="-1" strike="noStrike">
              <a:solidFill>
                <a:srgbClr val="000000"/>
              </a:solidFill>
              <a:latin typeface="Times New Roman"/>
            </a:endParaRPr>
          </a:p>
        </p:txBody>
      </p:sp>
      <p:sp>
        <p:nvSpPr>
          <p:cNvPr id="690" name="Text Box 4"/>
          <p:cNvSpPr/>
          <p:nvPr/>
        </p:nvSpPr>
        <p:spPr>
          <a:xfrm>
            <a:off x="755640" y="1125360"/>
            <a:ext cx="7632720" cy="2293560"/>
          </a:xfrm>
          <a:prstGeom prst="rect">
            <a:avLst/>
          </a:prstGeom>
          <a:noFill/>
          <a:ln w="0">
            <a:noFill/>
          </a:ln>
        </p:spPr>
        <p:style>
          <a:lnRef idx="0"/>
          <a:fillRef idx="0"/>
          <a:effectRef idx="0"/>
          <a:fontRef idx="minor"/>
        </p:style>
        <p:txBody>
          <a:bodyPr lIns="90000" rIns="90000" tIns="46800" bIns="46800" anchor="t">
            <a:spAutoFit/>
          </a:bodyPr>
          <a:p>
            <a:pPr marL="449280" indent="-449280" algn="just">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Los grupos de 1º nivel (i a iv) se clasifican en grupos de 2º nivel, de acuerdo a variables socioeconómicas: </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Ingreso promedio del hogar</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Educación promedio del padre y la madre</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 </a:t>
            </a:r>
            <a:r>
              <a:rPr b="0" lang="es-MX" sz="2200" spc="-1" strike="noStrike">
                <a:solidFill>
                  <a:srgbClr val="000000"/>
                </a:solidFill>
                <a:latin typeface="Calibri"/>
                <a:ea typeface="Times New Roman"/>
              </a:rPr>
              <a:t>Indice de vulnerabilidad (IVE) de la JUNAEB</a:t>
            </a:r>
            <a:endParaRPr b="0" lang="en-US" sz="2200" spc="-1" strike="noStrike">
              <a:solidFill>
                <a:srgbClr val="000000"/>
              </a:solidFill>
              <a:latin typeface="Times New Roman"/>
            </a:endParaRPr>
          </a:p>
        </p:txBody>
      </p:sp>
      <p:sp>
        <p:nvSpPr>
          <p:cNvPr id="691" name="Text Box 6"/>
          <p:cNvSpPr/>
          <p:nvPr/>
        </p:nvSpPr>
        <p:spPr>
          <a:xfrm>
            <a:off x="684360" y="4292640"/>
            <a:ext cx="7704000" cy="127404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 utiliza la metodología de análisis de conglomerados</a:t>
            </a:r>
            <a:endParaRPr b="0" lang="en-US" sz="2200" spc="-1" strike="noStrike">
              <a:solidFill>
                <a:srgbClr val="000000"/>
              </a:solidFill>
              <a:latin typeface="Times New Roman"/>
            </a:endParaRPr>
          </a:p>
          <a:p>
            <a:pPr marL="536400" indent="-536400">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 no existe información socioeconómica: criterio comuna/dependenc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Text Box 3"/>
          <p:cNvSpPr/>
          <p:nvPr/>
        </p:nvSpPr>
        <p:spPr>
          <a:xfrm>
            <a:off x="611280" y="885960"/>
            <a:ext cx="7920000" cy="516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50"/>
              </a:spcBef>
              <a:buClr>
                <a:srgbClr val="d1634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d16349"/>
                </a:solidFill>
                <a:latin typeface="Calibri"/>
              </a:rPr>
              <a:t> </a:t>
            </a:r>
            <a:r>
              <a:rPr b="0" lang="es-ES_tradnl" sz="2200" spc="-1" strike="noStrike">
                <a:solidFill>
                  <a:srgbClr val="000000"/>
                </a:solidFill>
                <a:latin typeface="Calibri"/>
              </a:rPr>
              <a:t>Se calcula un índice a nivel nacional</a:t>
            </a:r>
            <a:endParaRPr b="0" lang="en-US" sz="2200" spc="-1" strike="noStrike">
              <a:solidFill>
                <a:srgbClr val="000000"/>
              </a:solidFill>
              <a:latin typeface="Times New Roman"/>
            </a:endParaRPr>
          </a:p>
          <a:p>
            <a:pPr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En base a información de Factores e Indicadores,</a:t>
            </a:r>
            <a:endParaRPr b="0" lang="en-US" sz="2200" spc="-1" strike="noStrike">
              <a:solidFill>
                <a:srgbClr val="000000"/>
              </a:solidFill>
              <a:latin typeface="Times New Roman"/>
            </a:endParaRPr>
          </a:p>
          <a:p>
            <a:pPr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revisión de los indicadores y la selección de aquellos que forman parte del SNED tiene en cuenta los siguientes requisitos técnicos:</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iversalidad, en términos de la cobertura de establecimientos, por nivel educacional o tipo de enseñanza donde el indicador es aplicable.</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bjetividad, entendida como la calidad de un indicador para medir un determinado comportamiento.</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usceptible de Validación, es decir, la información recogida a través de un indicador debe ser verificable .</a:t>
            </a:r>
            <a:endParaRPr b="0" lang="en-US" sz="2200" spc="-1" strike="noStrike">
              <a:solidFill>
                <a:srgbClr val="000000"/>
              </a:solidFill>
              <a:latin typeface="Times New Roman"/>
            </a:endParaRPr>
          </a:p>
        </p:txBody>
      </p:sp>
      <p:sp>
        <p:nvSpPr>
          <p:cNvPr id="694" name="Rectangle 4"/>
          <p:cNvSpPr/>
          <p:nvPr/>
        </p:nvSpPr>
        <p:spPr>
          <a:xfrm>
            <a:off x="1187280" y="333360"/>
            <a:ext cx="6172200" cy="37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Qué medir: INDICE S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8"/>
          <p:cNvGrpSpPr/>
          <p:nvPr/>
        </p:nvGrpSpPr>
        <p:grpSpPr>
          <a:xfrm>
            <a:off x="203040" y="173160"/>
            <a:ext cx="8705520" cy="6526080"/>
            <a:chOff x="203040" y="173160"/>
            <a:chExt cx="8705520" cy="6526080"/>
          </a:xfrm>
        </p:grpSpPr>
        <p:sp>
          <p:nvSpPr>
            <p:cNvPr id="696" name="Line 9"/>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0"/>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1"/>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2"/>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00" name="Picture 13" descr=""/>
          <p:cNvPicPr/>
          <p:nvPr/>
        </p:nvPicPr>
        <p:blipFill>
          <a:blip r:embed="rId1"/>
          <a:stretch/>
        </p:blipFill>
        <p:spPr>
          <a:xfrm>
            <a:off x="549360" y="1692360"/>
            <a:ext cx="8040600" cy="43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pic>
        <p:nvPicPr>
          <p:cNvPr id="702" name="Picture 1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ernanda Melis</cp:lastModifiedBy>
  <dcterms:modified xsi:type="dcterms:W3CDTF">2009-03-18T20:53:32Z</dcterms:modified>
  <cp:revision>131</cp:revision>
  <dc:subject/>
  <dc:title> DEPARTAMENTO DE ESTUDIOS Y ESTADISTICAS VISION ESTRATEGICA DE LA INFORMACION</dc:title>
</cp:coreProperties>
</file>