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AA17-794B-4C1E-AA7A-45BABE4FB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BAB7-00B9-40D4-857D-53E718426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BDE217-1C88-4FED-A2B5-075B98F5EF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528104F-4E5E-475C-B0C1-979DB12516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A25803-1E31-4374-9272-69D3B5463A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7F34AE-EF7C-4BA6-8850-FCBED1A082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AF418F-BE76-4057-B697-7752DFA1C1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9FA6CC-BAD2-455A-80B0-265138CC80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58CA7C-90DA-4611-8F2C-F0FB2CDDB3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293D7F7-B150-466E-8B45-6289565D007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A61C804-A1EF-4664-9A59-392410CFC3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BFB2981-DC58-4102-A061-4E43F85ABF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C0C7C-5539-46FC-BE63-DFF80C073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BFC6295-6DAD-46C4-9CF3-F1F556EF3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4E55164-7CFB-4949-92FE-6DD2F7D352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806977-BA92-4A09-9738-FC0030822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6BD119-E6E9-440E-BB38-7F0B0F6B20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8C3D2BB-D359-45D9-B4BA-3C6D9659BC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EF86DA-34A1-42C0-AC89-FAA210BF5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107004-D025-441C-A550-15C048E041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8C9872-7087-4465-9DF4-41CD88B37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61D918D-D085-4EF6-8642-04F2B0021A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0350C24-C03C-4FE1-B8FF-AA0BF32066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F96F-CBE7-46B4-AF8B-3F3941536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2EE1253-CE21-4AB5-9DF0-BDB701C145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0391B0-0EC7-4ACD-8168-14D5E6AF36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83D0E8-2CF0-4FFC-897E-F58D67AB7B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22F3F9-4F28-4794-A35C-552EDD4D14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BE676A-D8C9-4B4A-B0CE-E513B584D5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FDFC3D-2D3E-4259-9EFB-E735C7C67B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B6377A-9D57-4D68-A547-D483B67E30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C5124F-F01B-447A-BE87-90AEEFCECC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A2384B-9A5E-4119-9ED0-9CD18648B5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6BFBAE-D52E-470D-B0D3-0836F09791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6B5A0-E253-4513-95CA-175D750E7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493A96-C29C-44A3-A93F-1EBD921D5F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D80E2C-0898-4876-9510-386ED6D9FB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C62F41-CBE0-413B-B9BB-E2D4E87A5B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B0FC782-1BD2-4C79-9231-304729D9DB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356AC75-B1A2-4E5A-A511-18B656D67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4A02A95-4F8B-4111-BE23-E397A355EA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1DF3CA0-9E22-426B-A379-535732E418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BE2EFAC-269D-429B-91D5-706DEAD97E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DEF8CA-1698-4CC5-AE69-415A33B716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50BDCE-5B28-40D8-B2A3-A0AEB1EE1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93A98-9408-4E5B-8DDE-F531C5509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B56454-479F-4DDA-9566-1CE195B5A5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C38E19-2BF4-49CF-8596-16C269EDBD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6BC57D-7B63-44FA-80BE-B2A96E310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BCA5D18-BFFA-45DC-8DC6-16D28FF53E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DB04ADC-402B-43BC-B2B3-4D2282371D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65ADF7-E5D4-4F17-A269-773D17B939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3CE8E8-1CA7-4F40-87AE-28AE4901DB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4EB23F-0EBC-43AF-88D6-8285DDED5E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4A8233-6661-4B64-8953-59C3943B22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FAF468-3954-4696-86AE-B446BE4DDA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E2C2-038F-4A25-AA56-102AA73FF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F5520C-CF62-4E89-8CAB-573073ED64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BBD780-A077-44C7-8FDE-971BB63790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F4521A-AB13-45E0-AD06-30AB1940E6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CFE6CB-6CCC-44C9-923A-09C728D4DC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7C7EEB-B0FB-4C9F-B832-3A22908595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54EFBA-A61E-4B81-A5C8-667D122CAF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227DC8-A64D-453F-9750-F8F23F9A72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F7917-5629-469C-B0A5-16255D335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CFB96-557B-432D-89DA-CA8E5559E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A4853-2A56-4919-B577-39AD937A4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FEC0-BD4C-4A11-9E28-1CAF8A0A6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89A6-50B3-4A2A-9B7D-14B4945C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D5C58-DD08-49CD-9EE7-05DE2FBD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EA002-81DA-46C2-B44E-A70304DC4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72B74-3DBA-478E-9B04-36D23DACE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53520-E7E8-4BBF-9525-D15CB3E39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7D621-94B1-4CCE-916B-A79FAA6E1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2E5558-ADB1-4742-ACCD-001A6D22E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B3A99-0082-4FF9-9E52-70E9716E0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5B8B73-2AA2-4B20-8569-D2ECCB4CA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256BC-E139-4758-A44D-600D123C9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52281-35AA-499F-AE09-1A2003762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D66E-04A5-4FD6-8C7E-097E4582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78132-522F-47C8-A870-2ED6E89B8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C87D6-14AC-4FD6-A79D-488C54C44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36A57-0826-497B-A77B-53A6417E8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F2F71-66B8-4FCE-BB98-525112E78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9CE90-710E-473E-BDD8-07E26674E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57C31-3A74-44BE-9505-CB4BCF087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EE12B-640B-4498-8EDB-40EDECC4D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B6F85D0-F1C6-42AE-B9C4-50448F453D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E8F5FC9-392C-4D5A-951C-6BA47E07CD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100259-14F7-4EC7-AECA-6B8781DC3F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89A5-4588-40F4-A48E-257F097C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69F601-D1F3-4517-9548-7B5EDBE089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5E75F7-F5F7-414E-92E4-9CF39F1D71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97F9CCB-E6A6-4210-95C4-07C6C7F6E0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FAAF03-9795-4FBA-AC29-C77FE7798B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B204A8-102F-4A98-A0EA-D33BB4014A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8DB5121-B0FD-4039-9A0F-23B72B36E2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1D6A8B-94A9-4008-A315-1C7B403C8C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0FFDAAA-DA72-4025-9DD2-DDC904DD331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4BB86ED-60A7-42BA-B9BF-BC6D50166D2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585E5-F3B1-4FE0-B217-380B19F53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B659-1B5B-4E57-9A01-581AD9156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F5BB0-596A-47A0-99DC-5D9D423AE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3F4A93-CFBF-4FD8-9D0D-ADBBAEABC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9CCC2B-A58A-4575-BBC0-BF5912A73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2FC09-FB34-4008-8D03-973AE2FBB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EBE84-674E-4A6B-9D7E-7A76FFAAA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94FEC-7203-4148-A1A0-A05E20107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530FE-0CB5-4874-8A63-3B2070F73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A3E18-8E58-464F-ACCA-D9ED8311D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14A6E-4A14-4DD6-8A72-96265E460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89790-8C1D-40BF-8ECB-051BD2425D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3D883-53AA-4941-B16A-A6D201539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450B3F-52A2-4D48-B248-38679D365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A4B1D2-1DA6-47A0-93A7-B68F5003B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86679B-0E0F-4B62-8753-C2ECBBD05B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57E77-45C6-44AB-9EC1-BF73E2263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97869-8410-457F-ADF2-6F32D98CC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8E7499-605B-40C2-9192-E9DFE01B8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8DA0C-E02D-4DBE-B32D-817F88D9B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A7738-38E2-44AC-8F52-A6B0C386E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FBE85-DCB4-4CAE-9B0E-8F5B5FD34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5AEE8-EE81-463B-87C6-CD1057C83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3E6E-5620-43EC-96E6-EC12E79CE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92D71-2077-42BB-BD83-BCE75A614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4E8C7F-1B69-4810-9866-D7D258CF43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6EFD9C-99A9-41B5-BEC7-CEF923216F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420535-51DC-4A94-9E45-3D3B7B735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80811-A541-4095-A9F2-E8934AC5D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B730F-D189-4DB0-A0E0-651FF41F4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560FE-7A5F-4762-853F-91F276945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0CDAE5-7A59-4246-A32A-F755C1935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86445-7599-4B11-B48A-C57F4ED20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A85D3-C18C-45C3-8C59-500BE53AB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E9C8-45C0-4E6E-8227-9CA22D9B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59F7A-3A61-4C05-80FB-05D004668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33534-4415-4199-9A38-04C489350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E9828-851E-4CBD-AFB0-4E255D9404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AD77F-86A4-4487-B88A-4EBEEB8512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0797C3-FB6C-425E-AB59-623CDB18B9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3CEC82-96D3-49CA-8606-0B453CF7EB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BA178-A1F0-4226-9001-1B6463A273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345E2-3178-4BB5-B431-AE45EC50F8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5A700-CD87-42B6-A08A-A186FA9D2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EA254-B6F0-4F38-BE8E-3E8B52A25D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D251-8F8D-451F-8E80-F94235CCC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DD70B-0CE9-4505-ACAC-AC28B0733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0EA75-9B4B-426C-9E03-86C2C21B8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2502E-7ED0-4CF1-8041-B798C7AAB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A4207-57B6-4810-AF89-A17BFD91A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994AC-84A0-4519-9FAF-5D20B08CD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457404-57A9-4CF0-A676-52F2D1D929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E9AFE8-5BB6-4732-82E4-1A612C55D7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F016D0E-8283-4605-A897-97C101B28C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FD9B37-59D9-4FF0-AB62-D4BC50638AA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1798F1C-A5BB-4F6E-B9B9-6A09F747315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6C40-8401-438C-AB8F-04BE8C9DC05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47C8-4BDE-44C8-B1F8-082B0C88B0A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098E-4DE7-46F6-A02E-210F13BC57C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CC75-F95D-42F0-AF32-A33E93C6B047}"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75EA-AEBD-458E-94FF-824D2199038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9585-0DA1-4994-ACA7-DF5C959E91DE}"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31E0-6F78-4F0B-801A-9348697C7AD7}"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EAB3-2FE6-4DF3-8E85-6849292BC983}"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2494-2BFE-4F44-993E-4A35F7B4935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F419-C759-4496-B4DF-B1DB09D97E6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5A68-F824-42BB-858B-F3031364AA6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E74C-7E8B-4F3C-B6D2-2AFE25BE74EC}"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DA3-0043-49D4-84BB-F6AC5FAC3767}"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24000" y="4149720"/>
            <a:ext cx="8229600" cy="24033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CENTRO DE ECONOMÍA APLICADA</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DEPARTAMENTO DE INGENIERÍA INDUSTRIAL</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UNIVERSIDAD DE CHILE</a:t>
            </a:r>
            <a:endParaRPr b="0" lang="en-US" sz="1400" spc="-1" strike="noStrike">
              <a:solidFill>
                <a:srgbClr val="000000"/>
              </a:solidFill>
              <a:latin typeface="Calibri"/>
            </a:endParaRPr>
          </a:p>
        </p:txBody>
      </p:sp>
      <p:sp>
        <p:nvSpPr>
          <p:cNvPr id="657" name="PlaceHolder 2"/>
          <p:cNvSpPr>
            <a:spLocks noGrp="1"/>
          </p:cNvSpPr>
          <p:nvPr>
            <p:ph type="title"/>
          </p:nvPr>
        </p:nvSpPr>
        <p:spPr>
          <a:xfrm>
            <a:off x="380520" y="22093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endParaRPr b="0" lang="en-US" sz="3800" spc="-1" strike="noStrike">
              <a:solidFill>
                <a:srgbClr val="7b9899"/>
              </a:solidFill>
              <a:latin typeface="Calibri"/>
            </a:endParaRPr>
          </a:p>
        </p:txBody>
      </p:sp>
      <p:sp>
        <p:nvSpPr>
          <p:cNvPr id="658" name="Rectangle 5"/>
          <p:cNvSpPr/>
          <p:nvPr/>
        </p:nvSpPr>
        <p:spPr>
          <a:xfrm>
            <a:off x="685800" y="792000"/>
            <a:ext cx="777240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16349"/>
                </a:solidFill>
                <a:latin typeface="Calibri"/>
              </a:rPr>
              <a:t>SISTEMA NACIONAL DE EVALUACIÓN DE DESEMPEÑO DE LOS ESTABLECIMIENTOS SUBVENCIONADOS, S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9" name="Picture 8" descr="logo_dii"/>
          <p:cNvPicPr/>
          <p:nvPr/>
        </p:nvPicPr>
        <p:blipFill>
          <a:blip r:embed="rId1"/>
          <a:srcRect l="12774" t="10878" r="11905" b="22050"/>
          <a:stretch/>
        </p:blipFill>
        <p:spPr>
          <a:xfrm>
            <a:off x="560520" y="260280"/>
            <a:ext cx="2968560" cy="793800"/>
          </a:xfrm>
          <a:prstGeom prst="rect">
            <a:avLst/>
          </a:prstGeom>
          <a:ln w="0">
            <a:noFill/>
          </a:ln>
        </p:spPr>
      </p:pic>
      <p:graphicFrame>
        <p:nvGraphicFramePr>
          <p:cNvPr id="660" name="Object 9"/>
          <p:cNvGraphicFramePr/>
          <p:nvPr/>
        </p:nvGraphicFramePr>
        <p:xfrm>
          <a:off x="7361280" y="228600"/>
          <a:ext cx="1387440" cy="1387440"/>
        </p:xfrm>
        <a:graphic>
          <a:graphicData uri="http://schemas.openxmlformats.org/presentationml/2006/ole">
            <p:oleObj r:id="rId2" spid="">
              <p:embed/>
              <p:pic>
                <p:nvPicPr>
                  <p:cNvPr id="661" name="Object 9" descr=""/>
                  <p:cNvPicPr/>
                  <p:nvPr/>
                </p:nvPicPr>
                <p:blipFill>
                  <a:blip r:embed="rId3"/>
                  <a:stretch/>
                </p:blipFill>
                <p:spPr>
                  <a:xfrm>
                    <a:off x="7361280" y="228600"/>
                    <a:ext cx="138744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Ficha y Encuesta SNED</a:t>
            </a:r>
            <a:endParaRPr b="0" lang="en-US" sz="2800" spc="-1" strike="noStrike">
              <a:solidFill>
                <a:srgbClr val="000000"/>
              </a:solidFill>
              <a:latin typeface="Times New Roman"/>
            </a:endParaRPr>
          </a:p>
        </p:txBody>
      </p:sp>
      <p:sp>
        <p:nvSpPr>
          <p:cNvPr id="704"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corresponde a un cuestionario que es respondido por el Director de cada establecimiento subvencionado.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quellos temas de interés para la construcción de indicadores que componen el Índice SNED.</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aplica distintas preguntas según el Tipo de Establecimiento, es una estratificación ad-hoc diseñada solamente a propósito de la Ficha.</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válida la información respondida por los establecimientos y mide indicadores de los  factores: Iniciativa e Igualdad de Oportunidades.</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7b9899"/>
                </a:solidFill>
                <a:latin typeface="Calibri"/>
              </a:rPr>
              <a:t>Tipos de establecimiento</a:t>
            </a:r>
            <a:endParaRPr b="0" lang="en-US" sz="3300" spc="-1" strike="noStrike">
              <a:solidFill>
                <a:srgbClr val="7b9899"/>
              </a:solidFill>
              <a:latin typeface="Calibri"/>
            </a:endParaRPr>
          </a:p>
        </p:txBody>
      </p:sp>
      <p:sp>
        <p:nvSpPr>
          <p:cNvPr id="706" name=""/>
          <p:cNvSpPr txBox="1"/>
          <p:nvPr/>
        </p:nvSpPr>
        <p:spPr>
          <a:xfrm>
            <a:off x="320760" y="1649520"/>
            <a:ext cx="8502480" cy="4572000"/>
          </a:xfrm>
          <a:prstGeom prst="rect">
            <a:avLst/>
          </a:prstGeom>
          <a:noFill/>
          <a:ln w="0">
            <a:noFill/>
          </a:ln>
        </p:spPr>
        <p:txBody>
          <a:bodyPr lIns="90000" rIns="90000" tIns="46800" bIns="46800" anchor="t">
            <a:normAutofit/>
          </a:bodyPr>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básica urbana y básica rural. Se excluye a la educación básica rural multigrado).</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y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Rural Multigrado </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Especia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de Adultos</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sponde a Escuela Cárce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Parvularia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er – 2º nivel de transición).</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08" name="Picture 2" descr=""/>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0" name=""/>
          <p:cNvGraphicFramePr/>
          <p:nvPr/>
        </p:nvGraphicFramePr>
        <p:xfrm>
          <a:off x="365040" y="1600200"/>
          <a:ext cx="8367840" cy="4915080"/>
        </p:xfrm>
        <a:graphic>
          <a:graphicData uri="http://schemas.openxmlformats.org/drawingml/2006/table">
            <a:tbl>
              <a:tblPr/>
              <a:tblGrid>
                <a:gridCol w="981000"/>
                <a:gridCol w="2535480"/>
                <a:gridCol w="979560"/>
                <a:gridCol w="261720"/>
                <a:gridCol w="407880"/>
                <a:gridCol w="425520"/>
                <a:gridCol w="620640"/>
                <a:gridCol w="624240"/>
                <a:gridCol w="576000"/>
                <a:gridCol w="527040"/>
                <a:gridCol w="428760"/>
              </a:tblGrid>
              <a:tr h="217440">
                <a:tc gridSpan="2">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8280" marR="8280">
                    <a:lnL>
                      <a:noFill/>
                    </a:lnL>
                    <a:lnR>
                      <a:noFill/>
                    </a:lnR>
                    <a:lnT>
                      <a:noFill/>
                    </a:lnT>
                    <a:lnB>
                      <a:noFill/>
                    </a:lnB>
                    <a:noFill/>
                  </a:tcPr>
                </a:tc>
                <a:tc gridSpan="7">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08080">
                <a:tc gridSpan="11">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IATIVA</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224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1</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de trabajo pedagógico grupal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88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2</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formativa complementaria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3</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curriculares de libre elecc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224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4</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de equipo de gestión representativo y periodicidad de reunion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060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5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Funcionamiento del Consejo Esco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3556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interescolar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255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 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poyo efectivo a alumnos integrados a la educación regu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381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ablecimiento define compromisos educativos y de gest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2716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9</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marco de bases curriculares de educación parvularia</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2" name=""/>
          <p:cNvGraphicFramePr/>
          <p:nvPr/>
        </p:nvGraphicFramePr>
        <p:xfrm>
          <a:off x="457200" y="1676520"/>
          <a:ext cx="8335800" cy="4587840"/>
        </p:xfrm>
        <a:graphic>
          <a:graphicData uri="http://schemas.openxmlformats.org/drawingml/2006/table">
            <a:tbl>
              <a:tblPr/>
              <a:tblGrid>
                <a:gridCol w="1015920"/>
                <a:gridCol w="1017720"/>
                <a:gridCol w="1523880"/>
                <a:gridCol w="763560"/>
                <a:gridCol w="254160"/>
                <a:gridCol w="423720"/>
                <a:gridCol w="422280"/>
                <a:gridCol w="662040"/>
                <a:gridCol w="660600"/>
                <a:gridCol w="609480"/>
                <a:gridCol w="542880"/>
                <a:gridCol w="439560"/>
              </a:tblGrid>
              <a:tr h="21420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0304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14560">
                <a:tc gridSpan="12">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LDAD</a:t>
                      </a:r>
                      <a:endParaRPr b="0" lang="en-US" sz="1200" spc="-1" strike="noStrike">
                        <a:solidFill>
                          <a:srgbClr val="000000"/>
                        </a:solidFill>
                        <a:latin typeface="Times New Roman"/>
                      </a:endParaRPr>
                    </a:p>
                  </a:txBody>
                  <a:tcPr anchor="b"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desarrollo de proyecto de integración escolar</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4</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alumnos con discapacidad múltiple y/o sever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3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prácticas discriminatoria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4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sanciones indebidas sobre los alumno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4" name=""/>
          <p:cNvGraphicFramePr/>
          <p:nvPr/>
        </p:nvGraphicFramePr>
        <p:xfrm>
          <a:off x="304920" y="1569960"/>
          <a:ext cx="8442360" cy="5137200"/>
        </p:xfrm>
        <a:graphic>
          <a:graphicData uri="http://schemas.openxmlformats.org/drawingml/2006/table">
            <a:tbl>
              <a:tblPr/>
              <a:tblGrid>
                <a:gridCol w="449280"/>
                <a:gridCol w="3423960"/>
                <a:gridCol w="898560"/>
                <a:gridCol w="231840"/>
                <a:gridCol w="387360"/>
                <a:gridCol w="387360"/>
                <a:gridCol w="604800"/>
                <a:gridCol w="603360"/>
                <a:gridCol w="557280"/>
                <a:gridCol w="496800"/>
                <a:gridCol w="401760"/>
              </a:tblGrid>
              <a:tr h="190800">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gridSpan="7">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160">
                <a:tc gridSpan="11">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TEG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1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onsejo General de Profeso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1160">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2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entro de Pad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3</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titución, representatividad y funcionamiento del Centro de Alumn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6</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4</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a la comunidad en compromisos educativos y de gestión</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5</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IMC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6</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NE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7</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tegra a padres y apoderad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sp>
        <p:nvSpPr>
          <p:cNvPr id="716"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indicadores de los  factores: Iniciativa , Igualdad de Oportunidades e Integración y participación de padres y profesore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es respondida a través de una aplicación disponible en el sitio web del Ministerio de Educación, al cual ingresan los establecimientos con una clave. Los establecimientos habilitados para responder son los que forman parte del Directorio Validado. Para el SNED 2008-2009 el 87,9% de los establecimientos respondió la Ficha SNED.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Text Box 3"/>
          <p:cNvSpPr/>
          <p:nvPr/>
        </p:nvSpPr>
        <p:spPr>
          <a:xfrm>
            <a:off x="609480" y="1600200"/>
            <a:ext cx="8153640" cy="56721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Información Existente a nivel central del MINEDUC (SIMCE)</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de Información desde Regiones: Encuesta y Ficha SNED </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nálisis de la Información Recogida</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 cada uno de los </a:t>
            </a:r>
            <a:r>
              <a:rPr b="0" lang="es-ES_tradnl" sz="2400" spc="-1" strike="noStrike" u="sng">
                <a:solidFill>
                  <a:srgbClr val="000000"/>
                </a:solidFill>
                <a:uFillTx/>
                <a:latin typeface="Calibri"/>
              </a:rPr>
              <a:t>Factores</a:t>
            </a:r>
            <a:r>
              <a:rPr b="0" lang="es-ES_tradnl" sz="2400" spc="-1" strike="noStrike">
                <a:solidFill>
                  <a:srgbClr val="000000"/>
                </a:solidFill>
                <a:latin typeface="Calibri"/>
              </a:rPr>
              <a:t> (de acuerdo a los </a:t>
            </a:r>
            <a:r>
              <a:rPr b="0" lang="es-ES_tradnl" sz="2400" spc="-1" strike="noStrike" u="sng">
                <a:solidFill>
                  <a:srgbClr val="000000"/>
                </a:solidFill>
                <a:uFillTx/>
                <a:latin typeface="Calibri"/>
              </a:rPr>
              <a:t>Indicadores</a:t>
            </a:r>
            <a:r>
              <a:rPr b="0" lang="es-ES_tradnl" sz="2400" spc="-1" strike="noStrike">
                <a:solidFill>
                  <a:srgbClr val="000000"/>
                </a:solidFill>
                <a:latin typeface="Calibri"/>
              </a:rPr>
              <a:t> considerados)</a:t>
            </a:r>
            <a:endParaRPr b="0" lang="en-US" sz="2400" spc="-1" strike="noStrike">
              <a:solidFill>
                <a:srgbClr val="000000"/>
              </a:solidFill>
              <a:latin typeface="Times New Roman"/>
            </a:endParaRPr>
          </a:p>
          <a:p>
            <a:pPr marL="449280" indent="-449280" algn="just">
              <a:lnSpc>
                <a:spcPct val="3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l Indice SNED (de acuerdo a los ponderadores). Escala 0 a 100.</a:t>
            </a:r>
            <a:endParaRPr b="0" lang="en-US" sz="2400" spc="-1" strike="noStrike">
              <a:solidFill>
                <a:srgbClr val="000000"/>
              </a:solidFill>
              <a:latin typeface="Times New Roman"/>
            </a:endParaRPr>
          </a:p>
          <a:p>
            <a:pPr marL="449280" indent="-449280" algn="just">
              <a:lnSpc>
                <a:spcPct val="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Establecimientos Beneficiarios</a:t>
            </a:r>
            <a:endParaRPr b="0" lang="en-US" sz="2400" spc="-1" strike="noStrike">
              <a:solidFill>
                <a:srgbClr val="000000"/>
              </a:solidFill>
              <a:latin typeface="Times New Roman"/>
            </a:endParaRPr>
          </a:p>
        </p:txBody>
      </p:sp>
      <p:sp>
        <p:nvSpPr>
          <p:cNvPr id="719" name="Rectangle 4"/>
          <p:cNvSpPr/>
          <p:nvPr/>
        </p:nvSpPr>
        <p:spPr>
          <a:xfrm>
            <a:off x="1219320" y="457200"/>
            <a:ext cx="6172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INDICE SNED: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Text Box 3"/>
          <p:cNvSpPr/>
          <p:nvPr/>
        </p:nvSpPr>
        <p:spPr>
          <a:xfrm>
            <a:off x="609480" y="1600200"/>
            <a:ext cx="815364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Picture 20" descr=""/>
          <p:cNvPicPr/>
          <p:nvPr/>
        </p:nvPicPr>
        <p:blipFill>
          <a:blip r:embed="rId1"/>
          <a:stretch/>
        </p:blipFill>
        <p:spPr>
          <a:xfrm>
            <a:off x="444600" y="1500120"/>
            <a:ext cx="8281800" cy="4756320"/>
          </a:xfrm>
          <a:prstGeom prst="rect">
            <a:avLst/>
          </a:prstGeom>
          <a:ln w="0">
            <a:noFill/>
          </a:ln>
        </p:spPr>
      </p:pic>
      <p:sp>
        <p:nvSpPr>
          <p:cNvPr id="723" name="Text Box 21"/>
          <p:cNvSpPr/>
          <p:nvPr/>
        </p:nvSpPr>
        <p:spPr>
          <a:xfrm>
            <a:off x="2133720" y="3608280"/>
            <a:ext cx="16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Igualdad</a:t>
            </a:r>
            <a:endParaRPr b="0" lang="en-US" sz="1600" spc="-1" strike="noStrike">
              <a:solidFill>
                <a:srgbClr val="000000"/>
              </a:solidFill>
              <a:latin typeface="Times New Roman"/>
            </a:endParaRPr>
          </a:p>
        </p:txBody>
      </p:sp>
      <p:sp>
        <p:nvSpPr>
          <p:cNvPr id="724" name="Line 22"/>
          <p:cNvSpPr/>
          <p:nvPr/>
        </p:nvSpPr>
        <p:spPr>
          <a:xfrm>
            <a:off x="2971800" y="4191120"/>
            <a:ext cx="1219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23"/>
          <p:cNvSpPr/>
          <p:nvPr/>
        </p:nvSpPr>
        <p:spPr>
          <a:xfrm>
            <a:off x="3200400" y="4114800"/>
            <a:ext cx="53352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24"/>
          <p:cNvSpPr/>
          <p:nvPr/>
        </p:nvSpPr>
        <p:spPr>
          <a:xfrm>
            <a:off x="3200400" y="838080"/>
            <a:ext cx="1066680" cy="381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25"/>
          <p:cNvSpPr/>
          <p:nvPr/>
        </p:nvSpPr>
        <p:spPr>
          <a:xfrm>
            <a:off x="3200400" y="838080"/>
            <a:ext cx="8380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26"/>
          <p:cNvSpPr/>
          <p:nvPr/>
        </p:nvSpPr>
        <p:spPr>
          <a:xfrm>
            <a:off x="2697120" y="402444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Text Box 27"/>
          <p:cNvSpPr/>
          <p:nvPr/>
        </p:nvSpPr>
        <p:spPr>
          <a:xfrm>
            <a:off x="6522840" y="347976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NED</a:t>
            </a:r>
            <a:endParaRPr b="0" lang="en-US" sz="1600" spc="-1" strike="noStrike">
              <a:solidFill>
                <a:srgbClr val="000000"/>
              </a:solidFill>
              <a:latin typeface="Times New Roman"/>
            </a:endParaRPr>
          </a:p>
        </p:txBody>
      </p:sp>
      <p:sp>
        <p:nvSpPr>
          <p:cNvPr id="730" name="Line 28"/>
          <p:cNvSpPr/>
          <p:nvPr/>
        </p:nvSpPr>
        <p:spPr>
          <a:xfrm flipH="1">
            <a:off x="5638680" y="3733920"/>
            <a:ext cx="914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Text Box 29"/>
          <p:cNvSpPr/>
          <p:nvPr/>
        </p:nvSpPr>
        <p:spPr>
          <a:xfrm>
            <a:off x="7203600" y="48243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CE</a:t>
            </a:r>
            <a:endParaRPr b="0" lang="en-US" sz="1600" spc="-1" strike="noStrike">
              <a:solidFill>
                <a:srgbClr val="000000"/>
              </a:solidFill>
              <a:latin typeface="Times New Roman"/>
            </a:endParaRPr>
          </a:p>
        </p:txBody>
      </p:sp>
      <p:sp>
        <p:nvSpPr>
          <p:cNvPr id="732" name="Line 30"/>
          <p:cNvSpPr/>
          <p:nvPr/>
        </p:nvSpPr>
        <p:spPr>
          <a:xfrm flipV="1">
            <a:off x="7620120" y="4267080"/>
            <a:ext cx="152280" cy="53352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Text Box 31"/>
          <p:cNvSpPr/>
          <p:nvPr/>
        </p:nvSpPr>
        <p:spPr>
          <a:xfrm>
            <a:off x="179280" y="404640"/>
            <a:ext cx="8713800" cy="90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centaje  Premiados según Nivel Socioeconómi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 Establ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259920"/>
            <a:ext cx="77724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16349"/>
                </a:solidFill>
                <a:latin typeface="Calibri"/>
              </a:rPr>
              <a:t>Antecedentes del SNED</a:t>
            </a:r>
            <a:endParaRPr b="0" lang="en-US" sz="2800" spc="-1" strike="noStrike">
              <a:solidFill>
                <a:srgbClr val="7b9899"/>
              </a:solidFill>
              <a:latin typeface="Calibri"/>
            </a:endParaRPr>
          </a:p>
        </p:txBody>
      </p:sp>
      <p:sp>
        <p:nvSpPr>
          <p:cNvPr id="663" name=""/>
          <p:cNvSpPr txBox="1"/>
          <p:nvPr/>
        </p:nvSpPr>
        <p:spPr>
          <a:xfrm>
            <a:off x="685800" y="1673280"/>
            <a:ext cx="7772400" cy="518472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a:t>
            </a:r>
            <a:r>
              <a:rPr b="0" lang="es-CL" sz="2000" spc="-1" strike="noStrike">
                <a:solidFill>
                  <a:srgbClr val="000000"/>
                </a:solidFill>
                <a:latin typeface="Calibri"/>
              </a:rPr>
              <a:t>fue </a:t>
            </a:r>
            <a:r>
              <a:rPr b="0" lang="es-ES" sz="2000" spc="-1" strike="noStrike">
                <a:solidFill>
                  <a:srgbClr val="000000"/>
                </a:solidFill>
                <a:latin typeface="Calibri"/>
              </a:rPr>
              <a:t>creado en 1995</a:t>
            </a:r>
            <a:r>
              <a:rPr b="0" lang="es-CL" sz="2000" spc="-1" strike="noStrike">
                <a:solidFill>
                  <a:srgbClr val="000000"/>
                </a:solidFill>
                <a:latin typeface="Calibri"/>
              </a:rPr>
              <a:t> con el objeto de vincular </a:t>
            </a:r>
            <a:r>
              <a:rPr b="0" lang="es-ES" sz="2000" spc="-1" strike="noStrike">
                <a:solidFill>
                  <a:srgbClr val="000000"/>
                </a:solidFill>
                <a:latin typeface="Calibri"/>
              </a:rPr>
              <a:t>aumento</a:t>
            </a:r>
            <a:r>
              <a:rPr b="0" lang="es-CL" sz="2000" spc="-1" strike="noStrike">
                <a:solidFill>
                  <a:srgbClr val="000000"/>
                </a:solidFill>
                <a:latin typeface="Calibri"/>
              </a:rPr>
              <a:t>s</a:t>
            </a:r>
            <a:r>
              <a:rPr b="0" lang="es-ES" sz="2000" spc="-1" strike="noStrike">
                <a:solidFill>
                  <a:srgbClr val="000000"/>
                </a:solidFill>
                <a:latin typeface="Calibri"/>
              </a:rPr>
              <a:t> </a:t>
            </a:r>
            <a:r>
              <a:rPr b="0" lang="es-CL" sz="2000" spc="-1" strike="noStrike">
                <a:solidFill>
                  <a:srgbClr val="000000"/>
                </a:solidFill>
                <a:latin typeface="Calibri"/>
              </a:rPr>
              <a:t>de </a:t>
            </a:r>
            <a:r>
              <a:rPr b="0" lang="es-ES" sz="2000" spc="-1" strike="noStrike">
                <a:solidFill>
                  <a:srgbClr val="000000"/>
                </a:solidFill>
                <a:latin typeface="Calibri"/>
              </a:rPr>
              <a:t>remuneraciones con desempeño</a:t>
            </a:r>
            <a:r>
              <a:rPr b="0" lang="es-CL" sz="2000" spc="-1" strike="noStrike">
                <a:solidFill>
                  <a:srgbClr val="000000"/>
                </a:solidFill>
                <a:latin typeface="Calibri"/>
              </a:rPr>
              <a:t>, incentivar a docentes destacados, y proveer de información a la comunidad escolar, contribuyendo así a mejorar la calidad de la educación subvencionada</a:t>
            </a:r>
            <a:r>
              <a:rPr b="0" lang="es-ES" sz="2000" spc="-1" strike="noStrike">
                <a:solidFill>
                  <a:srgbClr val="000000"/>
                </a:solidFill>
                <a:latin typeface="Calibri"/>
              </a:rPr>
              <a:t>.</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lecciona</a:t>
            </a:r>
            <a:r>
              <a:rPr b="0" lang="es-ES" sz="2000" spc="-1" strike="noStrike">
                <a:solidFill>
                  <a:srgbClr val="000000"/>
                </a:solidFill>
                <a:latin typeface="Calibri"/>
              </a:rPr>
              <a:t> cada dos años a los establecimientos municipales y particular subvencionados de mejor desempeño en cada región del país. </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empla la entrega de un beneficio económico denominado “Subvención por Desempeño de Excelencia”, para los establecimientos de mejor desempeño, que se distribuye entre los docentes de acuerdo a horas cronológicas.</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se ha aplicado en 7 ocasiones</a:t>
            </a:r>
            <a:r>
              <a:rPr b="0" lang="es-CL" sz="2000" spc="-1" strike="noStrike">
                <a:solidFill>
                  <a:srgbClr val="000000"/>
                </a:solidFill>
                <a:latin typeface="Calibri"/>
              </a:rPr>
              <a:t>, para los siguientes períodos bianuales: 1996-1997, 1998–1999, 2000-2001, 2002-2003, 2004-2005, 2006-2007, 2008-2009.</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664" name="Group 4"/>
          <p:cNvGrpSpPr/>
          <p:nvPr/>
        </p:nvGrpSpPr>
        <p:grpSpPr>
          <a:xfrm>
            <a:off x="203040" y="173160"/>
            <a:ext cx="8705520" cy="6526080"/>
            <a:chOff x="203040" y="173160"/>
            <a:chExt cx="8705520" cy="6526080"/>
          </a:xfrm>
        </p:grpSpPr>
        <p:sp>
          <p:nvSpPr>
            <p:cNvPr id="665"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2880"/>
            <a:ext cx="7772400" cy="1306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16349"/>
                </a:solidFill>
                <a:latin typeface="Calibri"/>
              </a:rPr>
              <a:t>Cómo resuelve el SNED los desafíos metodológicos de los sistemas de incentivos</a:t>
            </a:r>
            <a:endParaRPr b="0" lang="en-US" sz="2400" spc="-1" strike="noStrike">
              <a:solidFill>
                <a:srgbClr val="7b9899"/>
              </a:solidFill>
              <a:latin typeface="Calibri"/>
            </a:endParaRPr>
          </a:p>
        </p:txBody>
      </p:sp>
      <p:sp>
        <p:nvSpPr>
          <p:cNvPr id="670" name=""/>
          <p:cNvSpPr txBox="1"/>
          <p:nvPr/>
        </p:nvSpPr>
        <p:spPr>
          <a:xfrm>
            <a:off x="539640" y="1989000"/>
            <a:ext cx="7772400" cy="4114800"/>
          </a:xfrm>
          <a:prstGeom prst="rect">
            <a:avLst/>
          </a:prstGeom>
          <a:noFill/>
          <a:ln w="0">
            <a:noFill/>
          </a:ln>
        </p:spPr>
        <p:txBody>
          <a:bodyPr lIns="90000" rIns="90000" tIns="46800" bIns="46800" anchor="t">
            <a:normAutofit/>
          </a:bodyPr>
          <a:p>
            <a:pPr marL="272880" indent="-272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ómo comparar establecimientos con características diferentes las cuales afectan su desempeño?</a:t>
            </a:r>
            <a:endParaRPr b="0" lang="en-US" sz="2400" spc="-1" strike="noStrike">
              <a:solidFill>
                <a:srgbClr val="646b86"/>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Qué medir?</a:t>
            </a:r>
            <a:endParaRPr b="0" lang="en-US" sz="2400" spc="-1" strike="noStrike">
              <a:solidFill>
                <a:srgbClr val="646b86"/>
              </a:solidFill>
              <a:latin typeface="Calibri"/>
            </a:endParaRPr>
          </a:p>
        </p:txBody>
      </p:sp>
      <p:grpSp>
        <p:nvGrpSpPr>
          <p:cNvPr id="671" name="Group 4"/>
          <p:cNvGrpSpPr/>
          <p:nvPr/>
        </p:nvGrpSpPr>
        <p:grpSpPr>
          <a:xfrm>
            <a:off x="203040" y="173160"/>
            <a:ext cx="8705520" cy="6526080"/>
            <a:chOff x="203040" y="173160"/>
            <a:chExt cx="8705520" cy="6526080"/>
          </a:xfrm>
        </p:grpSpPr>
        <p:sp>
          <p:nvSpPr>
            <p:cNvPr id="672"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55240"/>
            <a:ext cx="7772400" cy="16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16349"/>
                </a:solidFill>
                <a:latin typeface="Calibri"/>
              </a:rPr>
              <a:t>Al comparar escuelas hay que considerar metodologías que permitan comparar entre escuelas similares</a:t>
            </a:r>
            <a:br>
              <a:rPr sz="2000"/>
            </a:br>
            <a:r>
              <a:rPr b="1" lang="es-CL" sz="2000" spc="-1" strike="noStrike">
                <a:solidFill>
                  <a:srgbClr val="d16349"/>
                </a:solidFill>
                <a:latin typeface="Calibri"/>
              </a:rPr>
              <a:t>  </a:t>
            </a:r>
            <a:br>
              <a:rPr sz="2000"/>
            </a:br>
            <a:r>
              <a:rPr b="1" lang="es-CL" sz="2000" spc="-1" strike="noStrike">
                <a:solidFill>
                  <a:srgbClr val="d16349"/>
                </a:solidFill>
                <a:latin typeface="Calibri"/>
              </a:rPr>
              <a:t>Logro promedio vs ISE del colegio. 4° Básico</a:t>
            </a:r>
            <a:endParaRPr b="0" lang="en-US" sz="2000" spc="-1" strike="noStrike">
              <a:solidFill>
                <a:srgbClr val="7b9899"/>
              </a:solidFill>
              <a:latin typeface="Calibri"/>
            </a:endParaRPr>
          </a:p>
        </p:txBody>
      </p:sp>
      <p:graphicFrame>
        <p:nvGraphicFramePr>
          <p:cNvPr id="677" name="Object 4"/>
          <p:cNvGraphicFramePr/>
          <p:nvPr/>
        </p:nvGraphicFramePr>
        <p:xfrm>
          <a:off x="1209600" y="2028960"/>
          <a:ext cx="6724800" cy="4086000"/>
        </p:xfrm>
        <a:graphic>
          <a:graphicData uri="http://schemas.openxmlformats.org/presentationml/2006/ole">
            <p:oleObj progId="Excel.Sheet.12" r:id="rId1" spid="">
              <p:embed/>
              <p:pic>
                <p:nvPicPr>
                  <p:cNvPr id="678" name="Object 4" descr=""/>
                  <p:cNvPicPr/>
                  <p:nvPr/>
                </p:nvPicPr>
                <p:blipFill>
                  <a:blip r:embed="rId2"/>
                  <a:stretch/>
                </p:blipFill>
                <p:spPr>
                  <a:xfrm>
                    <a:off x="1209600" y="2028960"/>
                    <a:ext cx="6724800" cy="4086000"/>
                  </a:xfrm>
                  <a:prstGeom prst="rect">
                    <a:avLst/>
                  </a:prstGeom>
                  <a:ln w="0">
                    <a:noFill/>
                  </a:ln>
                </p:spPr>
              </p:pic>
            </p:oleObj>
          </a:graphicData>
        </a:graphic>
      </p:graphicFrame>
      <p:grpSp>
        <p:nvGrpSpPr>
          <p:cNvPr id="679" name="Group 6"/>
          <p:cNvGrpSpPr/>
          <p:nvPr/>
        </p:nvGrpSpPr>
        <p:grpSpPr>
          <a:xfrm>
            <a:off x="203040" y="174600"/>
            <a:ext cx="8704080" cy="6524640"/>
            <a:chOff x="203040" y="174600"/>
            <a:chExt cx="8704080" cy="6524640"/>
          </a:xfrm>
        </p:grpSpPr>
        <p:sp>
          <p:nvSpPr>
            <p:cNvPr id="680" name="Line 7"/>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3"/>
          <p:cNvSpPr/>
          <p:nvPr/>
        </p:nvSpPr>
        <p:spPr>
          <a:xfrm>
            <a:off x="971640" y="677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x Región</a:t>
            </a:r>
            <a:endParaRPr b="0" lang="en-US" sz="2800" spc="-1" strike="noStrike">
              <a:solidFill>
                <a:srgbClr val="000000"/>
              </a:solidFill>
              <a:latin typeface="Times New Roman"/>
            </a:endParaRPr>
          </a:p>
        </p:txBody>
      </p:sp>
      <p:sp>
        <p:nvSpPr>
          <p:cNvPr id="684" name="Text Box 4"/>
          <p:cNvSpPr/>
          <p:nvPr/>
        </p:nvSpPr>
        <p:spPr>
          <a:xfrm>
            <a:off x="1295280" y="1981080"/>
            <a:ext cx="655344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5" name=""/>
          <p:cNvGraphicFramePr/>
          <p:nvPr/>
        </p:nvGraphicFramePr>
        <p:xfrm>
          <a:off x="1523880" y="2286000"/>
          <a:ext cx="6096240" cy="3324240"/>
        </p:xfrm>
        <a:graphic>
          <a:graphicData uri="http://schemas.openxmlformats.org/drawingml/2006/table">
            <a:tbl>
              <a:tblPr/>
              <a:tblGrid>
                <a:gridCol w="2032200"/>
                <a:gridCol w="2031840"/>
                <a:gridCol w="2032200"/>
              </a:tblGrid>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rba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ural</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9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v)</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36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ucación Especial</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86" name="Line 34"/>
          <p:cNvSpPr/>
          <p:nvPr/>
        </p:nvSpPr>
        <p:spPr>
          <a:xfrm>
            <a:off x="7238880" y="312408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32 Rectángulo"/>
          <p:cNvSpPr/>
          <p:nvPr/>
        </p:nvSpPr>
        <p:spPr>
          <a:xfrm>
            <a:off x="1768320" y="1504800"/>
            <a:ext cx="5607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os establecimientos se clasifican 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Text Box 3"/>
          <p:cNvSpPr/>
          <p:nvPr/>
        </p:nvSpPr>
        <p:spPr>
          <a:xfrm>
            <a:off x="324000" y="333360"/>
            <a:ext cx="84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Etapas</a:t>
            </a:r>
            <a:endParaRPr b="0" lang="en-US" sz="2800" spc="-1" strike="noStrike">
              <a:solidFill>
                <a:srgbClr val="000000"/>
              </a:solidFill>
              <a:latin typeface="Times New Roman"/>
            </a:endParaRPr>
          </a:p>
        </p:txBody>
      </p:sp>
      <p:sp>
        <p:nvSpPr>
          <p:cNvPr id="690" name="Text Box 4"/>
          <p:cNvSpPr/>
          <p:nvPr/>
        </p:nvSpPr>
        <p:spPr>
          <a:xfrm>
            <a:off x="755640" y="1125360"/>
            <a:ext cx="7632720" cy="22935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Los grupos de 1º nivel (i a iv) se clasifican en grupos de 2º nivel, de acuerdo a variables socioeconómicas: </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Ingreso promedio del hogar</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Educación promedio del padre y la madre</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 </a:t>
            </a:r>
            <a:r>
              <a:rPr b="0" lang="es-MX" sz="2200" spc="-1" strike="noStrike">
                <a:solidFill>
                  <a:srgbClr val="000000"/>
                </a:solidFill>
                <a:latin typeface="Calibri"/>
                <a:ea typeface="Times New Roman"/>
              </a:rPr>
              <a:t>Indice de vulnerabilidad (IVE) de la JUNAEB</a:t>
            </a:r>
            <a:endParaRPr b="0" lang="en-US" sz="2200" spc="-1" strike="noStrike">
              <a:solidFill>
                <a:srgbClr val="000000"/>
              </a:solidFill>
              <a:latin typeface="Times New Roman"/>
            </a:endParaRPr>
          </a:p>
        </p:txBody>
      </p:sp>
      <p:sp>
        <p:nvSpPr>
          <p:cNvPr id="691" name="Text Box 6"/>
          <p:cNvSpPr/>
          <p:nvPr/>
        </p:nvSpPr>
        <p:spPr>
          <a:xfrm>
            <a:off x="684360" y="4292640"/>
            <a:ext cx="7704000" cy="12740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 utiliza la metodología de análisis de conglomerados</a:t>
            </a:r>
            <a:endParaRPr b="0" lang="en-US" sz="2200" spc="-1" strike="noStrike">
              <a:solidFill>
                <a:srgbClr val="000000"/>
              </a:solidFill>
              <a:latin typeface="Times New Roman"/>
            </a:endParaRPr>
          </a:p>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 no existe información socioeconómica: criterio comuna/dependenc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Text Box 3"/>
          <p:cNvSpPr/>
          <p:nvPr/>
        </p:nvSpPr>
        <p:spPr>
          <a:xfrm>
            <a:off x="611280" y="885960"/>
            <a:ext cx="7920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d1634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16349"/>
                </a:solidFill>
                <a:latin typeface="Calibri"/>
              </a:rPr>
              <a:t> </a:t>
            </a:r>
            <a:r>
              <a:rPr b="0" lang="es-ES_tradnl" sz="2200" spc="-1" strike="noStrike">
                <a:solidFill>
                  <a:srgbClr val="000000"/>
                </a:solidFill>
                <a:latin typeface="Calibri"/>
              </a:rPr>
              <a:t>Se calcula un índice a nivel nacional</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En base a información de Factores e Indicadores,</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revisión de los indicadores y la selección de aquellos que forman parte del SNED tiene en cuenta los siguientes requisitos técnicos:</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alidad, en términos de la cobertura de establecimientos, por nivel educacional o tipo de enseñanza donde el indicador es aplicable.</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bjetividad, entendida como la calidad de un indicador para medir un determinado comportamiento.</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sceptible de Validación, es decir, la información recogida a través de un indicador debe ser verificable .</a:t>
            </a:r>
            <a:endParaRPr b="0" lang="en-US" sz="2200" spc="-1" strike="noStrike">
              <a:solidFill>
                <a:srgbClr val="000000"/>
              </a:solidFill>
              <a:latin typeface="Times New Roman"/>
            </a:endParaRPr>
          </a:p>
        </p:txBody>
      </p:sp>
      <p:sp>
        <p:nvSpPr>
          <p:cNvPr id="694" name="Rectangle 4"/>
          <p:cNvSpPr/>
          <p:nvPr/>
        </p:nvSpPr>
        <p:spPr>
          <a:xfrm>
            <a:off x="1187280" y="333360"/>
            <a:ext cx="617220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Qué medir: INDICE S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
          <p:cNvGrpSpPr/>
          <p:nvPr/>
        </p:nvGrpSpPr>
        <p:grpSpPr>
          <a:xfrm>
            <a:off x="203040" y="173160"/>
            <a:ext cx="8705520" cy="6526080"/>
            <a:chOff x="203040" y="173160"/>
            <a:chExt cx="8705520" cy="6526080"/>
          </a:xfrm>
        </p:grpSpPr>
        <p:sp>
          <p:nvSpPr>
            <p:cNvPr id="696" name="Line 9"/>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0"/>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1"/>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2"/>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0" name="Picture 13" descr=""/>
          <p:cNvPicPr/>
          <p:nvPr/>
        </p:nvPicPr>
        <p:blipFill>
          <a:blip r:embed="rId1"/>
          <a:stretch/>
        </p:blipFill>
        <p:spPr>
          <a:xfrm>
            <a:off x="549360" y="1692360"/>
            <a:ext cx="804060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pic>
        <p:nvPicPr>
          <p:cNvPr id="702" name="Picture 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nanda Melis</cp:lastModifiedBy>
  <dcterms:modified xsi:type="dcterms:W3CDTF">2009-03-18T20:53:32Z</dcterms:modified>
  <cp:revision>131</cp:revision>
  <dc:subject/>
  <dc:title> DEPARTAMENTO DE ESTUDIOS Y ESTADISTICAS VISION ESTRATEGICA DE LA INFORMACION</dc:title>
</cp:coreProperties>
</file>