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5CFE-08C3-47A4-B5AC-630035B85F6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0E7A-B818-4351-87C8-CBCBFB7DAD3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71440" y="593640"/>
            <a:ext cx="4523040" cy="33926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032B-EAFD-416E-B6D4-833D46DB6D0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0DE842-A1B2-47D9-B747-DA6B59A25E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45A44E-5CA4-40EA-8BBB-E4F336E88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28F927-92D8-4254-9C05-5C5AB4DC5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AFD01C-DA11-4178-88BC-3C3F7B3AA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F52388-1D8C-4919-9528-E2EF75E3F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1702AC-7A61-4FC8-AB80-B3A482462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5E393C-FA21-4798-AA72-CD03C8CADC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6B3D62-2A71-46D1-9F64-0CDEA82AAF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9D8C7E-6B0C-4D03-8A06-6146626DA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6714A5-EEAE-4436-8F45-ECBA27DE0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09FE26-C035-4D96-8E72-CB2B4E6BA9D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6FC8956-8D6A-4AAD-A2A3-E1452D84C14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ACA9-1EF5-4314-8EBF-99A2F6D771D1}"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393372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50"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5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52" name=""/>
          <p:cNvGrpSpPr/>
          <p:nvPr/>
        </p:nvGrpSpPr>
        <p:grpSpPr>
          <a:xfrm>
            <a:off x="468360" y="4890960"/>
            <a:ext cx="3600000" cy="627120"/>
            <a:chOff x="468360" y="4890960"/>
            <a:chExt cx="3600000" cy="627120"/>
          </a:xfrm>
        </p:grpSpPr>
        <p:sp>
          <p:nvSpPr>
            <p:cNvPr id="25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5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5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6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62"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63"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65"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67"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69" name=""/>
          <p:cNvGrpSpPr/>
          <p:nvPr/>
        </p:nvGrpSpPr>
        <p:grpSpPr>
          <a:xfrm>
            <a:off x="468360" y="4890960"/>
            <a:ext cx="3600000" cy="627120"/>
            <a:chOff x="468360" y="4890960"/>
            <a:chExt cx="3600000" cy="627120"/>
          </a:xfrm>
        </p:grpSpPr>
        <p:sp>
          <p:nvSpPr>
            <p:cNvPr id="270"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1"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2"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3"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4"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5"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78"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79"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80"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81"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82"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85"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6" name=""/>
          <p:cNvGrpSpPr/>
          <p:nvPr/>
        </p:nvGrpSpPr>
        <p:grpSpPr>
          <a:xfrm>
            <a:off x="826920" y="2738520"/>
            <a:ext cx="3600720" cy="627120"/>
            <a:chOff x="826920" y="2738520"/>
            <a:chExt cx="3600720" cy="627120"/>
          </a:xfrm>
        </p:grpSpPr>
        <p:sp>
          <p:nvSpPr>
            <p:cNvPr id="287"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0"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1"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92" name=""/>
          <p:cNvGrpSpPr/>
          <p:nvPr/>
        </p:nvGrpSpPr>
        <p:grpSpPr>
          <a:xfrm>
            <a:off x="826920" y="4964040"/>
            <a:ext cx="3600720" cy="627120"/>
            <a:chOff x="826920" y="4964040"/>
            <a:chExt cx="3600720" cy="627120"/>
          </a:xfrm>
        </p:grpSpPr>
        <p:sp>
          <p:nvSpPr>
            <p:cNvPr id="293"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7"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98"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300"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302"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0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305"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306"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307"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309" name="" descr=""/>
          <p:cNvPicPr/>
          <p:nvPr/>
        </p:nvPicPr>
        <p:blipFill>
          <a:blip r:embed="rId1"/>
          <a:srcRect l="0" t="19207" r="0" b="0"/>
          <a:stretch/>
        </p:blipFill>
        <p:spPr>
          <a:xfrm>
            <a:off x="304920" y="2276640"/>
            <a:ext cx="8839080" cy="1823760"/>
          </a:xfrm>
          <a:prstGeom prst="rect">
            <a:avLst/>
          </a:prstGeom>
          <a:ln w="0">
            <a:noFill/>
          </a:ln>
        </p:spPr>
      </p:pic>
      <p:sp>
        <p:nvSpPr>
          <p:cNvPr id="31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31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31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315"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316"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318"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319"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323" name=""/>
          <p:cNvGrpSpPr/>
          <p:nvPr/>
        </p:nvGrpSpPr>
        <p:grpSpPr>
          <a:xfrm>
            <a:off x="900000" y="2205000"/>
            <a:ext cx="7380360" cy="1376280"/>
            <a:chOff x="900000" y="2205000"/>
            <a:chExt cx="7380360" cy="1376280"/>
          </a:xfrm>
        </p:grpSpPr>
        <p:sp>
          <p:nvSpPr>
            <p:cNvPr id="324"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326"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27"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28"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29"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33"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34"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35"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36"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37"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39"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40"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41"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42"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44"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48"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51" name=""/>
          <p:cNvGrpSpPr/>
          <p:nvPr/>
        </p:nvGrpSpPr>
        <p:grpSpPr>
          <a:xfrm>
            <a:off x="2124000" y="2565360"/>
            <a:ext cx="5977080" cy="1129680"/>
            <a:chOff x="2124000" y="2565360"/>
            <a:chExt cx="5977080" cy="1129680"/>
          </a:xfrm>
        </p:grpSpPr>
        <p:sp>
          <p:nvSpPr>
            <p:cNvPr id="352"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58"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59"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60"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61"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62"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63"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6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65" name=""/>
          <p:cNvGrpSpPr/>
          <p:nvPr/>
        </p:nvGrpSpPr>
        <p:grpSpPr>
          <a:xfrm>
            <a:off x="2124000" y="4365720"/>
            <a:ext cx="5977080" cy="1129320"/>
            <a:chOff x="2124000" y="4365720"/>
            <a:chExt cx="5977080" cy="1129320"/>
          </a:xfrm>
        </p:grpSpPr>
        <p:sp>
          <p:nvSpPr>
            <p:cNvPr id="366"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72"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3"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4"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75"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76"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77"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78"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79"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8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83"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8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9"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90" name="" descr=""/>
          <p:cNvPicPr/>
          <p:nvPr/>
        </p:nvPicPr>
        <p:blipFill>
          <a:blip r:embed="rId1"/>
          <a:stretch/>
        </p:blipFill>
        <p:spPr>
          <a:xfrm>
            <a:off x="2411280" y="2349360"/>
            <a:ext cx="4084920" cy="1486080"/>
          </a:xfrm>
          <a:prstGeom prst="rect">
            <a:avLst/>
          </a:prstGeom>
          <a:ln w="0">
            <a:noFill/>
          </a:ln>
        </p:spPr>
      </p:pic>
      <p:sp>
        <p:nvSpPr>
          <p:cNvPr id="391" name=""/>
          <p:cNvSpPr/>
          <p:nvPr/>
        </p:nvSpPr>
        <p:spPr>
          <a:xfrm>
            <a:off x="6588000" y="285264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92"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94"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95"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98"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99"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00"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401"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403"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404" name=""/>
          <p:cNvGrpSpPr/>
          <p:nvPr/>
        </p:nvGrpSpPr>
        <p:grpSpPr>
          <a:xfrm>
            <a:off x="1487880" y="2413440"/>
            <a:ext cx="6183000" cy="1546560"/>
            <a:chOff x="1487880" y="2413440"/>
            <a:chExt cx="6183000" cy="1546560"/>
          </a:xfrm>
        </p:grpSpPr>
        <p:sp>
          <p:nvSpPr>
            <p:cNvPr id="405"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406" name=""/>
            <p:cNvGrpSpPr/>
            <p:nvPr/>
          </p:nvGrpSpPr>
          <p:grpSpPr>
            <a:xfrm>
              <a:off x="1487880" y="2413440"/>
              <a:ext cx="6183000" cy="1125000"/>
              <a:chOff x="1487880" y="2413440"/>
              <a:chExt cx="6183000" cy="1125000"/>
            </a:xfrm>
          </p:grpSpPr>
          <p:sp>
            <p:nvSpPr>
              <p:cNvPr id="407"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415"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418"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19"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0"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1"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2"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423"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425"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426" name="" descr=""/>
          <p:cNvPicPr/>
          <p:nvPr/>
        </p:nvPicPr>
        <p:blipFill>
          <a:blip r:embed="rId1"/>
          <a:stretch/>
        </p:blipFill>
        <p:spPr>
          <a:xfrm>
            <a:off x="4914720" y="1267920"/>
            <a:ext cx="3392280" cy="2427480"/>
          </a:xfrm>
          <a:prstGeom prst="rect">
            <a:avLst/>
          </a:prstGeom>
          <a:ln w="0">
            <a:noFill/>
          </a:ln>
        </p:spPr>
      </p:pic>
      <p:grpSp>
        <p:nvGrpSpPr>
          <p:cNvPr id="427" name=""/>
          <p:cNvGrpSpPr/>
          <p:nvPr/>
        </p:nvGrpSpPr>
        <p:grpSpPr>
          <a:xfrm>
            <a:off x="1547640" y="2276640"/>
            <a:ext cx="6153120" cy="1113480"/>
            <a:chOff x="1547640" y="2276640"/>
            <a:chExt cx="6153120" cy="1113480"/>
          </a:xfrm>
        </p:grpSpPr>
        <p:sp>
          <p:nvSpPr>
            <p:cNvPr id="428"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29"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30" name=""/>
            <p:cNvGrpSpPr/>
            <p:nvPr/>
          </p:nvGrpSpPr>
          <p:grpSpPr>
            <a:xfrm>
              <a:off x="1619280" y="2276640"/>
              <a:ext cx="5815080" cy="889920"/>
              <a:chOff x="1619280" y="2276640"/>
              <a:chExt cx="5815080" cy="889920"/>
            </a:xfrm>
          </p:grpSpPr>
          <p:sp>
            <p:nvSpPr>
              <p:cNvPr id="431"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41"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42"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43"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44"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6"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9"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2"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3"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54"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6"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7"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8"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60"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61"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62"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3"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4"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6"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67"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69"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2"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5"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76"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7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85"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7"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88"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89"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1"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2"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3"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5"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97"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98"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500"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1"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2"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503"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06"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07"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08"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9"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511"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14"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15"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516"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519"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520"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1"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2"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4"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526"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7"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28"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29"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3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32"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3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35"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36"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38"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39"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40"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4"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5"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551"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552"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553"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554"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56"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557" name=""/>
          <p:cNvGrpSpPr/>
          <p:nvPr/>
        </p:nvGrpSpPr>
        <p:grpSpPr>
          <a:xfrm>
            <a:off x="304920" y="2438280"/>
            <a:ext cx="8742960" cy="3581280"/>
            <a:chOff x="304920" y="2438280"/>
            <a:chExt cx="8742960" cy="3581280"/>
          </a:xfrm>
        </p:grpSpPr>
        <p:sp>
          <p:nvSpPr>
            <p:cNvPr id="558"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59"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0"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6"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9"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0"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1"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2"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577"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578"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79"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580"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1"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2"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3"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4"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5"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6"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587"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588"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589"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90"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91"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93"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594"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5"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6"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7"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8"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9"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0"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1"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2"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3"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4"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605"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606"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607"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608"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609"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610"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611"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612"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613"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614" name=""/>
          <p:cNvGrpSpPr/>
          <p:nvPr/>
        </p:nvGrpSpPr>
        <p:grpSpPr>
          <a:xfrm>
            <a:off x="381240" y="3657600"/>
            <a:ext cx="7488720" cy="2517480"/>
            <a:chOff x="381240" y="3657600"/>
            <a:chExt cx="7488720" cy="2517480"/>
          </a:xfrm>
        </p:grpSpPr>
        <p:sp>
          <p:nvSpPr>
            <p:cNvPr id="615"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6"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7"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18"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9"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0"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621"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3"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24"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5"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6"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7"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8"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9"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1"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2"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3"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634"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635"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636"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3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64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641"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643"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4"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645"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646"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7"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8"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650"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51"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2"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4"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55"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56"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7"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8"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1"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2"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63"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64"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65"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6"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667"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66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669"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670"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672"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674"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675"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676"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7"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8"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9"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0"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1"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2"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3"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4"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5"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6"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7"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8"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689"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690"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691"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692"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693"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694"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695"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696"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697"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698"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699"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701"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703"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704" name=""/>
          <p:cNvGrpSpPr/>
          <p:nvPr/>
        </p:nvGrpSpPr>
        <p:grpSpPr>
          <a:xfrm>
            <a:off x="1763640" y="4772160"/>
            <a:ext cx="6096240" cy="1609560"/>
            <a:chOff x="1763640" y="4772160"/>
            <a:chExt cx="6096240" cy="1609560"/>
          </a:xfrm>
        </p:grpSpPr>
        <p:sp>
          <p:nvSpPr>
            <p:cNvPr id="705"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06"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07"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08"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09"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10"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1"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2"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713"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4"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15"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6"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717"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18"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19"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20"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1"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2"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3"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4"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5"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6"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7"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8"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9"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30"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32"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733" name=""/>
          <p:cNvGrpSpPr/>
          <p:nvPr/>
        </p:nvGrpSpPr>
        <p:grpSpPr>
          <a:xfrm>
            <a:off x="1085760" y="2475000"/>
            <a:ext cx="6724800" cy="2393640"/>
            <a:chOff x="1085760" y="2475000"/>
            <a:chExt cx="6724800" cy="2393640"/>
          </a:xfrm>
        </p:grpSpPr>
        <p:sp>
          <p:nvSpPr>
            <p:cNvPr id="734"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35"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36"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7"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38"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9"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40"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1"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742"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43"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44"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5"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746"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47"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48"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49"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0"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1"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2"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3"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4"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5"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6"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7"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8"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9"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60"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62"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763" name=""/>
          <p:cNvGrpSpPr/>
          <p:nvPr/>
        </p:nvGrpSpPr>
        <p:grpSpPr>
          <a:xfrm>
            <a:off x="361800" y="4038480"/>
            <a:ext cx="8553600" cy="2251080"/>
            <a:chOff x="361800" y="4038480"/>
            <a:chExt cx="8553600" cy="2251080"/>
          </a:xfrm>
        </p:grpSpPr>
        <p:sp>
          <p:nvSpPr>
            <p:cNvPr id="764"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765"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766"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67"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768"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769"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770"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1"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772"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773"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774"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5"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776"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777"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778"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779"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0"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1"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2"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3"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4"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5"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6"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7"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8"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9"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90"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791"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7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794"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795"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6"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7"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798"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799"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0"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1"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2"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803"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4"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5"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6"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807"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8"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810"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811"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812"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814"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815"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816" name=""/>
          <p:cNvGrpSpPr/>
          <p:nvPr/>
        </p:nvGrpSpPr>
        <p:grpSpPr>
          <a:xfrm>
            <a:off x="1638360" y="1339920"/>
            <a:ext cx="6095880" cy="1936440"/>
            <a:chOff x="1638360" y="1339920"/>
            <a:chExt cx="6095880" cy="1936440"/>
          </a:xfrm>
        </p:grpSpPr>
        <p:sp>
          <p:nvSpPr>
            <p:cNvPr id="817"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18"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19"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20"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821"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822"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3"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824"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825"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826"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827"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8"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9"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30"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831"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832"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833"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834"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835"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836"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837"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8"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9"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0"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1"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2"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3"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4"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5"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6"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7"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848"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10-08-25T21:55:14Z</dcterms:modified>
  <cp:revision>407</cp:revision>
  <dc:subject/>
  <dc:title>Matemáticas Financieras</dc:title>
</cp:coreProperties>
</file>