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1097-6578-4147-B87B-3935C2108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7FAD-8C13-47C9-A271-5B8D4C12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E245-0D65-46A4-B85C-4CB2E13E8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1721-D4A4-49D1-A3E8-9B08EFE41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3CD4-B626-4B52-BF32-A2CBFE35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8124-CB3F-4A84-BE86-D9CA671F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93AA-A04B-48BC-BC3F-92941D48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DF07-72C2-41E7-A39E-8109B242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F6EA-9E9F-4F7C-9EBD-12D0327A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2A61-66B5-49C4-860C-0A56B7B9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2646-6199-4021-8082-0D8AD2DA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1FAD-2931-49E1-9F70-F2CCD8C8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B2BB-CC93-4C2D-8A78-A226B445D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052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Las Imágenes Satelitales y sus Capac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916280"/>
            <a:ext cx="828036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ara comprender las capacidades que puede tener una imagen satelital, es necesario conocer dos datos important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Resolución espa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Resolución espec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Estudiaremos los detalles referentes a 4 tipos de imágenes satelitales, ampliamente utilizadas hoy en dí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Lands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Iko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Quick 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4105080" cy="3908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122800" y="1628640"/>
            <a:ext cx="3409920" cy="388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403280" y="98100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Imagen IKONOS                                    Imagen QuickBi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98560" y="595008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¿ A que minas corresponde cada image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119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LANDS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2133720"/>
            <a:ext cx="7274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28 mts. multiespectral / 14 mts.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7 bandas multiespectrales / 1 banda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3068640"/>
            <a:ext cx="732816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1268280"/>
            <a:ext cx="842472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las imágenes Landsat podemos trabajar a escala 1:100.000 con comodidad, llegando incluso a poder trabajar 1:50.000 utilizando la banda pancromá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or la información espectral que este sensor tiene podemos identifi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Vege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rci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Oxidos de Fe (Hematita / Jarosi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Nieve / Glac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ada escena Landsat abarca un área de 180 x 180 km lo que permite tener una visión distrital/regional de cualquier proy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24000" y="1504800"/>
            <a:ext cx="5113440" cy="4948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58920" y="9446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Escena Landsat P001R0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119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133720"/>
            <a:ext cx="7274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15 (VNIR), 30 (SWIR) y 90 (TIR) mts. multiespec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14 bandas multiespectrales / 1 banda estereoscóp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84360" y="3319560"/>
            <a:ext cx="431496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5280" y="1268280"/>
            <a:ext cx="842472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las imágenes Aster podemos trabajar a escala 1:50.000, 1:100.000 y 1:250.000, según el rango en el que trabaje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or la información espectral que este sensor tiene podemos identifi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Vege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rcillas de alta y baja temperatura (Alunita, Kaolinita, Ili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Minerales Fe3+ y Fe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Carbonatos y alteración propil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Silic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Gran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Nieve / Glac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estudios detallados se puede llegar a identificar más minerales o asociaciones minerales. Cada escena Aster abarca un área de 60 x 60 km lo que permite tener una visión local/distrital de un proy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832720" cy="4917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58920" y="9446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Escena 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119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IKONOS &amp; QUICK B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2133720"/>
            <a:ext cx="727416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IKO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4 mts. multiespectral / 1 mts.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4 bandas multiespectrales / 1 banda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Quick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2.44 mts multiespectral / 0.61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4 bandas multiespectrales / 1 banda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Las bandas multiespectrales de ambos sensores s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CL" sz="1800" spc="-1" strike="noStrike">
                <a:solidFill>
                  <a:srgbClr val="ffffff"/>
                </a:solidFill>
                <a:latin typeface="Times New Roman"/>
              </a:rPr>
              <a:t>Azul, Verde, Rojo e Infrarrojo Cerc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1268280"/>
            <a:ext cx="8424720" cy="49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las imágenes IKONOS podemos trabajar a escala 1:8.000 (multiespectral) y 1:2.000 (pancromática), mientras con las imágenes QuickBIrd podemos trabajar a escala 1:5.000 (multiespectral) y 1:1.500 (pancromá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or la información espectral que este sensor tiene podemos identifi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Vege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Óxidos de 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Nieve / Glac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La ventaja de estas imágenes es su resolución espacial, lo que nos permite trabajar a una escala mucho más detallada para ordenamiento territorial, detección de cambios, mapeo local y distrital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Basta entonces imaginar lo que podríamos detectar con imágenes de alta resolución espacial y espectral. Hoy en día la mayoría de estas imágenes se obtiene desde sensores aerotransportados lo que las hace bastante ca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22:24:35Z</dcterms:created>
  <dc:creator>José Manuel Lattus</dc:creator>
  <dc:description/>
  <dc:language>en-US</dc:language>
  <cp:lastModifiedBy>José Manuel Lattus Sanhueza</cp:lastModifiedBy>
  <dcterms:modified xsi:type="dcterms:W3CDTF">2008-03-27T15:09:46Z</dcterms:modified>
  <cp:revision>8</cp:revision>
  <dc:subject/>
  <dc:title>Diapositiva 1</dc:title>
</cp:coreProperties>
</file>