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3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27.png" ContentType="image/png"/>
  <Override PartName="/ppt/media/image30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2.png" ContentType="image/png"/>
  <Override PartName="/ppt/media/image31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wmf" ContentType="image/x-wmf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1453-9B0B-4C05-AF3D-A4B9853501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7D3-060C-43F5-8167-BC3614FFB3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767-EE50-4512-B1BF-FBD65AB942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FB65-C472-4F3C-9311-44BB1DA8B2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441B-EBFE-40A1-8A2D-929D1AF214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969B-755A-4BB9-97B9-E91BEB2933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9F25-7157-4C62-B612-39284F2F90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3E6-5D23-4970-9447-A6467E0C7A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8D1-FED1-40E9-BE2D-E42D034C91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5FD9-9050-4633-971D-D827EE0F83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D079-2F26-4572-8A89-B31D4835D7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245-1D43-4D29-8181-9A1EB87D7F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48A4-788B-4835-9059-42C7454574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E6C-0DB9-4D14-8341-7E74EB1D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B69-98A3-4DF3-84CE-E0D19E0C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448-DAE5-4DB9-8245-1A1DA4D3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392-D447-4AA7-9890-BE353E9B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0E6-3F0C-4824-9629-09587C33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A30-D44C-4B8C-ABCA-40232CF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E7D-3C3A-495A-AC70-CD77ACA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E60-D141-482A-B218-A7E6F8B8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22C-8769-4F25-B0F2-C7879545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0FA-F69A-4FC6-BBF9-3E73633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040-BF39-43AD-94D4-5968B7B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E05-721C-404A-93B0-CD2417A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364-E29D-4D17-8363-21DC1CAFA2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6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9"/>
          <p:cNvSpPr/>
          <p:nvPr/>
        </p:nvSpPr>
        <p:spPr>
          <a:xfrm>
            <a:off x="142920" y="1487520"/>
            <a:ext cx="4824360" cy="1298520"/>
          </a:xfrm>
          <a:prstGeom prst="wedgeEllipseCallout">
            <a:avLst>
              <a:gd name="adj1" fmla="val 62666"/>
              <a:gd name="adj2" fmla="val -3305"/>
            </a:avLst>
          </a:prstGeom>
          <a:solidFill>
            <a:srgbClr val="dcf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193680" y="785880"/>
            <a:ext cx="723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74600" y="192888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rimera Ley de la TD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572160" y="3279600"/>
            <a:ext cx="2206800" cy="10695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La energía es una  variable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XTENSIV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800" y="4572000"/>
            <a:ext cx="776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Cada una de las dependencias de l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energía intern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U es un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ble extensiva. Es, entonces, una función homogénea e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cada una de sus variables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No sucede lo mismo con l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temperatura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. Su dependencia en las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bles indicadas debe ser tal que NO depende de la escala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83040" y="928800"/>
            <a:ext cx="4528800" cy="459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Comic Sans MS"/>
              </a:rPr>
              <a:t>La relación de Gibbs-Duheim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285840" y="1622520"/>
          <a:ext cx="5981760" cy="28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622520"/>
                    <a:ext cx="598176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785808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08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96840" y="1268280"/>
            <a:ext cx="91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el caso de una atmósfera isoterma, el potencial químic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 un volumen a una altura z, debe considerar el trabajo qu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bo realizar para levantar un elemento de volumen adicional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 dicha altura. 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9" name="Picture 9"/>
          <p:cNvSpPr/>
          <p:nvPr/>
        </p:nvSpPr>
        <p:spPr>
          <a:xfrm>
            <a:off x="900000" y="2924280"/>
            <a:ext cx="715824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80000" y="465300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tra forma alternativa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btener el potencial químic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siste en utilizar la energí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ibre de Gibb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Picture 12"/>
          <p:cNvSpPr/>
          <p:nvPr/>
        </p:nvSpPr>
        <p:spPr>
          <a:xfrm>
            <a:off x="4427640" y="4653000"/>
            <a:ext cx="21603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250920" y="4724280"/>
            <a:ext cx="215640" cy="217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6443640" y="5157720"/>
            <a:ext cx="936720" cy="216000"/>
          </a:xfrm>
          <a:prstGeom prst="rightArrow">
            <a:avLst>
              <a:gd name="adj1" fmla="val 17648"/>
              <a:gd name="adj2" fmla="val 108597"/>
            </a:avLst>
          </a:prstGeom>
          <a:solidFill>
            <a:srgbClr val="cc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451640" y="494172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G = </a:t>
            </a:r>
            <a:r>
              <a:rPr b="0" lang="el-GR" sz="28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 N  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403200" y="646920"/>
            <a:ext cx="743400" cy="10080"/>
            <a:chOff x="403200" y="646920"/>
            <a:chExt cx="743400" cy="10080"/>
          </a:xfrm>
        </p:grpSpPr>
        <p:cxnSp>
          <p:nvCxnSpPr>
            <p:cNvPr id="218" name="AutoShape 13"/>
            <p:cNvCxnSpPr/>
            <p:nvPr/>
          </p:nvCxnSpPr>
          <p:spPr>
            <a:xfrm flipV="1">
              <a:off x="403200" y="646920"/>
              <a:ext cx="743760" cy="10440"/>
            </a:xfrm>
            <a:prstGeom prst="straightConnector1">
              <a:avLst/>
            </a:prstGeom>
            <a:ln w="38160">
              <a:solidFill>
                <a:srgbClr val="f2f2f2"/>
              </a:solidFill>
              <a:miter/>
              <a:tailEnd len="med" type="triangle" w="med"/>
            </a:ln>
          </p:spPr>
        </p:cxnSp>
        <p:sp>
          <p:nvSpPr>
            <p:cNvPr id="219" name=""/>
            <p:cNvSpPr txBox="1"/>
            <p:nvPr/>
          </p:nvSpPr>
          <p:spPr>
            <a:xfrm rot="10800000">
              <a:off x="403200" y="646560"/>
              <a:ext cx="74304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56800" y="3214440"/>
            <a:ext cx="1047960" cy="720"/>
            <a:chOff x="856800" y="3214440"/>
            <a:chExt cx="1047960" cy="720"/>
          </a:xfrm>
        </p:grpSpPr>
        <p:cxnSp>
          <p:nvCxnSpPr>
            <p:cNvPr id="221" name="AutoShape 14"/>
            <p:cNvCxnSpPr/>
            <p:nvPr/>
          </p:nvCxnSpPr>
          <p:spPr>
            <a:xfrm>
              <a:off x="856800" y="3214440"/>
              <a:ext cx="104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 txBox="1"/>
            <p:nvPr/>
          </p:nvSpPr>
          <p:spPr>
            <a:xfrm>
              <a:off x="856800" y="3214440"/>
              <a:ext cx="1047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22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357120" y="29991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Verdana"/>
                <a:ea typeface="Calibri"/>
              </a:rPr>
              <a:t>U               U +Nmgz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5" name="Picture 18" descr=""/>
          <p:cNvPicPr/>
          <p:nvPr/>
        </p:nvPicPr>
        <p:blipFill>
          <a:blip r:embed="rId3"/>
          <a:stretch/>
        </p:blipFill>
        <p:spPr>
          <a:xfrm>
            <a:off x="4643280" y="4786200"/>
            <a:ext cx="1971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179280" y="5445000"/>
            <a:ext cx="2376720" cy="1413000"/>
          </a:xfrm>
          <a:prstGeom prst="wedgeEllipseCallout">
            <a:avLst>
              <a:gd name="adj1" fmla="val 150064"/>
              <a:gd name="adj2" fmla="val 6518"/>
            </a:avLst>
          </a:prstGeom>
          <a:solidFill>
            <a:srgbClr val="fef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556000" y="2421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dG = Vdp – SdT + </a:t>
            </a:r>
            <a:r>
              <a:rPr b="1" lang="el-GR" sz="2800" spc="-1" strike="noStrike">
                <a:solidFill>
                  <a:srgbClr val="ff3300"/>
                </a:solidFill>
                <a:latin typeface="Comic Sans MS"/>
              </a:rPr>
              <a:t>μ</a:t>
            </a: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 d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30640" y="1197000"/>
            <a:ext cx="68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a última expresión proviene de la expresión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iferencial de la función energía libre de Gibb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 p y T constant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icture 11"/>
          <p:cNvSpPr/>
          <p:nvPr/>
        </p:nvSpPr>
        <p:spPr>
          <a:xfrm>
            <a:off x="2124000" y="3141720"/>
            <a:ext cx="4249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493920" y="4533840"/>
            <a:ext cx="86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ntegrando esta expresión y usando la ley de gases ideal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e obtiene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95280" y="566100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1600" spc="-1" strike="noStrike" baseline="30000">
                <a:solidFill>
                  <a:srgbClr val="0000cc"/>
                </a:solidFill>
                <a:latin typeface="Comic Sans MS"/>
              </a:rPr>
              <a:t>o </a:t>
            </a:r>
            <a:r>
              <a:rPr b="0" lang="es-MX" sz="1600" spc="-1" strike="noStrike">
                <a:solidFill>
                  <a:srgbClr val="0000cc"/>
                </a:solidFill>
                <a:latin typeface="Comic Sans MS"/>
              </a:rPr>
              <a:t>es una constante 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Comic Sans MS"/>
              </a:rPr>
              <a:t>obtenida experimentalmente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4071960" y="5214960"/>
          <a:ext cx="4368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5214960"/>
                    <a:ext cx="4368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Picture 12" descr=""/>
          <p:cNvPicPr/>
          <p:nvPr/>
        </p:nvPicPr>
        <p:blipFill>
          <a:blip r:embed="rId5"/>
          <a:stretch/>
        </p:blipFill>
        <p:spPr>
          <a:xfrm>
            <a:off x="2933640" y="3110040"/>
            <a:ext cx="3276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1" name="Object 7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8"/>
          <p:cNvSpPr/>
          <p:nvPr/>
        </p:nvSpPr>
        <p:spPr>
          <a:xfrm>
            <a:off x="161928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66120" y="2806560"/>
            <a:ext cx="85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ada una de las variables T, p,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…está determinada por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rivada parcial de la energía interna U con respecto a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variable complementaria en la expresión inicial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539892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i el factor de escala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es 1 +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ε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podemos hacer un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sarrollo de Taylor alrededor de la unidad y obtenemos esta expresión.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cxnSp>
        <p:nvCxnSpPr>
          <p:cNvPr id="66" name="AutoShape 16"/>
          <p:cNvCxnSpPr/>
          <p:nvPr/>
        </p:nvCxnSpPr>
        <p:spPr>
          <a:xfrm flipH="1" flipV="1" rot="5400000">
            <a:off x="5431680" y="3503880"/>
            <a:ext cx="1826640" cy="3980520"/>
          </a:xfrm>
          <a:prstGeom prst="curvedConnector5">
            <a:avLst>
              <a:gd name="adj1" fmla="val 8850"/>
              <a:gd name="adj2" fmla="val 55779"/>
              <a:gd name="adj3" fmla="val 8850"/>
            </a:avLst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67" name="Rectangle 17"/>
          <p:cNvSpPr/>
          <p:nvPr/>
        </p:nvSpPr>
        <p:spPr>
          <a:xfrm>
            <a:off x="5580000" y="11253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La relación de Gibbs-Duheim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8" name="Object 10"/>
          <p:cNvGraphicFramePr/>
          <p:nvPr/>
        </p:nvGraphicFramePr>
        <p:xfrm>
          <a:off x="642960" y="1571760"/>
          <a:ext cx="56768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1571760"/>
                    <a:ext cx="5676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9"/>
          <p:cNvGraphicFramePr/>
          <p:nvPr/>
        </p:nvGraphicFramePr>
        <p:xfrm>
          <a:off x="571680" y="4143240"/>
          <a:ext cx="66927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4143240"/>
                    <a:ext cx="66927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1"/>
          <p:cNvSpPr/>
          <p:nvPr/>
        </p:nvSpPr>
        <p:spPr>
          <a:xfrm>
            <a:off x="1835280" y="4149720"/>
            <a:ext cx="5832360" cy="1224000"/>
          </a:xfrm>
          <a:prstGeom prst="rect">
            <a:avLst/>
          </a:prstGeom>
          <a:solidFill>
            <a:srgbClr val="fef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428760" y="85716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33960" y="1222200"/>
            <a:ext cx="64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l reemplazar las derivadas por sus valore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rrespondientes se obtiene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22920" y="30686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gualando los términos que tienen la misma dependenci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ε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se obtiene la expresión buscad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" name="DownRibbonSharp"/>
          <p:cNvSpPr/>
          <p:nvPr/>
        </p:nvSpPr>
        <p:spPr>
          <a:xfrm>
            <a:off x="3708360" y="5734080"/>
            <a:ext cx="1513080" cy="21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1038240" y="2143080"/>
          <a:ext cx="67435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143080"/>
                    <a:ext cx="674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286080" y="4429080"/>
          <a:ext cx="306072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4429080"/>
                    <a:ext cx="3060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7"/>
          <p:cNvSpPr/>
          <p:nvPr/>
        </p:nvSpPr>
        <p:spPr>
          <a:xfrm>
            <a:off x="5500800" y="53578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La relación de Gibbs-Duheim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9"/>
          <p:cNvSpPr/>
          <p:nvPr/>
        </p:nvSpPr>
        <p:spPr>
          <a:xfrm>
            <a:off x="928800" y="1268280"/>
            <a:ext cx="3286080" cy="792360"/>
          </a:xfrm>
          <a:prstGeom prst="wedgeRoundRectCallout">
            <a:avLst>
              <a:gd name="adj1" fmla="val -43384"/>
              <a:gd name="adj2" fmla="val 84870"/>
              <a:gd name="adj3" fmla="val 16667"/>
            </a:avLst>
          </a:prstGeom>
          <a:solidFill>
            <a:srgbClr val="fef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0" y="692280"/>
            <a:ext cx="723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3240" y="83664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Manipulando la expresión anterior, tenemos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963720" y="234936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sta suma es el diferencial de la energía interna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 U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403280" y="3141720"/>
            <a:ext cx="758880" cy="287280"/>
          </a:xfrm>
          <a:prstGeom prst="rightArrow">
            <a:avLst>
              <a:gd name="adj1" fmla="val 31491"/>
              <a:gd name="adj2" fmla="val 6575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icture 12"/>
          <p:cNvSpPr/>
          <p:nvPr/>
        </p:nvSpPr>
        <p:spPr>
          <a:xfrm>
            <a:off x="2987640" y="285264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98400" y="3857760"/>
            <a:ext cx="7014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Esta expresión nos dice que las variables T, p y </a:t>
            </a: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, no so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independientes. Al variar </a:t>
            </a:r>
            <a:r>
              <a:rPr b="0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por ejemplo, necesariamente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í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T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p.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Además, los coeficientes de peso en esta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ción son la Entropía y el Volumen .(Hemos supuesto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i=1, luego consideramos un solo elemento)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19240" y="575784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Comic Sans MS"/>
              </a:rPr>
              <a:t>Integrando esta expresión, podemos encontrar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= </a:t>
            </a:r>
            <a:r>
              <a:rPr b="0" lang="el-GR" sz="24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(T,p,N)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DownRibbonSharp"/>
          <p:cNvSpPr/>
          <p:nvPr/>
        </p:nvSpPr>
        <p:spPr>
          <a:xfrm>
            <a:off x="3635280" y="6308640"/>
            <a:ext cx="1513080" cy="216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179280" y="1413000"/>
          <a:ext cx="74026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7402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14 CuadroTexto"/>
          <p:cNvSpPr/>
          <p:nvPr/>
        </p:nvSpPr>
        <p:spPr>
          <a:xfrm>
            <a:off x="2526840" y="321480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SdT –Vdp + Nd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 =0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835280" y="1197000"/>
            <a:ext cx="4537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50920" y="83664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4483080" y="3282840"/>
          <a:ext cx="17784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3080" y="3282840"/>
                    <a:ext cx="177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0"/>
          <p:cNvSpPr/>
          <p:nvPr/>
        </p:nvSpPr>
        <p:spPr>
          <a:xfrm>
            <a:off x="2192400" y="1268280"/>
            <a:ext cx="38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El Potencial Químico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49080" y="2000160"/>
            <a:ext cx="7450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l potencial químico </a:t>
            </a:r>
            <a:r>
              <a:rPr b="0" lang="el-GR" sz="2400" spc="-1" strike="noStrike">
                <a:solidFill>
                  <a:srgbClr val="cc3300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regula el flujo de partícul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e dos sistemas en contacto. Es similar al papel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que realiza la temperatura con el flujo de energí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e dos sistemas en contacto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 partir del primer principio de la TD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Picture 13"/>
          <p:cNvSpPr/>
          <p:nvPr/>
        </p:nvSpPr>
        <p:spPr>
          <a:xfrm>
            <a:off x="2050920" y="4365720"/>
            <a:ext cx="427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13800" y="4869000"/>
            <a:ext cx="82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odemos escribir la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Entropí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en función del resto de l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Picture 15"/>
          <p:cNvSpPr/>
          <p:nvPr/>
        </p:nvSpPr>
        <p:spPr>
          <a:xfrm>
            <a:off x="2627280" y="5373720"/>
            <a:ext cx="4800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3" descr=""/>
          <p:cNvPicPr/>
          <p:nvPr/>
        </p:nvPicPr>
        <p:blipFill>
          <a:blip r:embed="rId5"/>
          <a:stretch/>
        </p:blipFill>
        <p:spPr>
          <a:xfrm>
            <a:off x="2214720" y="4214880"/>
            <a:ext cx="3990960" cy="62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6" name="Picture 14" descr=""/>
          <p:cNvPicPr/>
          <p:nvPr/>
        </p:nvPicPr>
        <p:blipFill>
          <a:blip r:embed="rId6"/>
          <a:stretch/>
        </p:blipFill>
        <p:spPr>
          <a:xfrm>
            <a:off x="1928880" y="5643720"/>
            <a:ext cx="41432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738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icture 7"/>
          <p:cNvSpPr/>
          <p:nvPr/>
        </p:nvSpPr>
        <p:spPr>
          <a:xfrm>
            <a:off x="324000" y="1197000"/>
            <a:ext cx="804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3560" y="2708280"/>
            <a:ext cx="86799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upongamos que existen dos sistemas A y B, uno de ello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un reservorio(A) y el otro más pequeño (B). Tenemos com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variables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, con  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= N = Constante y ademá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, el Volumen de ambos permanece constante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i ambos sistemas se encuentran en equilibrio: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S = 0.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demás,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U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0 =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N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0 = d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d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989840" y="0"/>
          <a:ext cx="11541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0"/>
                    <a:ext cx="1154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8"/>
          <p:cNvSpPr/>
          <p:nvPr/>
        </p:nvSpPr>
        <p:spPr>
          <a:xfrm>
            <a:off x="500040" y="1071720"/>
            <a:ext cx="2219400" cy="15048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28840" y="1571760"/>
            <a:ext cx="41904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2714760" y="157176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47960" y="16012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Verdana"/>
                <a:ea typeface="Calibri"/>
              </a:rPr>
              <a:t>B</a:t>
            </a:r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6200000">
            <a:off x="2679480" y="1676160"/>
            <a:ext cx="85680" cy="1810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18 Conector recto"/>
          <p:cNvSpPr/>
          <p:nvPr/>
        </p:nvSpPr>
        <p:spPr>
          <a:xfrm flipV="1">
            <a:off x="5428440" y="4286160"/>
            <a:ext cx="71460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1" name="Picture 18" descr=""/>
          <p:cNvPicPr/>
          <p:nvPr/>
        </p:nvPicPr>
        <p:blipFill>
          <a:blip r:embed="rId4"/>
          <a:stretch/>
        </p:blipFill>
        <p:spPr>
          <a:xfrm>
            <a:off x="142920" y="4570560"/>
            <a:ext cx="2200320" cy="409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8" name="Picture 30" descr=""/>
          <p:cNvPicPr/>
          <p:nvPr/>
        </p:nvPicPr>
        <p:blipFill>
          <a:blip r:embed="rId5"/>
          <a:stretch/>
        </p:blipFill>
        <p:spPr>
          <a:xfrm>
            <a:off x="2357280" y="4384800"/>
            <a:ext cx="5162760" cy="799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40" name="Picture 32" descr=""/>
          <p:cNvPicPr/>
          <p:nvPr/>
        </p:nvPicPr>
        <p:blipFill>
          <a:blip r:embed="rId6"/>
          <a:stretch/>
        </p:blipFill>
        <p:spPr>
          <a:xfrm>
            <a:off x="7532640" y="4429080"/>
            <a:ext cx="1495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2" descr=""/>
          <p:cNvPicPr/>
          <p:nvPr/>
        </p:nvPicPr>
        <p:blipFill>
          <a:blip r:embed="rId1"/>
          <a:stretch/>
        </p:blipFill>
        <p:spPr>
          <a:xfrm>
            <a:off x="2033640" y="4714920"/>
            <a:ext cx="2467080" cy="20001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3"/>
          <p:cNvSpPr/>
          <p:nvPr/>
        </p:nvSpPr>
        <p:spPr>
          <a:xfrm>
            <a:off x="4643280" y="5143680"/>
            <a:ext cx="4176720" cy="1582560"/>
          </a:xfrm>
          <a:prstGeom prst="wedgeEllipseCallout">
            <a:avLst>
              <a:gd name="adj1" fmla="val -71171"/>
              <a:gd name="adj2" fmla="val -2157"/>
            </a:avLst>
          </a:prstGeom>
          <a:solidFill>
            <a:srgbClr val="f1e8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072040" y="3071880"/>
            <a:ext cx="3500640" cy="172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9" y="14876"/>
                </a:moveTo>
                <a:lnTo>
                  <a:pt x="-508" y="1428"/>
                </a:lnTo>
              </a:path>
              <a:path w="21600" h="21600">
                <a:moveTo>
                  <a:pt x="-508" y="0"/>
                </a:moveTo>
                <a:lnTo>
                  <a:pt x="-508" y="21600"/>
                </a:lnTo>
              </a:path>
            </a:pathLst>
          </a:custGeom>
          <a:solidFill>
            <a:srgbClr val="f1e8b5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6" name="Picture 9"/>
          <p:cNvSpPr/>
          <p:nvPr/>
        </p:nvSpPr>
        <p:spPr>
          <a:xfrm>
            <a:off x="250920" y="2133720"/>
            <a:ext cx="6697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078920" y="1357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cc"/>
                </a:solidFill>
                <a:latin typeface="Comic Sans MS"/>
              </a:rPr>
              <a:t>0 =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25280" y="2214720"/>
            <a:ext cx="8771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 modo que para el eq. Térmico (como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es una variable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ndependiente de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) se requiere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 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28760" y="3071880"/>
            <a:ext cx="44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nálogamente, para lograr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un eq. en el intercambio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artículas entre los dos sistemas A y B, se debe tener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428760" y="1428840"/>
            <a:ext cx="685800" cy="409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5"/>
          <a:stretch/>
        </p:blipFill>
        <p:spPr>
          <a:xfrm>
            <a:off x="1738440" y="1241280"/>
            <a:ext cx="2333520" cy="800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6"/>
          <a:stretch/>
        </p:blipFill>
        <p:spPr>
          <a:xfrm>
            <a:off x="4114800" y="1308240"/>
            <a:ext cx="1400040" cy="742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9" name="Picture 20" descr=""/>
          <p:cNvPicPr/>
          <p:nvPr/>
        </p:nvPicPr>
        <p:blipFill>
          <a:blip r:embed="rId7"/>
          <a:stretch/>
        </p:blipFill>
        <p:spPr>
          <a:xfrm>
            <a:off x="5595840" y="1298520"/>
            <a:ext cx="1476360" cy="743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1" name="Picture 22" descr=""/>
          <p:cNvPicPr/>
          <p:nvPr/>
        </p:nvPicPr>
        <p:blipFill>
          <a:blip r:embed="rId8"/>
          <a:stretch/>
        </p:blipFill>
        <p:spPr>
          <a:xfrm>
            <a:off x="5286240" y="3500280"/>
            <a:ext cx="35244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3" name="Picture 24" descr=""/>
          <p:cNvPicPr/>
          <p:nvPr/>
        </p:nvPicPr>
        <p:blipFill>
          <a:blip r:embed="rId9"/>
          <a:stretch/>
        </p:blipFill>
        <p:spPr>
          <a:xfrm>
            <a:off x="5715000" y="3500280"/>
            <a:ext cx="676440" cy="7430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6572160" y="3643200"/>
            <a:ext cx="758880" cy="287280"/>
          </a:xfrm>
          <a:prstGeom prst="rightArrow">
            <a:avLst>
              <a:gd name="adj1" fmla="val 31491"/>
              <a:gd name="adj2" fmla="val 65759"/>
            </a:avLst>
          </a:prstGeom>
          <a:solidFill>
            <a:srgbClr val="cc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0"/>
          <a:stretch/>
        </p:blipFill>
        <p:spPr>
          <a:xfrm>
            <a:off x="7572240" y="3571920"/>
            <a:ext cx="352440" cy="409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8" name="Picture 28" descr=""/>
          <p:cNvPicPr/>
          <p:nvPr/>
        </p:nvPicPr>
        <p:blipFill>
          <a:blip r:embed="rId11"/>
          <a:stretch/>
        </p:blipFill>
        <p:spPr>
          <a:xfrm>
            <a:off x="8183520" y="3560760"/>
            <a:ext cx="371520" cy="409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70" name="Picture 30" descr=""/>
          <p:cNvPicPr/>
          <p:nvPr/>
        </p:nvPicPr>
        <p:blipFill>
          <a:blip r:embed="rId12"/>
          <a:stretch/>
        </p:blipFill>
        <p:spPr>
          <a:xfrm>
            <a:off x="7929720" y="3571920"/>
            <a:ext cx="228600" cy="409680"/>
          </a:xfrm>
          <a:prstGeom prst="rect">
            <a:avLst/>
          </a:prstGeom>
          <a:ln w="0">
            <a:noFill/>
          </a:ln>
        </p:spPr>
      </p:pic>
      <p:sp>
        <p:nvSpPr>
          <p:cNvPr id="171" name="32 Rectángulo"/>
          <p:cNvSpPr/>
          <p:nvPr/>
        </p:nvSpPr>
        <p:spPr>
          <a:xfrm>
            <a:off x="6845040" y="4429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equilibrio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874760" y="5286240"/>
            <a:ext cx="39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Esta es la expresión que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adopta el potencial químico e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función de la entropía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S(N, U, V). 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cxnSp>
        <p:nvCxnSpPr>
          <p:cNvPr id="173" name="38 Conector recto de flecha"/>
          <p:cNvCxnSpPr/>
          <p:nvPr/>
        </p:nvCxnSpPr>
        <p:spPr>
          <a:xfrm flipH="1">
            <a:off x="4571640" y="4714920"/>
            <a:ext cx="228672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4" name="39 Conector recto de flecha"/>
          <p:cNvCxnSpPr/>
          <p:nvPr/>
        </p:nvCxnSpPr>
        <p:spPr>
          <a:xfrm flipV="1">
            <a:off x="7857000" y="3928320"/>
            <a:ext cx="214920" cy="500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85840" y="1700280"/>
            <a:ext cx="215640" cy="217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73040" y="1581120"/>
            <a:ext cx="79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odemos expresar el potencial químico en función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(N, U,V), utilizando como generadora la entropía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icture 11"/>
          <p:cNvSpPr/>
          <p:nvPr/>
        </p:nvSpPr>
        <p:spPr>
          <a:xfrm>
            <a:off x="826920" y="2637000"/>
            <a:ext cx="26640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icture 12"/>
          <p:cNvSpPr/>
          <p:nvPr/>
        </p:nvSpPr>
        <p:spPr>
          <a:xfrm>
            <a:off x="5651640" y="2349360"/>
            <a:ext cx="2952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286240" y="2857680"/>
            <a:ext cx="785880" cy="288720"/>
          </a:xfrm>
          <a:prstGeom prst="rightArrow">
            <a:avLst>
              <a:gd name="adj1" fmla="val 17648"/>
              <a:gd name="adj2" fmla="val 99968"/>
            </a:avLst>
          </a:prstGeom>
          <a:solidFill>
            <a:srgbClr val="0000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icture 14"/>
          <p:cNvSpPr/>
          <p:nvPr/>
        </p:nvSpPr>
        <p:spPr>
          <a:xfrm>
            <a:off x="755640" y="4941720"/>
            <a:ext cx="79488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473040" y="371484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a expresión fundamental para estos cálculos es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opía. Utilizaremos la expresión de Sakur-Tetrode: 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428840" y="4780080"/>
          <a:ext cx="632448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4780080"/>
                    <a:ext cx="6324480" cy="1077840"/>
                  </a:xfrm>
                  <a:prstGeom prst="rect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89" name="Picture 14" descr=""/>
          <p:cNvPicPr/>
          <p:nvPr/>
        </p:nvPicPr>
        <p:blipFill>
          <a:blip r:embed="rId5"/>
          <a:stretch/>
        </p:blipFill>
        <p:spPr>
          <a:xfrm>
            <a:off x="857160" y="278604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91" name="Picture 16" descr=""/>
          <p:cNvPicPr/>
          <p:nvPr/>
        </p:nvPicPr>
        <p:blipFill>
          <a:blip r:embed="rId6"/>
          <a:stretch/>
        </p:blipFill>
        <p:spPr>
          <a:xfrm>
            <a:off x="1571760" y="2592360"/>
            <a:ext cx="3695400" cy="8002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8"/>
          <p:cNvSpPr/>
          <p:nvPr/>
        </p:nvSpPr>
        <p:spPr>
          <a:xfrm>
            <a:off x="0" y="121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18 CuadroTexto"/>
          <p:cNvSpPr/>
          <p:nvPr/>
        </p:nvSpPr>
        <p:spPr>
          <a:xfrm>
            <a:off x="775440" y="6143760"/>
            <a:ext cx="80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Cambria"/>
              </a:rPr>
              <a:t>Esta es la entropía del gas de van de Waals (Ver clase 6). El gas ideal se obtiene haciendo a=b=0.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27040" y="957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Cálculo explícito del Potencial Químico </a:t>
            </a:r>
            <a:r>
              <a:rPr b="1" lang="el-GR" sz="28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7"/>
          <a:stretch/>
        </p:blipFill>
        <p:spPr>
          <a:xfrm>
            <a:off x="6215040" y="2428920"/>
            <a:ext cx="2171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14"/>
          <p:cNvSpPr/>
          <p:nvPr/>
        </p:nvSpPr>
        <p:spPr>
          <a:xfrm>
            <a:off x="4211640" y="5072040"/>
            <a:ext cx="4932360" cy="1525680"/>
          </a:xfrm>
          <a:prstGeom prst="wedgeEllipseCallout">
            <a:avLst>
              <a:gd name="adj1" fmla="val -53398"/>
              <a:gd name="adj2" fmla="val -81703"/>
            </a:avLst>
          </a:prstGeom>
          <a:solidFill>
            <a:srgbClr val="fef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icture 10"/>
          <p:cNvSpPr/>
          <p:nvPr/>
        </p:nvSpPr>
        <p:spPr>
          <a:xfrm>
            <a:off x="2195640" y="1052640"/>
            <a:ext cx="33843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09480" y="12859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btenemos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259520" y="5373720"/>
            <a:ext cx="48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sta última expresión se h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valuado para el caso de un g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deal: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U=3/2 NkT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500040" y="1857240"/>
          <a:ext cx="71499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857240"/>
                    <a:ext cx="71499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11-05T01:03:10Z</dcterms:modified>
  <cp:revision>54</cp:revision>
  <dc:subject/>
  <dc:title>FI-2004 Termodinámica</dc:title>
</cp:coreProperties>
</file>