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3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27.png" ContentType="image/png"/>
  <Override PartName="/ppt/media/image30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31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wmf" ContentType="image/x-wmf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3A9-12E1-4709-8A40-D2CD75D354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272-8CF6-49E0-9CBE-43EA7F8EE5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0A13-D0E2-4CC8-834E-FED1439B77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339E-AC4C-421D-8BFF-3608465327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C94C-9C65-4723-B97D-35BD9AC534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A07-88D1-4D70-B325-E213ED0A08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26C-15BC-40DF-BAB4-29DB897F69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0384-A55F-4A38-8A6F-6A08741A0A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7B71-4C95-41F2-8D9A-9378F2F3A6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E64-CDDB-429C-983B-2540BB91C9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4DA-44BC-43BB-817E-449B14450B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F7F0-647D-4E0C-9E92-1C0C0DDAE3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6A9-13A7-46F9-AD3F-7BA59BDE06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050-5FC1-4C32-8BBA-11440A8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646-124E-46D1-AC82-B79C1EA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BB9-E271-4049-95AB-97CDF4C3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9B5-B782-46F0-8B44-C5EDFE84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661-5398-44C0-9A6E-A9DEA5F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A4D-1FBC-4D25-B6F3-9E3114A9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141-DEF2-4341-AA78-D36E9D58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90A-0931-4573-BC6F-6106524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2B6-889D-4353-B816-239C346E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19F-0FAF-4DE5-8FCE-1AAB5B1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B7B-AC6A-4A96-9B8E-081C25A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8CC-C530-4E6A-AE31-9E04F91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527-BB37-411C-AFCA-AF1007AE12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9"/>
          <p:cNvSpPr/>
          <p:nvPr/>
        </p:nvSpPr>
        <p:spPr>
          <a:xfrm>
            <a:off x="142920" y="1487520"/>
            <a:ext cx="4824360" cy="1298520"/>
          </a:xfrm>
          <a:prstGeom prst="wedgeEllipseCallout">
            <a:avLst>
              <a:gd name="adj1" fmla="val 62666"/>
              <a:gd name="adj2" fmla="val -3305"/>
            </a:avLst>
          </a:prstGeom>
          <a:solidFill>
            <a:srgbClr val="dcf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193680" y="7858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74600" y="192888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rimera Ley de la TD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572160" y="3279600"/>
            <a:ext cx="2206800" cy="10695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La energía es una  variable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XTENSIV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800" y="4572000"/>
            <a:ext cx="776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las dependencias de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energía intern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U es un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 extensiva. Es, entonces, una función homogénea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sus variables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No sucede lo mismo con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emperatura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. Su dependencia en las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s indicadas debe ser tal que NO depende de la escala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3040" y="928800"/>
            <a:ext cx="4528800" cy="459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Comic Sans MS"/>
              </a:rPr>
              <a:t>La relación de Gibbs-Duheim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285840" y="1622520"/>
          <a:ext cx="598176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622520"/>
                    <a:ext cx="598176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785808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08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96840" y="1268280"/>
            <a:ext cx="91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l caso de una atmósfera isoterma,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un volumen a una altura z, debe considerar el trabajo qu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bo realizar para levantar un elemento de volumen adiciona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dicha altura.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Picture 9"/>
          <p:cNvSpPr/>
          <p:nvPr/>
        </p:nvSpPr>
        <p:spPr>
          <a:xfrm>
            <a:off x="900000" y="2924280"/>
            <a:ext cx="715824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80000" y="465300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tra forma alternativa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r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siste en utilizar la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icture 12"/>
          <p:cNvSpPr/>
          <p:nvPr/>
        </p:nvSpPr>
        <p:spPr>
          <a:xfrm>
            <a:off x="4427640" y="4653000"/>
            <a:ext cx="21603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250920" y="4724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6443640" y="5157720"/>
            <a:ext cx="936720" cy="216000"/>
          </a:xfrm>
          <a:prstGeom prst="rightArrow">
            <a:avLst>
              <a:gd name="adj1" fmla="val 17648"/>
              <a:gd name="adj2" fmla="val 108597"/>
            </a:avLst>
          </a:prstGeom>
          <a:solidFill>
            <a:srgbClr val="cc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451640" y="494172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G = </a:t>
            </a:r>
            <a:r>
              <a:rPr b="0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 N  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403200" y="646920"/>
            <a:ext cx="743400" cy="10080"/>
            <a:chOff x="403200" y="646920"/>
            <a:chExt cx="743400" cy="10080"/>
          </a:xfrm>
        </p:grpSpPr>
        <p:cxnSp>
          <p:nvCxnSpPr>
            <p:cNvPr id="218" name="AutoShape 13"/>
            <p:cNvCxnSpPr/>
            <p:nvPr/>
          </p:nvCxnSpPr>
          <p:spPr>
            <a:xfrm flipV="1">
              <a:off x="403200" y="646920"/>
              <a:ext cx="743760" cy="10440"/>
            </a:xfrm>
            <a:prstGeom prst="straightConnector1">
              <a:avLst/>
            </a:prstGeom>
            <a:ln w="38160">
              <a:solidFill>
                <a:srgbClr val="f2f2f2"/>
              </a:solidFill>
              <a:miter/>
              <a:tailEnd len="med" type="triangle" w="med"/>
            </a:ln>
          </p:spPr>
        </p:cxnSp>
        <p:sp>
          <p:nvSpPr>
            <p:cNvPr id="219" name=""/>
            <p:cNvSpPr txBox="1"/>
            <p:nvPr/>
          </p:nvSpPr>
          <p:spPr>
            <a:xfrm rot="10800000">
              <a:off x="403200" y="646560"/>
              <a:ext cx="74304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56800" y="3214440"/>
            <a:ext cx="1047960" cy="720"/>
            <a:chOff x="856800" y="3214440"/>
            <a:chExt cx="1047960" cy="720"/>
          </a:xfrm>
        </p:grpSpPr>
        <p:cxnSp>
          <p:nvCxnSpPr>
            <p:cNvPr id="221" name="AutoShape 14"/>
            <p:cNvCxnSpPr/>
            <p:nvPr/>
          </p:nvCxnSpPr>
          <p:spPr>
            <a:xfrm>
              <a:off x="856800" y="3214440"/>
              <a:ext cx="104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 txBox="1"/>
            <p:nvPr/>
          </p:nvSpPr>
          <p:spPr>
            <a:xfrm>
              <a:off x="856800" y="3214440"/>
              <a:ext cx="1047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22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57120" y="29991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Verdana"/>
                <a:ea typeface="Calibri"/>
              </a:rPr>
              <a:t>U               U +Nmgz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5" name="Picture 18" descr=""/>
          <p:cNvPicPr/>
          <p:nvPr/>
        </p:nvPicPr>
        <p:blipFill>
          <a:blip r:embed="rId3"/>
          <a:stretch/>
        </p:blipFill>
        <p:spPr>
          <a:xfrm>
            <a:off x="4643280" y="4786200"/>
            <a:ext cx="1971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179280" y="5445000"/>
            <a:ext cx="2376720" cy="1413000"/>
          </a:xfrm>
          <a:prstGeom prst="wedgeEllipseCallout">
            <a:avLst>
              <a:gd name="adj1" fmla="val 150064"/>
              <a:gd name="adj2" fmla="val 6518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556000" y="242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dG = Vdp – SdT + </a:t>
            </a:r>
            <a:r>
              <a:rPr b="1" lang="el-GR" sz="2800" spc="-1" strike="noStrike">
                <a:solidFill>
                  <a:srgbClr val="ff3300"/>
                </a:solidFill>
                <a:latin typeface="Comic Sans MS"/>
              </a:rPr>
              <a:t>μ</a:t>
            </a: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 d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30640" y="119700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última expresión proviene de la expresió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iferencial de la función energía 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 p y T constant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icture 11"/>
          <p:cNvSpPr/>
          <p:nvPr/>
        </p:nvSpPr>
        <p:spPr>
          <a:xfrm>
            <a:off x="2124000" y="3141720"/>
            <a:ext cx="4249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493920" y="4533840"/>
            <a:ext cx="86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tegrando esta expresión y usando la ley de gases idea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e obtien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95280" y="566100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1600" spc="-1" strike="noStrike" baseline="30000">
                <a:solidFill>
                  <a:srgbClr val="0000cc"/>
                </a:solidFill>
                <a:latin typeface="Comic Sans MS"/>
              </a:rPr>
              <a:t>o </a:t>
            </a: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es una constante 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obtenida experimentalmente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4071960" y="5214960"/>
          <a:ext cx="4368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5214960"/>
                    <a:ext cx="4368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Picture 12" descr=""/>
          <p:cNvPicPr/>
          <p:nvPr/>
        </p:nvPicPr>
        <p:blipFill>
          <a:blip r:embed="rId5"/>
          <a:stretch/>
        </p:blipFill>
        <p:spPr>
          <a:xfrm>
            <a:off x="2933640" y="3110040"/>
            <a:ext cx="3276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1" name="Object 7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8"/>
          <p:cNvSpPr/>
          <p:nvPr/>
        </p:nvSpPr>
        <p:spPr>
          <a:xfrm>
            <a:off x="161928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66120" y="280656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ada una de las variables T, p,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…está determinada por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rivada parcial de la energía interna U con respecto a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variable complementaria en la expresión inicial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539892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el factor de escala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es 1 +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podemos hacer u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sarrollo de Taylor alrededor de la unidad y obtenemos esta expresión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66" name="AutoShape 16"/>
          <p:cNvCxnSpPr/>
          <p:nvPr/>
        </p:nvCxnSpPr>
        <p:spPr>
          <a:xfrm flipH="1" flipV="1" rot="5400000">
            <a:off x="5431680" y="3503880"/>
            <a:ext cx="1826640" cy="3980520"/>
          </a:xfrm>
          <a:prstGeom prst="curvedConnector5">
            <a:avLst>
              <a:gd name="adj1" fmla="val 8850"/>
              <a:gd name="adj2" fmla="val 55779"/>
              <a:gd name="adj3" fmla="val 8850"/>
            </a:avLst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67" name="Rectangle 17"/>
          <p:cNvSpPr/>
          <p:nvPr/>
        </p:nvSpPr>
        <p:spPr>
          <a:xfrm>
            <a:off x="5580000" y="11253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8" name="Object 10"/>
          <p:cNvGraphicFramePr/>
          <p:nvPr/>
        </p:nvGraphicFramePr>
        <p:xfrm>
          <a:off x="642960" y="1571760"/>
          <a:ext cx="56768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571760"/>
                    <a:ext cx="5676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9"/>
          <p:cNvGraphicFramePr/>
          <p:nvPr/>
        </p:nvGraphicFramePr>
        <p:xfrm>
          <a:off x="571680" y="4143240"/>
          <a:ext cx="66927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4143240"/>
                    <a:ext cx="6692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1"/>
          <p:cNvSpPr/>
          <p:nvPr/>
        </p:nvSpPr>
        <p:spPr>
          <a:xfrm>
            <a:off x="1835280" y="4149720"/>
            <a:ext cx="5832360" cy="1224000"/>
          </a:xfrm>
          <a:prstGeom prst="rect">
            <a:avLst/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428760" y="85716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33960" y="1222200"/>
            <a:ext cx="64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l reemplazar las derivadas por sus valore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rrespondientes se obtiene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22920" y="30686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gualando los términos que tienen la misma dependenci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se obtiene la expresión buscad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DownRibbonSharp"/>
          <p:cNvSpPr/>
          <p:nvPr/>
        </p:nvSpPr>
        <p:spPr>
          <a:xfrm>
            <a:off x="3708360" y="5734080"/>
            <a:ext cx="1513080" cy="21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1038240" y="2143080"/>
          <a:ext cx="6743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143080"/>
                    <a:ext cx="674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286080" y="4429080"/>
          <a:ext cx="306072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4429080"/>
                    <a:ext cx="3060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7"/>
          <p:cNvSpPr/>
          <p:nvPr/>
        </p:nvSpPr>
        <p:spPr>
          <a:xfrm>
            <a:off x="5500800" y="53578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9"/>
          <p:cNvSpPr/>
          <p:nvPr/>
        </p:nvSpPr>
        <p:spPr>
          <a:xfrm>
            <a:off x="928800" y="1268280"/>
            <a:ext cx="3286080" cy="792360"/>
          </a:xfrm>
          <a:prstGeom prst="wedgeRoundRectCallout">
            <a:avLst>
              <a:gd name="adj1" fmla="val -43384"/>
              <a:gd name="adj2" fmla="val 84870"/>
              <a:gd name="adj3" fmla="val 16667"/>
            </a:avLst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0" y="6922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3240" y="83664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Manipulando la expresión anterior, 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963720" y="234936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suma es el diferencial de la energía interna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 U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403280" y="314172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icture 12"/>
          <p:cNvSpPr/>
          <p:nvPr/>
        </p:nvSpPr>
        <p:spPr>
          <a:xfrm>
            <a:off x="2987640" y="285264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98400" y="3857760"/>
            <a:ext cx="7014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xpresión nos dice que las variables T, p y </a:t>
            </a: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, no so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ndependientes. Al variar </a:t>
            </a:r>
            <a:r>
              <a:rPr b="0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por ejemplo, necesariament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í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p.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Además, los coeficientes de peso en est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ción son la Entropía y el Volumen .(Hemos supuesto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=1, luego consideramos un solo elemento)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19240" y="575784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Comic Sans MS"/>
              </a:rPr>
              <a:t>Integrando esta expresión, podemos encontrar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=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(T,p,N)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DownRibbonSharp"/>
          <p:cNvSpPr/>
          <p:nvPr/>
        </p:nvSpPr>
        <p:spPr>
          <a:xfrm>
            <a:off x="3635280" y="6308640"/>
            <a:ext cx="1513080" cy="216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179280" y="1413000"/>
          <a:ext cx="74026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7402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14 CuadroTexto"/>
          <p:cNvSpPr/>
          <p:nvPr/>
        </p:nvSpPr>
        <p:spPr>
          <a:xfrm>
            <a:off x="2526840" y="321480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SdT –Vdp + Nd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 =0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835280" y="1197000"/>
            <a:ext cx="4537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50920" y="83664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4483080" y="3282840"/>
          <a:ext cx="17784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3080" y="3282840"/>
                    <a:ext cx="177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0"/>
          <p:cNvSpPr/>
          <p:nvPr/>
        </p:nvSpPr>
        <p:spPr>
          <a:xfrm>
            <a:off x="2192400" y="1268280"/>
            <a:ext cx="38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El Potencial Químico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49080" y="2000160"/>
            <a:ext cx="7450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l potencial químico </a:t>
            </a:r>
            <a:r>
              <a:rPr b="0" lang="el-GR" sz="2400" spc="-1" strike="noStrike">
                <a:solidFill>
                  <a:srgbClr val="cc33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regula el flujo de partícu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 Es similar al pape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que realiza la temperatura con el flujo de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partir del primer principio de la TD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Picture 13"/>
          <p:cNvSpPr/>
          <p:nvPr/>
        </p:nvSpPr>
        <p:spPr>
          <a:xfrm>
            <a:off x="2050920" y="4365720"/>
            <a:ext cx="427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3800" y="4869000"/>
            <a:ext cx="82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scribir la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Entropí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n función del resto de 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Picture 15"/>
          <p:cNvSpPr/>
          <p:nvPr/>
        </p:nvSpPr>
        <p:spPr>
          <a:xfrm>
            <a:off x="2627280" y="5373720"/>
            <a:ext cx="4800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3" descr=""/>
          <p:cNvPicPr/>
          <p:nvPr/>
        </p:nvPicPr>
        <p:blipFill>
          <a:blip r:embed="rId5"/>
          <a:stretch/>
        </p:blipFill>
        <p:spPr>
          <a:xfrm>
            <a:off x="2214720" y="4214880"/>
            <a:ext cx="3990960" cy="62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6" name="Picture 14" descr=""/>
          <p:cNvPicPr/>
          <p:nvPr/>
        </p:nvPicPr>
        <p:blipFill>
          <a:blip r:embed="rId6"/>
          <a:stretch/>
        </p:blipFill>
        <p:spPr>
          <a:xfrm>
            <a:off x="1928880" y="5643720"/>
            <a:ext cx="41432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738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icture 7"/>
          <p:cNvSpPr/>
          <p:nvPr/>
        </p:nvSpPr>
        <p:spPr>
          <a:xfrm>
            <a:off x="324000" y="1197000"/>
            <a:ext cx="804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3560" y="2708280"/>
            <a:ext cx="86799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upongamos que existen dos sistemas A y B, uno de ello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reservorio(A) y el otro más pequeño (B). Tenemos com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con  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= N = Constante y ademá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el Volumen de ambos permanece constante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ambos sistemas se encuentran en equilibrio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S = 0.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demás,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U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N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989840" y="0"/>
          <a:ext cx="11541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0"/>
                    <a:ext cx="1154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8"/>
          <p:cNvSpPr/>
          <p:nvPr/>
        </p:nvSpPr>
        <p:spPr>
          <a:xfrm>
            <a:off x="500040" y="1071720"/>
            <a:ext cx="2219400" cy="1504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28840" y="1571760"/>
            <a:ext cx="41904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2714760" y="157176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47960" y="16012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Verdana"/>
                <a:ea typeface="Calibri"/>
              </a:rPr>
              <a:t>B</a:t>
            </a:r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6200000">
            <a:off x="2679480" y="1676160"/>
            <a:ext cx="85680" cy="1810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18 Conector recto"/>
          <p:cNvSpPr/>
          <p:nvPr/>
        </p:nvSpPr>
        <p:spPr>
          <a:xfrm flipV="1">
            <a:off x="5428440" y="4286160"/>
            <a:ext cx="71460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1" name="Picture 18" descr=""/>
          <p:cNvPicPr/>
          <p:nvPr/>
        </p:nvPicPr>
        <p:blipFill>
          <a:blip r:embed="rId4"/>
          <a:stretch/>
        </p:blipFill>
        <p:spPr>
          <a:xfrm>
            <a:off x="142920" y="4570560"/>
            <a:ext cx="2200320" cy="409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8" name="Picture 30" descr=""/>
          <p:cNvPicPr/>
          <p:nvPr/>
        </p:nvPicPr>
        <p:blipFill>
          <a:blip r:embed="rId5"/>
          <a:stretch/>
        </p:blipFill>
        <p:spPr>
          <a:xfrm>
            <a:off x="2357280" y="4384800"/>
            <a:ext cx="5162760" cy="799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0" name="Picture 32" descr=""/>
          <p:cNvPicPr/>
          <p:nvPr/>
        </p:nvPicPr>
        <p:blipFill>
          <a:blip r:embed="rId6"/>
          <a:stretch/>
        </p:blipFill>
        <p:spPr>
          <a:xfrm>
            <a:off x="7532640" y="4429080"/>
            <a:ext cx="1495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2" descr=""/>
          <p:cNvPicPr/>
          <p:nvPr/>
        </p:nvPicPr>
        <p:blipFill>
          <a:blip r:embed="rId1"/>
          <a:stretch/>
        </p:blipFill>
        <p:spPr>
          <a:xfrm>
            <a:off x="2033640" y="4714920"/>
            <a:ext cx="2467080" cy="20001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4643280" y="5143680"/>
            <a:ext cx="4176720" cy="1582560"/>
          </a:xfrm>
          <a:prstGeom prst="wedgeEllipseCallout">
            <a:avLst>
              <a:gd name="adj1" fmla="val -71171"/>
              <a:gd name="adj2" fmla="val -2157"/>
            </a:avLst>
          </a:prstGeom>
          <a:solidFill>
            <a:srgbClr val="f1e8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072040" y="3071880"/>
            <a:ext cx="3500640" cy="172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9" y="14876"/>
                </a:moveTo>
                <a:lnTo>
                  <a:pt x="-508" y="1428"/>
                </a:lnTo>
              </a:path>
              <a:path w="21600" h="21600">
                <a:moveTo>
                  <a:pt x="-508" y="0"/>
                </a:moveTo>
                <a:lnTo>
                  <a:pt x="-508" y="21600"/>
                </a:lnTo>
              </a:path>
            </a:pathLst>
          </a:custGeom>
          <a:solidFill>
            <a:srgbClr val="f1e8b5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Picture 9"/>
          <p:cNvSpPr/>
          <p:nvPr/>
        </p:nvSpPr>
        <p:spPr>
          <a:xfrm>
            <a:off x="250920" y="2133720"/>
            <a:ext cx="6697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078920" y="1357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cc"/>
                </a:solidFill>
                <a:latin typeface="Comic Sans MS"/>
              </a:rPr>
              <a:t>0 =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25280" y="2214720"/>
            <a:ext cx="877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modo que para el eq. Térmico (como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s una variabl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dependiente de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) se requiere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 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28760" y="3071880"/>
            <a:ext cx="44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nálogamente, para logra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eq. en el intercambio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artículas entre los dos sistemas A y B, se debe tene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428760" y="1428840"/>
            <a:ext cx="685800" cy="409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5"/>
          <a:stretch/>
        </p:blipFill>
        <p:spPr>
          <a:xfrm>
            <a:off x="1738440" y="1241280"/>
            <a:ext cx="2333520" cy="800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6"/>
          <a:stretch/>
        </p:blipFill>
        <p:spPr>
          <a:xfrm>
            <a:off x="4114800" y="1308240"/>
            <a:ext cx="1400040" cy="742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9" name="Picture 20" descr=""/>
          <p:cNvPicPr/>
          <p:nvPr/>
        </p:nvPicPr>
        <p:blipFill>
          <a:blip r:embed="rId7"/>
          <a:stretch/>
        </p:blipFill>
        <p:spPr>
          <a:xfrm>
            <a:off x="5595840" y="1298520"/>
            <a:ext cx="1476360" cy="743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1" name="Picture 22" descr=""/>
          <p:cNvPicPr/>
          <p:nvPr/>
        </p:nvPicPr>
        <p:blipFill>
          <a:blip r:embed="rId8"/>
          <a:stretch/>
        </p:blipFill>
        <p:spPr>
          <a:xfrm>
            <a:off x="5286240" y="3500280"/>
            <a:ext cx="35244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3" name="Picture 2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676440" cy="7430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6572160" y="364320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0"/>
          <a:stretch/>
        </p:blipFill>
        <p:spPr>
          <a:xfrm>
            <a:off x="7572240" y="3571920"/>
            <a:ext cx="352440" cy="409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11"/>
          <a:stretch/>
        </p:blipFill>
        <p:spPr>
          <a:xfrm>
            <a:off x="8183520" y="3560760"/>
            <a:ext cx="371520" cy="409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0" name="Picture 30" descr=""/>
          <p:cNvPicPr/>
          <p:nvPr/>
        </p:nvPicPr>
        <p:blipFill>
          <a:blip r:embed="rId12"/>
          <a:stretch/>
        </p:blipFill>
        <p:spPr>
          <a:xfrm>
            <a:off x="7929720" y="3571920"/>
            <a:ext cx="228600" cy="409680"/>
          </a:xfrm>
          <a:prstGeom prst="rect">
            <a:avLst/>
          </a:prstGeom>
          <a:ln w="0">
            <a:noFill/>
          </a:ln>
        </p:spPr>
      </p:pic>
      <p:sp>
        <p:nvSpPr>
          <p:cNvPr id="171" name="32 Rectángulo"/>
          <p:cNvSpPr/>
          <p:nvPr/>
        </p:nvSpPr>
        <p:spPr>
          <a:xfrm>
            <a:off x="6845040" y="4429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quilibrio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874760" y="5286240"/>
            <a:ext cx="39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s la expresión qu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adopta el potencial químico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función de la entropí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S(N, U, V). 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173" name="38 Conector recto de flecha"/>
          <p:cNvCxnSpPr/>
          <p:nvPr/>
        </p:nvCxnSpPr>
        <p:spPr>
          <a:xfrm flipH="1">
            <a:off x="4571640" y="4714920"/>
            <a:ext cx="228672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39 Conector recto de flecha"/>
          <p:cNvCxnSpPr/>
          <p:nvPr/>
        </p:nvCxnSpPr>
        <p:spPr>
          <a:xfrm flipV="1">
            <a:off x="7857000" y="3928320"/>
            <a:ext cx="214920" cy="500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85840" y="1700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73040" y="1581120"/>
            <a:ext cx="79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xpresar el potencial químico en función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(N, U,V), utilizando como generadora la entropía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icture 11"/>
          <p:cNvSpPr/>
          <p:nvPr/>
        </p:nvSpPr>
        <p:spPr>
          <a:xfrm>
            <a:off x="826920" y="2637000"/>
            <a:ext cx="26640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icture 12"/>
          <p:cNvSpPr/>
          <p:nvPr/>
        </p:nvSpPr>
        <p:spPr>
          <a:xfrm>
            <a:off x="5651640" y="2349360"/>
            <a:ext cx="2952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286240" y="2857680"/>
            <a:ext cx="785880" cy="288720"/>
          </a:xfrm>
          <a:prstGeom prst="rightArrow">
            <a:avLst>
              <a:gd name="adj1" fmla="val 17648"/>
              <a:gd name="adj2" fmla="val 99968"/>
            </a:avLst>
          </a:prstGeom>
          <a:solidFill>
            <a:srgbClr val="0000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icture 14"/>
          <p:cNvSpPr/>
          <p:nvPr/>
        </p:nvSpPr>
        <p:spPr>
          <a:xfrm>
            <a:off x="755640" y="4941720"/>
            <a:ext cx="79488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73040" y="371484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expresión fundamental para estos cálculos es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opía. Utilizaremos la expresión de Sakur-Tetrode: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428840" y="4780080"/>
          <a:ext cx="63244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4780080"/>
                    <a:ext cx="6324480" cy="1077840"/>
                  </a:xfrm>
                  <a:prstGeom prst="rect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89" name="Picture 14" descr=""/>
          <p:cNvPicPr/>
          <p:nvPr/>
        </p:nvPicPr>
        <p:blipFill>
          <a:blip r:embed="rId5"/>
          <a:stretch/>
        </p:blipFill>
        <p:spPr>
          <a:xfrm>
            <a:off x="857160" y="278604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1" name="Picture 16" descr=""/>
          <p:cNvPicPr/>
          <p:nvPr/>
        </p:nvPicPr>
        <p:blipFill>
          <a:blip r:embed="rId6"/>
          <a:stretch/>
        </p:blipFill>
        <p:spPr>
          <a:xfrm>
            <a:off x="1571760" y="2592360"/>
            <a:ext cx="3695400" cy="8002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8"/>
          <p:cNvSpPr/>
          <p:nvPr/>
        </p:nvSpPr>
        <p:spPr>
          <a:xfrm>
            <a:off x="0" y="121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18 CuadroTexto"/>
          <p:cNvSpPr/>
          <p:nvPr/>
        </p:nvSpPr>
        <p:spPr>
          <a:xfrm>
            <a:off x="775440" y="6143760"/>
            <a:ext cx="80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Cambria"/>
              </a:rPr>
              <a:t>Esta es la entropía del gas de van de Waals (Ver clase 6). El gas ideal se obtiene haciendo a=b=0.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27040" y="957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Cálculo explícito del Potencial Químico </a:t>
            </a:r>
            <a:r>
              <a:rPr b="1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7"/>
          <a:stretch/>
        </p:blipFill>
        <p:spPr>
          <a:xfrm>
            <a:off x="6215040" y="2428920"/>
            <a:ext cx="2171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14"/>
          <p:cNvSpPr/>
          <p:nvPr/>
        </p:nvSpPr>
        <p:spPr>
          <a:xfrm>
            <a:off x="4211640" y="5072040"/>
            <a:ext cx="4932360" cy="1525680"/>
          </a:xfrm>
          <a:prstGeom prst="wedgeEllipseCallout">
            <a:avLst>
              <a:gd name="adj1" fmla="val -53398"/>
              <a:gd name="adj2" fmla="val -81703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icture 10"/>
          <p:cNvSpPr/>
          <p:nvPr/>
        </p:nvSpPr>
        <p:spPr>
          <a:xfrm>
            <a:off x="2195640" y="1052640"/>
            <a:ext cx="33843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09480" y="12859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259520" y="5373720"/>
            <a:ext cx="48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última expresión se h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valuado para el caso de un g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deal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U=3/2 NkT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500040" y="1857240"/>
          <a:ext cx="71499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857240"/>
                    <a:ext cx="71499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11-05T01:03:10Z</dcterms:modified>
  <cp:revision>54</cp:revision>
  <dc:subject/>
  <dc:title>FI-2004 Termodinámica</dc:title>
</cp:coreProperties>
</file>