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13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EDA5-3087-4199-B0D4-25EF42221E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6963-7504-4821-99A4-5DB9554CFF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0AB8-4212-4514-995D-2951DF1AE6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5B57-2DE3-4D8D-9D7D-CCA6F019EC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6FB8-E94E-4DE2-B4DE-E3133BE461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4347-279E-4AAE-809F-A5E36EA6CE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9A4E-8C47-4971-B1E7-1DC31ABFD3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3773-BC03-4940-8503-8F4D78C718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A9D9-C064-4455-8708-358E98590C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491E-39C4-425C-9330-3CF0F60CE3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7B70-8C45-4793-B5EA-035041A2BF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BA67-463E-4C94-96FA-6F317091A2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5219-EB0D-486F-A7E3-83F1DCDD8E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7D35-5A5B-4985-907B-034703C24C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9427-13CD-4E48-9760-4E29CED4D1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075-3F76-47B4-ADDF-EFA04275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C27-32E4-4E71-80E8-1FB47542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319-6C47-4603-8028-5F92C1E1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396-AB97-49D2-BB86-3DBDB94A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773-3E96-4719-8A33-BB279E8A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5B6-FD4F-4D0B-BA6D-60826080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39E-4837-45D9-8DF6-9D8F9B48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A59-0D8D-413A-A891-C4B20AA9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512-CE6E-4878-B587-5D337D71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EE6-8756-48DB-B760-4EE7FCA7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B8F-C12F-449C-86C2-F7CD31E0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9F6-7CF9-478E-818B-94572428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B5E3-A7CD-40BC-B963-9E7EF3ADA0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988400" y="0"/>
          <a:ext cx="11556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8400" y="0"/>
                    <a:ext cx="1155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5"/>
          <p:cNvSpPr/>
          <p:nvPr/>
        </p:nvSpPr>
        <p:spPr>
          <a:xfrm>
            <a:off x="457200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expansion-rapida-cilindro"/>
          <p:cNvPicPr/>
          <p:nvPr/>
        </p:nvPicPr>
        <p:blipFill>
          <a:blip r:embed="rId3"/>
          <a:stretch/>
        </p:blipFill>
        <p:spPr>
          <a:xfrm>
            <a:off x="1116000" y="981000"/>
            <a:ext cx="2087640" cy="174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xpansion-lenta"/>
          <p:cNvPicPr/>
          <p:nvPr/>
        </p:nvPicPr>
        <p:blipFill>
          <a:blip r:embed="rId4"/>
          <a:stretch/>
        </p:blipFill>
        <p:spPr>
          <a:xfrm>
            <a:off x="395280" y="2852640"/>
            <a:ext cx="2303640" cy="194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uasi-estatico"/>
          <p:cNvPicPr/>
          <p:nvPr/>
        </p:nvPicPr>
        <p:blipFill>
          <a:blip r:embed="rId5"/>
          <a:stretch/>
        </p:blipFill>
        <p:spPr>
          <a:xfrm>
            <a:off x="1258920" y="4797360"/>
            <a:ext cx="3276720" cy="1476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4746240" y="1143000"/>
            <a:ext cx="4195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i los procesos no son cuasi-estáticos, 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podemos calcular la evolución usando la 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i el cilindro se suelta abruptamente, co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en la Figura de más arriba, el gas comprim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e expande violentamente y en su interior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generan vórtices y situaciones fuer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equilibrio cuya evolución no podemos evaluar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6558120" y="2825640"/>
            <a:ext cx="45720" cy="642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684680" y="3571920"/>
            <a:ext cx="436716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n cambio, consideremos una situación do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hemos depositado arena fina sobre la plata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superior del pistón. Si la vamos desaloj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lentamente, a medida que sacamos porci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infinitesimales de arena, el pistón sube y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situación cambia muy levemente. En el próx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traslado de arena tomamos en consideración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nuevas condiciones sobre el pistón..nueva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y así sucesivament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En este sistema podemos evaluar los camb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usando las reglas de la TD puesto que h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permanecido en equilibrio en todo instante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través del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24 Rectángulo redondeado"/>
          <p:cNvSpPr/>
          <p:nvPr/>
        </p:nvSpPr>
        <p:spPr>
          <a:xfrm>
            <a:off x="1285920" y="4286160"/>
            <a:ext cx="5072040" cy="1285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7786800" y="0"/>
          <a:ext cx="13572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0"/>
                    <a:ext cx="1357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6929280" y="1071720"/>
            <a:ext cx="1676520" cy="914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4"/>
          <a:stretch/>
        </p:blipFill>
        <p:spPr>
          <a:xfrm>
            <a:off x="2071800" y="2286000"/>
            <a:ext cx="435276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5"/>
          <a:stretch/>
        </p:blipFill>
        <p:spPr>
          <a:xfrm>
            <a:off x="1643040" y="4443480"/>
            <a:ext cx="428616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0 CuadroTexto"/>
          <p:cNvSpPr/>
          <p:nvPr/>
        </p:nvSpPr>
        <p:spPr>
          <a:xfrm>
            <a:off x="281520" y="1284120"/>
            <a:ext cx="65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50fd5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50fd5"/>
                </a:solidFill>
                <a:latin typeface="Calibri"/>
              </a:rPr>
              <a:t>LA CAPACIDAD CALÓRICA A PRESIÓN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6"/>
          <a:stretch/>
        </p:blipFill>
        <p:spPr>
          <a:xfrm>
            <a:off x="285840" y="2286000"/>
            <a:ext cx="1676160" cy="914400"/>
          </a:xfrm>
          <a:prstGeom prst="rect">
            <a:avLst/>
          </a:prstGeom>
          <a:ln w="0">
            <a:noFill/>
          </a:ln>
        </p:spPr>
      </p:pic>
      <p:sp>
        <p:nvSpPr>
          <p:cNvPr id="195" name="23 CuadroTexto"/>
          <p:cNvSpPr/>
          <p:nvPr/>
        </p:nvSpPr>
        <p:spPr>
          <a:xfrm>
            <a:off x="423000" y="3857760"/>
            <a:ext cx="671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Utilizando la definición de la capacidad calórica a volumen constante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5 Rectángulo redondeado"/>
          <p:cNvSpPr/>
          <p:nvPr/>
        </p:nvSpPr>
        <p:spPr>
          <a:xfrm>
            <a:off x="5786280" y="1000080"/>
            <a:ext cx="2643480" cy="3429000"/>
          </a:xfrm>
          <a:custGeom>
            <a:avLst/>
            <a:gdLst>
              <a:gd name="textAreaLeft" fmla="*/ 128880 w 2643480"/>
              <a:gd name="textAreaRight" fmla="*/ 2514600 w 2643480"/>
              <a:gd name="textAreaTop" fmla="*/ 128880 h 3429000"/>
              <a:gd name="textAreaBottom" fmla="*/ 3300120 h 3429000"/>
            </a:gdLst>
            <a:ahLst/>
            <a:rect l="textAreaLeft" t="textAreaTop" r="textAreaRight" b="textAreaBottom"/>
            <a:pathLst>
              <a:path w="21600" h="28018">
                <a:moveTo>
                  <a:pt x="3600" y="0"/>
                </a:moveTo>
                <a:arcTo wR="3600" hR="3600" stAng="16200000" swAng="-5400000"/>
                <a:lnTo>
                  <a:pt x="0" y="24418"/>
                </a:lnTo>
                <a:arcTo wR="3600" hR="3600" stAng="10800000" swAng="-5400000"/>
                <a:lnTo>
                  <a:pt x="18000" y="280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4 Rectángulo redondeado"/>
          <p:cNvSpPr/>
          <p:nvPr/>
        </p:nvSpPr>
        <p:spPr>
          <a:xfrm>
            <a:off x="428760" y="1214280"/>
            <a:ext cx="22716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Line 5"/>
          <p:cNvSpPr/>
          <p:nvPr/>
        </p:nvSpPr>
        <p:spPr>
          <a:xfrm flipH="1">
            <a:off x="5428800" y="928800"/>
            <a:ext cx="71640" cy="3571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3"/>
          <a:stretch/>
        </p:blipFill>
        <p:spPr>
          <a:xfrm>
            <a:off x="1571760" y="4935600"/>
            <a:ext cx="1457280" cy="7887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4"/>
          <a:stretch/>
        </p:blipFill>
        <p:spPr>
          <a:xfrm>
            <a:off x="4143240" y="5916600"/>
            <a:ext cx="1143000" cy="388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1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5"/>
          <a:stretch/>
        </p:blipFill>
        <p:spPr>
          <a:xfrm>
            <a:off x="5532480" y="5756400"/>
            <a:ext cx="928800" cy="7095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4" descr=""/>
          <p:cNvPicPr/>
          <p:nvPr/>
        </p:nvPicPr>
        <p:blipFill>
          <a:blip r:embed="rId6"/>
          <a:stretch/>
        </p:blipFill>
        <p:spPr>
          <a:xfrm>
            <a:off x="7286760" y="5572080"/>
            <a:ext cx="1685880" cy="9144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6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7" descr=""/>
          <p:cNvPicPr/>
          <p:nvPr/>
        </p:nvPicPr>
        <p:blipFill>
          <a:blip r:embed="rId7"/>
          <a:stretch/>
        </p:blipFill>
        <p:spPr>
          <a:xfrm>
            <a:off x="357120" y="3857760"/>
            <a:ext cx="4934160" cy="9144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9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23 CuadroTexto"/>
          <p:cNvSpPr/>
          <p:nvPr/>
        </p:nvSpPr>
        <p:spPr>
          <a:xfrm>
            <a:off x="507240" y="128592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fd5"/>
                </a:solidFill>
                <a:latin typeface="Calibri"/>
              </a:rPr>
              <a:t>Ejemplo:  El gas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25 CuadroTexto"/>
          <p:cNvSpPr/>
          <p:nvPr/>
        </p:nvSpPr>
        <p:spPr>
          <a:xfrm>
            <a:off x="165240" y="2000160"/>
            <a:ext cx="516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omo la energía interna  U , de un gas ideal, de acuerdo a 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que encontramos utilizando la teoría cinética 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No depende del volumen, ento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3" descr=""/>
          <p:cNvPicPr/>
          <p:nvPr/>
        </p:nvPicPr>
        <p:blipFill>
          <a:blip r:embed="rId8"/>
          <a:stretch/>
        </p:blipFill>
        <p:spPr>
          <a:xfrm>
            <a:off x="806400" y="2643120"/>
            <a:ext cx="3828960" cy="800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30 CuadroTexto"/>
          <p:cNvSpPr/>
          <p:nvPr/>
        </p:nvSpPr>
        <p:spPr>
          <a:xfrm>
            <a:off x="427320" y="51436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Y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31 CuadroTexto"/>
          <p:cNvSpPr/>
          <p:nvPr/>
        </p:nvSpPr>
        <p:spPr>
          <a:xfrm>
            <a:off x="229680" y="5929200"/>
            <a:ext cx="401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Usando la ecuación de estado de un gas ide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32 Flecha derecha"/>
          <p:cNvSpPr/>
          <p:nvPr/>
        </p:nvSpPr>
        <p:spPr>
          <a:xfrm>
            <a:off x="6643800" y="5929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33 CuadroTexto"/>
          <p:cNvSpPr/>
          <p:nvPr/>
        </p:nvSpPr>
        <p:spPr>
          <a:xfrm>
            <a:off x="5935320" y="1143000"/>
            <a:ext cx="230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te resultado  sólo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válido para un gas ide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Para un modelo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complejo de un g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busque la ecu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tado de van der Wa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Y aplique la fórmu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genérica en ese c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 un buen ejercici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"/>
          <p:cNvPicPr/>
          <p:nvPr/>
        </p:nvPicPr>
        <p:blipFill>
          <a:blip r:embed="rId9"/>
          <a:stretch/>
        </p:blipFill>
        <p:spPr>
          <a:xfrm>
            <a:off x="5907240" y="2643120"/>
            <a:ext cx="23796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428760" y="2428920"/>
            <a:ext cx="4152600" cy="8096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8" descr=""/>
          <p:cNvPicPr/>
          <p:nvPr/>
        </p:nvPicPr>
        <p:blipFill>
          <a:blip r:embed="rId4"/>
          <a:stretch/>
        </p:blipFill>
        <p:spPr>
          <a:xfrm>
            <a:off x="428760" y="3786120"/>
            <a:ext cx="1076040" cy="80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5"/>
          <a:stretch/>
        </p:blipFill>
        <p:spPr>
          <a:xfrm>
            <a:off x="2357280" y="3786120"/>
            <a:ext cx="1095480" cy="80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"/>
          <p:cNvPicPr/>
          <p:nvPr/>
        </p:nvPicPr>
        <p:blipFill>
          <a:blip r:embed="rId6"/>
          <a:stretch/>
        </p:blipFill>
        <p:spPr>
          <a:xfrm>
            <a:off x="428760" y="1285920"/>
            <a:ext cx="4114800" cy="876240"/>
          </a:xfrm>
          <a:prstGeom prst="rect">
            <a:avLst/>
          </a:prstGeom>
          <a:ln w="0">
            <a:noFill/>
          </a:ln>
        </p:spPr>
      </p:pic>
      <p:sp>
        <p:nvSpPr>
          <p:cNvPr id="240" name="13 CuadroTexto"/>
          <p:cNvSpPr/>
          <p:nvPr/>
        </p:nvSpPr>
        <p:spPr>
          <a:xfrm>
            <a:off x="5453280" y="1785960"/>
            <a:ext cx="2167560" cy="13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Recordar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N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A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 k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B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 =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Ademá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(N/ N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A 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) = n = # de m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4 CuadroTexto"/>
          <p:cNvSpPr/>
          <p:nvPr/>
        </p:nvSpPr>
        <p:spPr>
          <a:xfrm>
            <a:off x="516240" y="514368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 es la capacidad calórica por unidad de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5 CuadroTexto"/>
          <p:cNvSpPr/>
          <p:nvPr/>
        </p:nvSpPr>
        <p:spPr>
          <a:xfrm>
            <a:off x="5459040" y="3643200"/>
            <a:ext cx="268308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ncuentre las unidades de R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l  calor especí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5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non-adiabatic"/>
          <p:cNvPicPr/>
          <p:nvPr/>
        </p:nvPicPr>
        <p:blipFill>
          <a:blip r:embed="rId3"/>
          <a:stretch/>
        </p:blipFill>
        <p:spPr>
          <a:xfrm>
            <a:off x="216000" y="1125360"/>
            <a:ext cx="5111640" cy="4819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5828760" y="1575360"/>
            <a:ext cx="294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U = 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Q +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W = F· 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Definición conocid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Se puede poner enotra for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850720" y="3434760"/>
            <a:ext cx="285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Cuasi-estático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Un cambio de estado que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realiza de forma tal que ,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cada uno de los pasos se ma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tiene el equilibr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Termodinám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9 CuadroTexto"/>
          <p:cNvSpPr/>
          <p:nvPr/>
        </p:nvSpPr>
        <p:spPr>
          <a:xfrm>
            <a:off x="156240" y="5786280"/>
            <a:ext cx="467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En el intervalo </a:t>
            </a:r>
            <a:r>
              <a:rPr b="0" lang="es-ES" sz="1400" spc="-1" strike="noStrike">
                <a:solidFill>
                  <a:srgbClr val="02345e"/>
                </a:solidFill>
                <a:latin typeface="Calibri"/>
              </a:rPr>
              <a:t>T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, igual para ambos, el pistón se ha desplaz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más del doble en la situación inferi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5572080" y="2786040"/>
            <a:ext cx="3373560" cy="357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7740720" y="0"/>
          <a:ext cx="1403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0"/>
                    <a:ext cx="1403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5"/>
          <p:cNvSpPr/>
          <p:nvPr/>
        </p:nvSpPr>
        <p:spPr>
          <a:xfrm>
            <a:off x="5715000" y="1197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quilibrio-TD"/>
          <p:cNvPicPr/>
          <p:nvPr/>
        </p:nvPicPr>
        <p:blipFill>
          <a:blip r:embed="rId3"/>
          <a:stretch/>
        </p:blipFill>
        <p:spPr>
          <a:xfrm>
            <a:off x="71280" y="1428840"/>
            <a:ext cx="5418360" cy="4000320"/>
          </a:xfrm>
          <a:prstGeom prst="rect">
            <a:avLst/>
          </a:prstGeom>
          <a:ln w="0">
            <a:noFill/>
          </a:ln>
        </p:spPr>
      </p:pic>
      <p:sp>
        <p:nvSpPr>
          <p:cNvPr id="78" name="7 CuadroTexto"/>
          <p:cNvSpPr/>
          <p:nvPr/>
        </p:nvSpPr>
        <p:spPr>
          <a:xfrm>
            <a:off x="6000840" y="1428840"/>
            <a:ext cx="2928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gas de la izquierda NO está en equilibrio TD. No pode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finir una temperatura asociada al sistema. En cambio en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ontenedor de la izquierda existe un equilibrio TD. Es u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tuación irreal, puesto que aún en equilibrio deben exist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Fluctuaciones. La temperatura debería ser, por ejemplo, 32, 31,6  32,5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7715160" y="0"/>
          <a:ext cx="14288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5160" y="0"/>
                    <a:ext cx="14288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Line 5"/>
          <p:cNvSpPr/>
          <p:nvPr/>
        </p:nvSpPr>
        <p:spPr>
          <a:xfrm>
            <a:off x="492912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Cambio de estado"/>
          <p:cNvPicPr/>
          <p:nvPr/>
        </p:nvPicPr>
        <p:blipFill>
          <a:blip r:embed="rId3"/>
          <a:stretch/>
        </p:blipFill>
        <p:spPr>
          <a:xfrm>
            <a:off x="357120" y="1268280"/>
            <a:ext cx="4486320" cy="4810320"/>
          </a:xfrm>
          <a:prstGeom prst="rect">
            <a:avLst/>
          </a:prstGeom>
          <a:ln w="0">
            <a:noFill/>
          </a:ln>
        </p:spPr>
      </p:pic>
      <p:sp>
        <p:nvSpPr>
          <p:cNvPr id="85" name="8 CuadroTexto"/>
          <p:cNvSpPr/>
          <p:nvPr/>
        </p:nvSpPr>
        <p:spPr>
          <a:xfrm>
            <a:off x="5090400" y="2214720"/>
            <a:ext cx="3542760" cy="15541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Podemos notar que no es neces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especificar la presión en cada uno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dos estados indi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Si es un gas ideal, conocemos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ecuación de estado y conociendo el Vo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y  la temperatura, podemos calcular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7 CuadroTexto"/>
          <p:cNvSpPr/>
          <p:nvPr/>
        </p:nvSpPr>
        <p:spPr>
          <a:xfrm>
            <a:off x="5155200" y="4143240"/>
            <a:ext cx="360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Para ir del estado 1 al 2 fue preciso dismin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presión. Por ejemplo, sobre el pistón superio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existía un peso que hemos sacado lent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8 Trapecio"/>
          <p:cNvGrpSpPr/>
          <p:nvPr/>
        </p:nvGrpSpPr>
        <p:grpSpPr>
          <a:xfrm>
            <a:off x="1596960" y="3176640"/>
            <a:ext cx="390600" cy="176040"/>
            <a:chOff x="1596960" y="3176640"/>
            <a:chExt cx="390600" cy="176040"/>
          </a:xfrm>
        </p:grpSpPr>
        <p:pic>
          <p:nvPicPr>
            <p:cNvPr id="88" name="8 Trapecio" descr=""/>
            <p:cNvPicPr/>
            <p:nvPr/>
          </p:nvPicPr>
          <p:blipFill>
            <a:blip r:embed="rId4"/>
            <a:stretch/>
          </p:blipFill>
          <p:spPr>
            <a:xfrm>
              <a:off x="1596960" y="3176640"/>
              <a:ext cx="3906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636560" y="3203640"/>
              <a:ext cx="309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367840" y="119700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ff"/>
                </a:solidFill>
                <a:latin typeface="Comic Sans MS"/>
              </a:rPr>
              <a:t>Cl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362560" y="1700280"/>
            <a:ext cx="36874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 el supuesto indicado podemos 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de un estado a otro y ser capace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alcular los cambios ocurridos durant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volución del sistem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La trayectoria en este espacio se refie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a cambi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adiabáticos,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sin intercambio de calor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l medio exteri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otérmicos,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la temperatura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ócoros,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el volumen 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óbaros, </a:t>
            </a: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( la presión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                   </a:t>
            </a: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357120" y="1000080"/>
            <a:ext cx="3429000" cy="291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1009800" y="4017960"/>
            <a:ext cx="246672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10 CuadroTexto"/>
          <p:cNvSpPr/>
          <p:nvPr/>
        </p:nvSpPr>
        <p:spPr>
          <a:xfrm>
            <a:off x="5442120" y="5500800"/>
            <a:ext cx="2523240" cy="580680"/>
          </a:xfrm>
          <a:prstGeom prst="rect">
            <a:avLst/>
          </a:prstGeom>
          <a:noFill/>
          <a:ln w="2844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Definición de un sistema 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y la convención de sig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12 Conector curvado"/>
          <p:cNvCxnSpPr>
            <a:stCxn id="99" idx="1"/>
          </p:cNvCxnSpPr>
          <p:nvPr/>
        </p:nvCxnSpPr>
        <p:spPr>
          <a:xfrm rot="10800000">
            <a:off x="3642480" y="5428440"/>
            <a:ext cx="1786680" cy="364320"/>
          </a:xfrm>
          <a:prstGeom prst="curvedConnector5">
            <a:avLst>
              <a:gd name="adj1" fmla="val 50000"/>
              <a:gd name="adj2" fmla="val 49950"/>
              <a:gd name="adj3" fmla="val 50000"/>
            </a:avLst>
          </a:prstGeom>
          <a:ln w="28440">
            <a:solidFill>
              <a:srgbClr val="0075cc"/>
            </a:solidFill>
            <a:miter/>
            <a:tailEnd len="med" type="arrow" w="med"/>
          </a:ln>
        </p:spPr>
      </p:cxnSp>
      <p:sp>
        <p:nvSpPr>
          <p:cNvPr id="101" name="13 Forma libre"/>
          <p:cNvSpPr/>
          <p:nvPr/>
        </p:nvSpPr>
        <p:spPr>
          <a:xfrm>
            <a:off x="560520" y="3787920"/>
            <a:ext cx="3125520" cy="2981160"/>
          </a:xfrm>
          <a:prstGeom prst="pie">
            <a:avLst/>
          </a:prstGeom>
          <a:noFill/>
          <a:ln w="2556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78588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Line 5"/>
          <p:cNvSpPr/>
          <p:nvPr/>
        </p:nvSpPr>
        <p:spPr>
          <a:xfrm>
            <a:off x="3786120" y="100008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5011560" y="3164040"/>
            <a:ext cx="3071880" cy="661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9 Rectángulo"/>
          <p:cNvSpPr/>
          <p:nvPr/>
        </p:nvSpPr>
        <p:spPr>
          <a:xfrm>
            <a:off x="428760" y="15717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</a:t>
            </a:r>
            <a:r>
              <a:rPr b="0" lang="es-ES" sz="2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U = ∆Q + ∆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1 CuadroTexto"/>
          <p:cNvSpPr/>
          <p:nvPr/>
        </p:nvSpPr>
        <p:spPr>
          <a:xfrm>
            <a:off x="432000" y="958680"/>
            <a:ext cx="277452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Primera Ley de la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32 CuadroTexto"/>
          <p:cNvSpPr/>
          <p:nvPr/>
        </p:nvSpPr>
        <p:spPr>
          <a:xfrm>
            <a:off x="79560" y="3643200"/>
            <a:ext cx="3292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Calor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ransferencia de Energía</a:t>
            </a:r>
            <a:r>
              <a:rPr b="0" lang="es-ES" sz="1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: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Q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No es un objeto tangible, es energ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traspasada. Definimos la conven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∆</a:t>
            </a:r>
            <a:r>
              <a:rPr b="0" lang="es-ES" sz="1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Q &gt; 0 Si entra calor a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3 CuadroTexto"/>
          <p:cNvSpPr/>
          <p:nvPr/>
        </p:nvSpPr>
        <p:spPr>
          <a:xfrm>
            <a:off x="118440" y="2143080"/>
            <a:ext cx="36525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Energía Interna:  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Es una función de estado. En un proces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u variación </a:t>
            </a:r>
            <a:r>
              <a:rPr b="0" i="1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U</a:t>
            </a:r>
            <a:r>
              <a:rPr b="0" i="1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 , </a:t>
            </a: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sólo depende del esta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do final y de su valor inicial. No depe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del camino seguido para  ir de un es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a otr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4 CuadroTexto"/>
          <p:cNvSpPr/>
          <p:nvPr/>
        </p:nvSpPr>
        <p:spPr>
          <a:xfrm>
            <a:off x="206640" y="5156280"/>
            <a:ext cx="3087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rabajo:</a:t>
            </a:r>
            <a:r>
              <a:rPr b="0" lang="es-ES" sz="16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 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Representa el trabajo mecán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Convención de sig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W &gt; 0 </a:t>
            </a: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i se realiza trabajo en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ist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5 CuadroTexto"/>
          <p:cNvSpPr/>
          <p:nvPr/>
        </p:nvSpPr>
        <p:spPr>
          <a:xfrm>
            <a:off x="4242960" y="1071720"/>
            <a:ext cx="4642920" cy="6426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Significado de la función de estado o 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diferenciales exactas o inexa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6 CuadroTexto"/>
          <p:cNvSpPr/>
          <p:nvPr/>
        </p:nvSpPr>
        <p:spPr>
          <a:xfrm>
            <a:off x="4096080" y="1785960"/>
            <a:ext cx="48106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5cc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75cc"/>
                </a:solidFill>
                <a:latin typeface="Arial"/>
              </a:rPr>
              <a:t>U=U(T, V, N)  o U(p, V,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La energía interna es una función de estado, su diferencial  </a:t>
            </a:r>
            <a:r>
              <a:rPr b="0" lang="es-ES" sz="1400" spc="-1" strike="noStrike">
                <a:solidFill>
                  <a:srgbClr val="c00000"/>
                </a:solidFill>
                <a:latin typeface="Calibri"/>
              </a:rPr>
              <a:t>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responde al protocolo conocido del cálculo. Por ejemplo 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pende de la Temp., Vol. y N (número de partículas), ento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podemos diferenciar la función 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</a:rPr>
              <a:t>U(T,V,N)  </a:t>
            </a: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y obtene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7 CuadroTexto"/>
          <p:cNvSpPr/>
          <p:nvPr/>
        </p:nvSpPr>
        <p:spPr>
          <a:xfrm>
            <a:off x="3917160" y="3887640"/>
            <a:ext cx="512928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No hemos incluido N como variable porque en esta etapa inicial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no variamos  el número de partícu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abemos que los gases ideales  tienen una ecuación de estad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relaciona la presión, el volumen , la temperatura y  el núm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partículas N. Por esta razón dejamos la energía interna como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función de T y V solamente. La presión se puede conocer a part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 las otras dos variables, y por tanto no se incluye en esta elecc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Es una variable dependiente de las otras dos. Pero se podría incluir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como se señaló arriba. Es preciso  tomar una  de las op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Escribiremos la energía interna como U, pero sabemos que es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función de T, V y N: 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U </a:t>
            </a:r>
            <a:r>
              <a:rPr b="0" lang="es-ES" sz="1400" spc="-1" strike="noStrike">
                <a:solidFill>
                  <a:srgbClr val="0075cc"/>
                </a:solidFill>
                <a:latin typeface="Arial"/>
                <a:ea typeface="Arial"/>
              </a:rPr>
              <a:t>≡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 U(T, V, N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22320"/>
            <a:ext cx="56534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739800"/>
            <a:ext cx="7856640" cy="46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Line 5"/>
          <p:cNvSpPr/>
          <p:nvPr/>
        </p:nvSpPr>
        <p:spPr>
          <a:xfrm>
            <a:off x="464328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6 Rectángulo"/>
          <p:cNvSpPr/>
          <p:nvPr/>
        </p:nvSpPr>
        <p:spPr>
          <a:xfrm>
            <a:off x="564372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dU = </a:t>
            </a:r>
            <a:r>
              <a:rPr b="0" lang="es-ES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đ</a:t>
            </a: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Q + </a:t>
            </a:r>
            <a:r>
              <a:rPr b="0" lang="es-ES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đ</a:t>
            </a: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"/>
          <p:cNvPicPr/>
          <p:nvPr/>
        </p:nvPicPr>
        <p:blipFill>
          <a:blip r:embed="rId3"/>
          <a:stretch/>
        </p:blipFill>
        <p:spPr>
          <a:xfrm>
            <a:off x="428760" y="2357280"/>
            <a:ext cx="2562120" cy="447840"/>
          </a:xfrm>
          <a:prstGeom prst="rect">
            <a:avLst/>
          </a:prstGeom>
          <a:ln w="0">
            <a:noFill/>
          </a:ln>
        </p:spPr>
      </p:pic>
      <p:sp>
        <p:nvSpPr>
          <p:cNvPr id="140" name="21 CuadroTexto"/>
          <p:cNvSpPr/>
          <p:nvPr/>
        </p:nvSpPr>
        <p:spPr>
          <a:xfrm>
            <a:off x="4875840" y="1143000"/>
            <a:ext cx="4167360" cy="8240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¿Cómo evaluamos el cambio que experimenta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por ejemplo, la energía interna </a:t>
            </a:r>
            <a:r>
              <a:rPr b="1" lang="es-ES" sz="1600" spc="-1" strike="noStrike">
                <a:solidFill>
                  <a:srgbClr val="7030a0"/>
                </a:solidFill>
                <a:latin typeface="Calibri"/>
              </a:rPr>
              <a:t>U</a:t>
            </a: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 en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sistema al ir del estado 1 al estado 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Grafico-modelo"/>
          <p:cNvPicPr/>
          <p:nvPr/>
        </p:nvPicPr>
        <p:blipFill>
          <a:blip r:embed="rId4"/>
          <a:stretch/>
        </p:blipFill>
        <p:spPr>
          <a:xfrm>
            <a:off x="142920" y="1047600"/>
            <a:ext cx="4486320" cy="4810320"/>
          </a:xfrm>
          <a:prstGeom prst="rect">
            <a:avLst/>
          </a:prstGeom>
          <a:ln w="0">
            <a:noFill/>
          </a:ln>
        </p:spPr>
      </p:pic>
      <p:sp>
        <p:nvSpPr>
          <p:cNvPr id="142" name="23 CuadroTexto"/>
          <p:cNvSpPr/>
          <p:nvPr/>
        </p:nvSpPr>
        <p:spPr>
          <a:xfrm>
            <a:off x="4934520" y="2143080"/>
            <a:ext cx="375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bemos calcular la energía que entra o sale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istema (esto es el calor, Q) y el trabajo realiz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obre el sistema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24 CuadroTexto"/>
          <p:cNvSpPr/>
          <p:nvPr/>
        </p:nvSpPr>
        <p:spPr>
          <a:xfrm>
            <a:off x="4944600" y="3429000"/>
            <a:ext cx="404244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La barrita sobre la “d” indica que no es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diferencial exacta ( </a:t>
            </a:r>
            <a:r>
              <a:rPr b="1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đQ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 , </a:t>
            </a:r>
            <a:r>
              <a:rPr b="1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đW 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Con esto se expresa que el valor que tome la integ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de estas cantidades, depende del trayecto seguido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no se puede calcular  a partir de los estados inicial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f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Por esta razón debemos indicar  el trayecto segu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 integrar respetando esta condi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Sin embargo la energía interna depende sólo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stados inicial y final: es una función de estado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constituye una diferencial exa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Si el proceso es cuasi-estacionario, el cambio e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nergía interna U depende exclusivamente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puntos inicial y f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929720" y="0"/>
          <a:ext cx="121428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9720" y="0"/>
                    <a:ext cx="12142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Line 5"/>
          <p:cNvSpPr/>
          <p:nvPr/>
        </p:nvSpPr>
        <p:spPr>
          <a:xfrm>
            <a:off x="5429160" y="10303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000840" y="1214280"/>
            <a:ext cx="2057400" cy="240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2057400" cy="2152800"/>
          </a:xfrm>
          <a:prstGeom prst="rect">
            <a:avLst/>
          </a:prstGeom>
          <a:ln w="0">
            <a:noFill/>
          </a:ln>
        </p:spPr>
      </p:pic>
      <p:sp>
        <p:nvSpPr>
          <p:cNvPr id="151" name="7 CuadroTexto"/>
          <p:cNvSpPr/>
          <p:nvPr/>
        </p:nvSpPr>
        <p:spPr>
          <a:xfrm>
            <a:off x="889920" y="1428840"/>
            <a:ext cx="4022640" cy="368280"/>
          </a:xfrm>
          <a:prstGeom prst="rect">
            <a:avLst/>
          </a:prstGeom>
          <a:noFill/>
          <a:ln w="2844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CAPACIDAD CALÓRICA DE UN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9 CuadroTexto"/>
          <p:cNvSpPr/>
          <p:nvPr/>
        </p:nvSpPr>
        <p:spPr>
          <a:xfrm>
            <a:off x="369720" y="2143080"/>
            <a:ext cx="48229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Para poner a prueba nuestros modelo, experimentamos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un gas en un recipiente, como se indica en las dos figu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dyac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n un caso lo calentamos manteniendo el volumen consta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(ver Figura inferior) y en otro mantenemos la presión co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mbas son situaciones fácilmente reproduci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Si hacemos hervir agua en una olla a presión (con ta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hermética),  estamos  manteniendo el volumen co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Si hervimos el agua en una olla abierta, lo hacemos a 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constante, con la presión atmosférica del lu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s fácil medir los cambios de temperatura y presión en es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dos ejemplos. (Es más , se pueden medir efectos cuánticos 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ste experimen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 continuación calcularemos lo que predice la teoría y l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nos dice el experim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7881840" y="3214800"/>
            <a:ext cx="1047960" cy="571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6"/>
          <a:stretch/>
        </p:blipFill>
        <p:spPr>
          <a:xfrm>
            <a:off x="7929720" y="5643720"/>
            <a:ext cx="1143000" cy="5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24 Rectángulo redondeado"/>
          <p:cNvSpPr/>
          <p:nvPr/>
        </p:nvSpPr>
        <p:spPr>
          <a:xfrm>
            <a:off x="4714920" y="5715000"/>
            <a:ext cx="2143080" cy="1000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7786800" y="0"/>
          <a:ext cx="13572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0"/>
                    <a:ext cx="1357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17" descr=""/>
          <p:cNvPicPr/>
          <p:nvPr/>
        </p:nvPicPr>
        <p:blipFill>
          <a:blip r:embed="rId3"/>
          <a:stretch/>
        </p:blipFill>
        <p:spPr>
          <a:xfrm>
            <a:off x="5072040" y="2695680"/>
            <a:ext cx="2562120" cy="447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4"/>
          <a:stretch/>
        </p:blipFill>
        <p:spPr>
          <a:xfrm>
            <a:off x="4929120" y="5786280"/>
            <a:ext cx="1695600" cy="876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"/>
          <p:cNvPicPr/>
          <p:nvPr/>
        </p:nvPicPr>
        <p:blipFill>
          <a:blip r:embed="rId5"/>
          <a:stretch/>
        </p:blipFill>
        <p:spPr>
          <a:xfrm>
            <a:off x="3244680" y="4767120"/>
            <a:ext cx="43722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10 CuadroTexto"/>
          <p:cNvSpPr/>
          <p:nvPr/>
        </p:nvSpPr>
        <p:spPr>
          <a:xfrm>
            <a:off x="253080" y="187632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trabajo se puede expresar c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1 Rectángulo"/>
          <p:cNvSpPr/>
          <p:nvPr/>
        </p:nvSpPr>
        <p:spPr>
          <a:xfrm>
            <a:off x="3090960" y="18478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dW = -p 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2 CuadroTexto"/>
          <p:cNvSpPr/>
          <p:nvPr/>
        </p:nvSpPr>
        <p:spPr>
          <a:xfrm>
            <a:off x="4250160" y="1865160"/>
            <a:ext cx="358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. 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signo proviene de nuestra con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5 CuadroTexto"/>
          <p:cNvSpPr/>
          <p:nvPr/>
        </p:nvSpPr>
        <p:spPr>
          <a:xfrm>
            <a:off x="214200" y="230508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dV es positivo, el sistema realiza trabajo y por tanto ∆W &lt; 0. Al contrario, si dV es negativo, ∆W &gt;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6"/>
          <a:stretch/>
        </p:blipFill>
        <p:spPr>
          <a:xfrm>
            <a:off x="3214800" y="3714840"/>
            <a:ext cx="4895640" cy="876240"/>
          </a:xfrm>
          <a:prstGeom prst="rect">
            <a:avLst/>
          </a:prstGeom>
          <a:ln w="0">
            <a:noFill/>
          </a:ln>
        </p:spPr>
      </p:pic>
      <p:sp>
        <p:nvSpPr>
          <p:cNvPr id="169" name="18 CuadroTexto"/>
          <p:cNvSpPr/>
          <p:nvPr/>
        </p:nvSpPr>
        <p:spPr>
          <a:xfrm>
            <a:off x="370080" y="2733840"/>
            <a:ext cx="46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ordenamos la expresión de la primera ley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19 CuadroTexto"/>
          <p:cNvSpPr/>
          <p:nvPr/>
        </p:nvSpPr>
        <p:spPr>
          <a:xfrm>
            <a:off x="435240" y="1143000"/>
            <a:ext cx="58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Cálculo de la capacidad calórica a Volumen const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20 CuadroTexto"/>
          <p:cNvSpPr/>
          <p:nvPr/>
        </p:nvSpPr>
        <p:spPr>
          <a:xfrm>
            <a:off x="285840" y="328608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expandimos la energía interna  en función de la Temperatura y el Volumen y lo reemplazamos en la ecuación anterior, 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1 CuadroTexto"/>
          <p:cNvSpPr/>
          <p:nvPr/>
        </p:nvSpPr>
        <p:spPr>
          <a:xfrm>
            <a:off x="581400" y="498780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ividiendo por d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357960" y="928800"/>
            <a:ext cx="1838160" cy="876240"/>
          </a:xfrm>
          <a:prstGeom prst="rect">
            <a:avLst/>
          </a:prstGeom>
          <a:ln w="0">
            <a:noFill/>
          </a:ln>
        </p:spPr>
      </p:pic>
      <p:sp>
        <p:nvSpPr>
          <p:cNvPr id="174" name="23 CuadroTexto"/>
          <p:cNvSpPr/>
          <p:nvPr/>
        </p:nvSpPr>
        <p:spPr>
          <a:xfrm>
            <a:off x="515880" y="6072120"/>
            <a:ext cx="39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 forma que  a volumen constante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09-17T01:43:57Z</dcterms:modified>
  <cp:revision>72</cp:revision>
  <dc:subject/>
  <dc:title>FI-2004 Termodinámica</dc:title>
</cp:coreProperties>
</file>