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5.wmf" ContentType="image/x-wmf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3E6-5477-4036-BEF0-3C1A05524C1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229-262A-43DD-9F60-77FD2D1F2D1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B9C-D650-4F00-B2CD-5BAF0D18FB8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9CB-D289-4022-8E10-9701439FC4A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373B-63CF-4D53-A11B-505EA279227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1E7-17AD-41A9-8E36-E9EFC15206A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47D-2F00-4E12-B905-89F13756F2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57B-64FA-4696-9F02-5E6A074F640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315-6BE3-4DBE-91F2-035783FE76A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39EE-23FA-4331-8FC5-7FB352B65BE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C08-3C01-4597-A444-7498E261A32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2920-28F3-4F66-B6D8-CE2056727B8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2DE-3149-4639-A535-0AFA65830A7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3DFE-4A38-4276-B6CA-0145D944C20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B2B-D275-41AE-BD5B-7BCDF59A8E3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BE4-0AB5-426F-8102-1110C344F0A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2D57-A88F-46B3-B246-3E52CB1E7E2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C0EF-964F-4E86-9545-4EAF4DF202F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EA1-EFD4-4682-A509-5C96E448234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742A-78E1-4C92-BB2F-BDDC9595824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965-FB76-42C2-A758-4AFECDCCD17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114-FFD5-4B3D-A8DD-E32D4D85771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771-47FD-4866-8589-11B761F2B42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988-BFA8-4D45-80F2-567CE0D875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1F5-4E09-48BF-B0DB-E6896CDAD8A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796C-8902-4997-83B6-C98C02837AC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4ED-4A65-4856-90A9-CF91A7ABD19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DD6F-D6F0-4F1A-A5CD-90D00E412AD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E82E-CFB5-4255-A02E-841BB444B3E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7E6-1EA2-4BEE-9FC8-9B026EE306A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E2F-F8A7-496A-889F-230F06138EB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C187-8AB7-4931-8485-C47069A544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17FC-1FD6-4787-9190-99712B6E52A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0DB9-88A1-4DCE-8ABE-7614691685E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894C-DA39-4C26-8080-E787F919471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F28D-B766-46F6-B7AF-D7A90362836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8777-C430-4CC4-A5AC-C7EF7034F6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E83-838A-4A9C-9730-FF21F623D9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431-FB70-4455-A416-9135DF1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E53-1826-4A98-98A0-02B16E92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E1A-5850-4C91-842C-ED0D2BEB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F31-76B5-4CDC-82CF-15DFC4B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C619-F1CB-4DA5-A686-36408D4F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73E-2578-4351-98B1-D57BD88A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71CC-A256-4327-852E-C4380733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D2D-B75C-4609-A7A3-2E1BA49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9142-D8C1-45BB-A291-A1C94F94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0913-CFCF-4F7B-9870-51801D3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8671-D8C3-4D0F-8EC3-F690802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6CD-7B12-48B5-BDC4-ABD237D6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72FD-7F53-4987-8D66-4FFBFA7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C68C-D8EA-42EE-AF96-C8FF964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0F5A-A51A-47F5-9E48-7D28B6B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F902-04BE-45C0-A99B-B4C48BFC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183-4FD9-439B-AF36-3DA1BBEB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43BF-251D-4340-8616-0A7B87BA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64B9-58D0-45CB-8061-3A0C300F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90C7-776D-465F-A77A-892C2301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AD23-BC83-4FC4-9191-5E219B6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FE4E-0D0B-4329-A3FF-E8D48A95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6F7-8207-4A02-B8C8-3812175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FAB4-C328-42A0-B91C-2EF6A256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C637-D04D-4E41-98A9-7F5141A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38DF-3B84-4F07-B26F-6056D96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485D-9DDB-45DD-B8BB-8253278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4C3F-D00F-4652-A8FC-D22CB10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3FCD-209D-4646-9800-09EAECED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39C7-A7FC-48AA-B1EC-892F045C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0C7D-B115-4C26-99F6-1ADBCCB2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46A6-3DB8-4335-A030-3F1FF789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EAC7-13C3-4D84-A24A-104AF77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E7F-9CC5-4ACF-BC66-5ED1F8B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26C4-B741-49AA-A634-267CD17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4BBF-DE26-4242-B4A5-A0E5BC53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23D2-6F5F-472B-94F3-264735E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F820D-C7B1-4134-A481-29A89146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AF1A-F337-43B3-AA63-CD0FE61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C86B-523E-4D6C-8B5C-040E265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9D7A-9524-43D7-8B0B-0824CA0F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1A67-5DBD-4BCF-9DB9-F8ED8FE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A3075-0DC9-4EAE-8804-A1FAAD22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34CB-3C5E-48C3-8821-2CD3BBB5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963-FB9A-44C7-8B62-798BFF0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5C83-9439-4582-8D5C-67C81BD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FBE0-3BD6-4F08-8FF8-393EC9E1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39D3-6C0B-4807-BDD2-7B7FA8C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2852-589C-4D68-B356-1AE086F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F500-1BDB-4E8F-8B7A-73FFF3D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7DEA-57BA-464E-8186-33E6D48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03D6-8E59-4241-AEA9-70BE879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CC24-0586-4B2D-912B-2F22567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6664-87D7-4B7B-AE28-AE49F46D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EED8-4307-4E59-922A-1D98BA1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DC7-8466-43CC-83D5-E2CA1A7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5402-AAE8-498C-9076-CCECBBAF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6B18-2856-4A5F-905A-7A50A13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D35A-A1F0-470F-B274-BD742A95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895A1-B637-47E4-B800-549CB90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88BF-D02F-45B9-9D05-44EA7413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8725-8F30-4CA2-92FF-171E66D8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2A0C-E631-4404-A83A-F447EFA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BE53-7FE6-4EB0-97D5-2F6ACD8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7E1A-47DE-4347-B81F-BB8CFF3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FF8A-1B84-45A9-BFA8-708ADDFF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548-93FB-43C6-8578-456C15A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4F0EB-2581-4503-8E81-49FF89B5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54F8-43DE-46F7-BF78-1F0A7248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B2BB0-4755-4CC0-AFA7-ABE60926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679F-A164-4320-B96C-21EC76ED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C78B-6698-4C1A-8C23-2EE9C669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3BED-1EC7-4B23-8BFF-313DFE1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B0C4D-5AA5-4387-9D0A-1193473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ECD1-7BD5-44F6-9B01-F7D1BAD3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9B22-A0ED-4E51-999F-6CD1AD2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1467F-C9FA-48B4-96AB-6CEE6BF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62A-7B22-44B1-AECD-DD67B7E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A9E1A-A824-4127-8CD2-859B5EE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53ED-84AF-4E5D-A9E4-A5519D5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88CC-A1A0-445E-934D-CAA0054A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9F17-7163-4AAA-BC31-E75F6D93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D67C-E896-45D8-AA44-439F3D5A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08FA-2490-4EF6-8F60-CC69232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4FC44-0C6F-4F2B-AC1D-7712237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B247-BCDC-474E-8163-12367460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72732-40D6-4B01-B409-BFC86E6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30E1-7C0E-4AA4-A049-79A3F7AB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C76-A1A7-4002-B117-FC157E2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DD97A-F0F2-4F2E-A7B9-559F277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93EB2-2C2A-4294-AA85-4D0663F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6E2F-4A5C-4CCC-A08E-E852E35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B48E-B721-4E7C-99DE-768CC60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ACD4-75E5-43B9-B6EC-4F43A340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23331-0AB4-4D51-B19F-6DC68224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01BF-EF27-4E04-8996-A684765F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15FF-D835-4843-A0FF-461475E3D0E1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64BC-30C8-4B89-8CB5-D326DEE489A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3C4-0009-4CA7-9E8B-3A0BAFBEFF1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B6E9-B55F-489B-8810-0B48D3A9487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2F6-2DE1-4889-9C0A-D9361EDB74F9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77E4-F107-47E5-B176-05D54664F729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E51-0F11-4896-8010-F1904A9BC67B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684-EAB5-4454-8893-A16C6CBA4C3C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35692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2 Métodos experimental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ón: se mide N veces una cantidad física, entonces su promedio se define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643040" y="2143080"/>
                <a:ext cx="6300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3500280" y="3643200"/>
            <a:ext cx="5108760" cy="3071880"/>
          </a:xfrm>
          <a:prstGeom prst="rect">
            <a:avLst/>
          </a:prstGeom>
          <a:ln w="0">
            <a:noFill/>
          </a:ln>
        </p:spPr>
      </p:pic>
      <p:sp>
        <p:nvSpPr>
          <p:cNvPr id="417" name="9 Conector recto"/>
          <p:cNvSpPr/>
          <p:nvPr/>
        </p:nvSpPr>
        <p:spPr>
          <a:xfrm flipH="1">
            <a:off x="6357960" y="3786120"/>
            <a:ext cx="1440" cy="221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285840" y="42148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=(10.1 + 3*10.2 + 4*10.3 + 3*10.4 +4*10.5 + 5*10.6 + 1*10.7)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1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El promedio: cómo medir “mej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9 CuadroTexto"/>
          <p:cNvSpPr/>
          <p:nvPr/>
        </p:nvSpPr>
        <p:spPr>
          <a:xfrm>
            <a:off x="928800" y="114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el promedio de un muestreo se acerca al promedio de toda la pobl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3749760" y="2286000"/>
            <a:ext cx="5394240" cy="3357720"/>
          </a:xfrm>
          <a:prstGeom prst="rect">
            <a:avLst/>
          </a:prstGeom>
          <a:ln w="0">
            <a:noFill/>
          </a:ln>
        </p:spPr>
      </p:pic>
      <p:sp>
        <p:nvSpPr>
          <p:cNvPr id="422" name="4 CuadroTexto"/>
          <p:cNvSpPr/>
          <p:nvPr/>
        </p:nvSpPr>
        <p:spPr>
          <a:xfrm>
            <a:off x="214200" y="2428920"/>
            <a:ext cx="307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más mida más confianza puedo tener en mis resultados; ejemplo: tirar una moneda cara vs. s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celación de los err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5 Flecha abajo"/>
          <p:cNvSpPr/>
          <p:nvPr/>
        </p:nvSpPr>
        <p:spPr>
          <a:xfrm>
            <a:off x="1428840" y="485784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6 CuadroTexto"/>
          <p:cNvSpPr/>
          <p:nvPr/>
        </p:nvSpPr>
        <p:spPr>
          <a:xfrm>
            <a:off x="4214880" y="5929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da vez acercarse más al “verdadero” valor promedio; ejemplo: 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7 CuadroTexto"/>
          <p:cNvSpPr/>
          <p:nvPr/>
        </p:nvSpPr>
        <p:spPr>
          <a:xfrm>
            <a:off x="3857760" y="5357880"/>
            <a:ext cx="25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uch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8 CuadroTexto"/>
          <p:cNvSpPr/>
          <p:nvPr/>
        </p:nvSpPr>
        <p:spPr>
          <a:xfrm>
            <a:off x="6429240" y="5357880"/>
            <a:ext cx="250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ocas med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4500720" y="257184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3822840" y="3000240"/>
            <a:ext cx="1071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750096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c4853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6357960" y="2928960"/>
            <a:ext cx="107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37f26"/>
                </a:solidFill>
                <a:latin typeface="Arial"/>
                <a:ea typeface="Arial"/>
              </a:rPr>
              <a:t>Valor verd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900" spc="-1" strike="noStrike">
                <a:solidFill>
                  <a:srgbClr val="572314"/>
                </a:solidFill>
                <a:latin typeface="Gill Sans MT"/>
              </a:rPr>
              <a:t>Efecto de la estadística</a:t>
            </a:r>
            <a:br>
              <a:rPr sz="3900"/>
            </a:b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cancelación de errores aleatorio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319640" cy="3273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4633920" y="1644480"/>
            <a:ext cx="4321080" cy="3273480"/>
          </a:xfrm>
          <a:prstGeom prst="rect">
            <a:avLst/>
          </a:prstGeom>
          <a:ln w="0">
            <a:noFill/>
          </a:ln>
        </p:spPr>
      </p:pic>
      <p:sp>
        <p:nvSpPr>
          <p:cNvPr id="434" name="6 CuadroTexto"/>
          <p:cNvSpPr/>
          <p:nvPr/>
        </p:nvSpPr>
        <p:spPr>
          <a:xfrm>
            <a:off x="6480" y="164304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7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7 CuadroTexto"/>
          <p:cNvSpPr/>
          <p:nvPr/>
        </p:nvSpPr>
        <p:spPr>
          <a:xfrm>
            <a:off x="4364280" y="1714680"/>
            <a:ext cx="979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0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8 CuadroTexto"/>
          <p:cNvSpPr/>
          <p:nvPr/>
        </p:nvSpPr>
        <p:spPr>
          <a:xfrm>
            <a:off x="396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9 CuadroTexto"/>
          <p:cNvSpPr/>
          <p:nvPr/>
        </p:nvSpPr>
        <p:spPr>
          <a:xfrm>
            <a:off x="3861720" y="420372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4744080" y="422604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1 CuadroTexto"/>
          <p:cNvSpPr/>
          <p:nvPr/>
        </p:nvSpPr>
        <p:spPr>
          <a:xfrm>
            <a:off x="8601840" y="4214880"/>
            <a:ext cx="52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42480" y="4643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ps: cuenta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3 CuadroTexto"/>
          <p:cNvSpPr/>
          <p:nvPr/>
        </p:nvSpPr>
        <p:spPr>
          <a:xfrm>
            <a:off x="1084320" y="1487520"/>
            <a:ext cx="272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4 CuadroTexto"/>
          <p:cNvSpPr/>
          <p:nvPr/>
        </p:nvSpPr>
        <p:spPr>
          <a:xfrm>
            <a:off x="5299920" y="1487520"/>
            <a:ext cx="285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10 segund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16 CuadroTexto"/>
          <p:cNvSpPr/>
          <p:nvPr/>
        </p:nvSpPr>
        <p:spPr>
          <a:xfrm>
            <a:off x="1086480" y="42148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7 CuadroTexto"/>
          <p:cNvSpPr/>
          <p:nvPr/>
        </p:nvSpPr>
        <p:spPr>
          <a:xfrm>
            <a:off x="5872680" y="4227480"/>
            <a:ext cx="218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ngulo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8 CuadroTexto"/>
          <p:cNvSpPr/>
          <p:nvPr/>
        </p:nvSpPr>
        <p:spPr>
          <a:xfrm>
            <a:off x="357120" y="55008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Entre más midamos menor la dispersión de los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9 Elipse"/>
          <p:cNvSpPr/>
          <p:nvPr/>
        </p:nvSpPr>
        <p:spPr>
          <a:xfrm>
            <a:off x="2071800" y="5952960"/>
            <a:ext cx="2357280" cy="90504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Vari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9 CuadroTexto"/>
          <p:cNvSpPr/>
          <p:nvPr/>
        </p:nvSpPr>
        <p:spPr>
          <a:xfrm>
            <a:off x="1143000" y="1143000"/>
            <a:ext cx="7572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el cuadrado de las desviaciones de las mediciones con respecto al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medio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ersión es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umar los cuadrados de las desviaciones ayuda a que estas no se canc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5037120" y="2928960"/>
                <a:ext cx="4106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3143160"/>
            <a:ext cx="4857840" cy="749520"/>
          </a:xfrm>
          <a:prstGeom prst="rect">
            <a:avLst/>
          </a:prstGeom>
          <a:ln w="0">
            <a:noFill/>
          </a:ln>
        </p:spPr>
      </p:pic>
      <p:sp>
        <p:nvSpPr>
          <p:cNvPr id="451" name="5 Rectángulo"/>
          <p:cNvSpPr/>
          <p:nvPr/>
        </p:nvSpPr>
        <p:spPr>
          <a:xfrm>
            <a:off x="2143080" y="3143160"/>
            <a:ext cx="500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6 Cerrar llave"/>
          <p:cNvSpPr/>
          <p:nvPr/>
        </p:nvSpPr>
        <p:spPr>
          <a:xfrm rot="5400000">
            <a:off x="1999800" y="342900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La desviación estándar, 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9 CuadroTexto"/>
          <p:cNvSpPr/>
          <p:nvPr/>
        </p:nvSpPr>
        <p:spPr>
          <a:xfrm>
            <a:off x="1143000" y="928800"/>
            <a:ext cx="8001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es la raíz cuadrada de l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Importa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si N &gt;&gt;1 entonces N-1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N (fórmula dada en el apu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fleja la diferencia en la precisión con que se midan diferentes muestreos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2357280" y="2071800"/>
                <a:ext cx="4961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Representación del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valor promedio y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50920" y="1285920"/>
          <a:ext cx="8642160" cy="171432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anz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20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-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5</a:t>
                      </a:r>
                      <a:r>
                        <a:rPr b="0" lang="es-MX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/(2-1)=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viación estadística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885960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CuadroTexto"/>
          <p:cNvSpPr/>
          <p:nvPr/>
        </p:nvSpPr>
        <p:spPr>
          <a:xfrm>
            <a:off x="5286240" y="478620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úmero de ocur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6 CuadroTexto"/>
          <p:cNvSpPr/>
          <p:nvPr/>
        </p:nvSpPr>
        <p:spPr>
          <a:xfrm>
            <a:off x="2428920" y="392904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7 CuadroTexto"/>
          <p:cNvSpPr/>
          <p:nvPr/>
        </p:nvSpPr>
        <p:spPr>
          <a:xfrm>
            <a:off x="7072200" y="371484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9 CuadroTexto"/>
          <p:cNvSpPr/>
          <p:nvPr/>
        </p:nvSpPr>
        <p:spPr>
          <a:xfrm>
            <a:off x="1214280" y="5643720"/>
            <a:ext cx="314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viación del 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0 CuadroTexto"/>
          <p:cNvSpPr/>
          <p:nvPr/>
        </p:nvSpPr>
        <p:spPr>
          <a:xfrm>
            <a:off x="1187280" y="3209760"/>
            <a:ext cx="6357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Gran número de me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0 CuadroTexto"/>
          <p:cNvSpPr/>
          <p:nvPr/>
        </p:nvSpPr>
        <p:spPr>
          <a:xfrm>
            <a:off x="1104480" y="4071960"/>
            <a:ext cx="1301040" cy="52056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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1 CuadroTexto"/>
          <p:cNvSpPr/>
          <p:nvPr/>
        </p:nvSpPr>
        <p:spPr>
          <a:xfrm>
            <a:off x="6906240" y="4071960"/>
            <a:ext cx="785880" cy="3682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Symbol"/>
                <a:ea typeface="Symbol"/>
              </a:rPr>
              <a:t>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467" name="2 CuadroTexto"/>
          <p:cNvSpPr/>
          <p:nvPr/>
        </p:nvSpPr>
        <p:spPr>
          <a:xfrm>
            <a:off x="1191960" y="1143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promedio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istribución Gaussiana, z=x-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</a:t>
            </a:r>
            <a:r>
              <a:rPr b="0" lang="es-MX" sz="1000" spc="-1" strike="noStrike">
                <a:solidFill>
                  <a:srgbClr val="572314"/>
                </a:solidFill>
                <a:latin typeface="Gill Sans MT"/>
              </a:rPr>
              <a:t>verdadero valor medio</a:t>
            </a:r>
            <a:r>
              <a:rPr b="0" lang="es-MX" sz="2800" spc="-1" strike="noStrike">
                <a:solidFill>
                  <a:srgbClr val="572314"/>
                </a:solidFill>
                <a:latin typeface="Symbol"/>
                <a:ea typeface="Symbol"/>
              </a:rPr>
              <a:t>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4 CuadroTexto"/>
          <p:cNvSpPr/>
          <p:nvPr/>
        </p:nvSpPr>
        <p:spPr>
          <a:xfrm>
            <a:off x="968760" y="5429160"/>
            <a:ext cx="78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68.3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5436a"/>
                </a:solidFill>
                <a:latin typeface="Arial"/>
              </a:rPr>
              <a:t>95.4%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de los datos está entre [&lt;C&gt;-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, &lt;C&gt;+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 Cerrar llave"/>
          <p:cNvSpPr/>
          <p:nvPr/>
        </p:nvSpPr>
        <p:spPr>
          <a:xfrm rot="5400000">
            <a:off x="2161080" y="3947040"/>
            <a:ext cx="357480" cy="7495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49520"/>
              <a:gd name="textAreaBottom" fmla="*/ 740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9"/>
                  <a:pt x="10800" y="858"/>
                </a:cubicBezTo>
                <a:lnTo>
                  <a:pt x="10800" y="9942"/>
                </a:lnTo>
                <a:cubicBezTo>
                  <a:pt x="10800" y="10371"/>
                  <a:pt x="16200" y="10800"/>
                  <a:pt x="21600" y="10800"/>
                </a:cubicBezTo>
                <a:cubicBezTo>
                  <a:pt x="16200" y="10800"/>
                  <a:pt x="10800" y="11229"/>
                  <a:pt x="10800" y="11658"/>
                </a:cubicBezTo>
                <a:lnTo>
                  <a:pt x="10800" y="20742"/>
                </a:lnTo>
                <a:cubicBezTo>
                  <a:pt x="10800" y="211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 CuadroTexto"/>
          <p:cNvSpPr/>
          <p:nvPr/>
        </p:nvSpPr>
        <p:spPr>
          <a:xfrm>
            <a:off x="205200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 Cerrar llave"/>
          <p:cNvSpPr/>
          <p:nvPr/>
        </p:nvSpPr>
        <p:spPr>
          <a:xfrm rot="5400000">
            <a:off x="6786000" y="3571920"/>
            <a:ext cx="357480" cy="150012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8 CuadroTexto"/>
          <p:cNvSpPr/>
          <p:nvPr/>
        </p:nvSpPr>
        <p:spPr>
          <a:xfrm>
            <a:off x="6695280" y="44038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CuadroTexto"/>
          <p:cNvSpPr/>
          <p:nvPr/>
        </p:nvSpPr>
        <p:spPr>
          <a:xfrm>
            <a:off x="6429240" y="2786040"/>
            <a:ext cx="1143000" cy="7333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0 CuadroTexto"/>
          <p:cNvSpPr/>
          <p:nvPr/>
        </p:nvSpPr>
        <p:spPr>
          <a:xfrm>
            <a:off x="1857240" y="2643120"/>
            <a:ext cx="1000440" cy="64152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o de conf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1 CuadroTexto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Cuantific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9 CuadroTexto"/>
          <p:cNvSpPr/>
          <p:nvPr/>
        </p:nvSpPr>
        <p:spPr>
          <a:xfrm>
            <a:off x="928800" y="750960"/>
            <a:ext cx="82152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absolut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el valor de la desviación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Error rela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/&lt;C&gt; = </a:t>
            </a: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/&lt;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centaje” de confiabilidad de las me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57120" y="3857760"/>
            <a:ext cx="4643640" cy="2786040"/>
          </a:xfrm>
          <a:prstGeom prst="rect">
            <a:avLst/>
          </a:prstGeom>
          <a:ln w="0">
            <a:noFill/>
          </a:ln>
        </p:spPr>
      </p:pic>
      <p:sp>
        <p:nvSpPr>
          <p:cNvPr id="479" name="6 CuadroTexto"/>
          <p:cNvSpPr/>
          <p:nvPr/>
        </p:nvSpPr>
        <p:spPr>
          <a:xfrm>
            <a:off x="535788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i el o los datos caen fuera del error estadístico uno podría pensar en elimin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7 Rectángulo"/>
          <p:cNvSpPr/>
          <p:nvPr/>
        </p:nvSpPr>
        <p:spPr>
          <a:xfrm>
            <a:off x="5500800" y="4500720"/>
            <a:ext cx="3143160" cy="2000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9 Conector recto"/>
          <p:cNvSpPr/>
          <p:nvPr/>
        </p:nvSpPr>
        <p:spPr>
          <a:xfrm flipV="1">
            <a:off x="5857920" y="4785840"/>
            <a:ext cx="2357280" cy="1357560"/>
          </a:xfrm>
          <a:prstGeom prst="line">
            <a:avLst/>
          </a:prstGeom>
          <a:ln w="38160">
            <a:solidFill>
              <a:srgbClr val="3891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0 Multiplicar"/>
          <p:cNvSpPr/>
          <p:nvPr/>
        </p:nvSpPr>
        <p:spPr>
          <a:xfrm>
            <a:off x="6072120" y="6000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1 Multiplicar"/>
          <p:cNvSpPr/>
          <p:nvPr/>
        </p:nvSpPr>
        <p:spPr>
          <a:xfrm>
            <a:off x="6286680" y="557208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2 Multiplicar"/>
          <p:cNvSpPr/>
          <p:nvPr/>
        </p:nvSpPr>
        <p:spPr>
          <a:xfrm>
            <a:off x="6786720" y="564372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3 Multiplicar"/>
          <p:cNvSpPr/>
          <p:nvPr/>
        </p:nvSpPr>
        <p:spPr>
          <a:xfrm>
            <a:off x="7072200" y="550080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4 Multiplicar"/>
          <p:cNvSpPr/>
          <p:nvPr/>
        </p:nvSpPr>
        <p:spPr>
          <a:xfrm>
            <a:off x="5857920" y="6143760"/>
            <a:ext cx="21420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5 Multiplicar"/>
          <p:cNvSpPr/>
          <p:nvPr/>
        </p:nvSpPr>
        <p:spPr>
          <a:xfrm>
            <a:off x="7286760" y="528624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6 Multiplicar"/>
          <p:cNvSpPr/>
          <p:nvPr/>
        </p:nvSpPr>
        <p:spPr>
          <a:xfrm>
            <a:off x="7429680" y="492912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7 Multiplicar"/>
          <p:cNvSpPr/>
          <p:nvPr/>
        </p:nvSpPr>
        <p:spPr>
          <a:xfrm>
            <a:off x="7858080" y="5929200"/>
            <a:ext cx="214200" cy="2145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8 Multiplicar"/>
          <p:cNvSpPr/>
          <p:nvPr/>
        </p:nvSpPr>
        <p:spPr>
          <a:xfrm>
            <a:off x="8072280" y="4857840"/>
            <a:ext cx="214560" cy="214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9 Elipse"/>
          <p:cNvSpPr/>
          <p:nvPr/>
        </p:nvSpPr>
        <p:spPr>
          <a:xfrm>
            <a:off x="7715160" y="5786280"/>
            <a:ext cx="500040" cy="50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20 Forma libre"/>
          <p:cNvSpPr/>
          <p:nvPr/>
        </p:nvSpPr>
        <p:spPr>
          <a:xfrm>
            <a:off x="5964120" y="4678200"/>
            <a:ext cx="2238480" cy="1603440"/>
          </a:xfrm>
          <a:prstGeom prst="pie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21 CuadroTexto"/>
          <p:cNvSpPr/>
          <p:nvPr/>
        </p:nvSpPr>
        <p:spPr>
          <a:xfrm>
            <a:off x="6649920" y="6143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23 CuadroTexto"/>
          <p:cNvSpPr/>
          <p:nvPr/>
        </p:nvSpPr>
        <p:spPr>
          <a:xfrm rot="16200000">
            <a:off x="5176800" y="511704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3 CuadroTexto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liminando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CuadroTexto"/>
          <p:cNvSpPr/>
          <p:nvPr/>
        </p:nvSpPr>
        <p:spPr>
          <a:xfrm>
            <a:off x="1000080" y="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Propagació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2"/>
              <p:cNvSpPr txBox="1"/>
              <p:nvPr/>
            </p:nvSpPr>
            <p:spPr>
              <a:xfrm>
                <a:off x="0" y="960480"/>
                <a:ext cx="9144000" cy="59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a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Δ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Δ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ltiplicac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sión</m:t>
                        </m:r>
                        <m:r>
                          <m:t xml:space="preserve">: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c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a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Δb</m:t>
                                        </m:r>
                                      </m:num>
                                      <m:den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nción</m:t>
                        </m:r>
                        <m:r>
                          <m:t xml:space="preserve">: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±</m:t>
                        </m:r>
                        <m:r>
                          <m:t xml:space="preserve">Δ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lt;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Δ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8 CuadroTexto"/>
          <p:cNvSpPr/>
          <p:nvPr/>
        </p:nvSpPr>
        <p:spPr>
          <a:xfrm>
            <a:off x="428760" y="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9 CuadroTexto"/>
          <p:cNvSpPr/>
          <p:nvPr/>
        </p:nvSpPr>
        <p:spPr>
          <a:xfrm>
            <a:off x="1143000" y="1143000"/>
            <a:ext cx="7429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872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ón: son todos los números que -que contados desde la izquierda- se conocen exactamente, sumando una más que se puede conocer “más o menos”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¿cuán seguro estamos de nuestras medi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8 CuadroTexto"/>
          <p:cNvSpPr/>
          <p:nvPr/>
        </p:nvSpPr>
        <p:spPr>
          <a:xfrm>
            <a:off x="1143000" y="1071720"/>
            <a:ext cx="785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¿Cómo medimos?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Ale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l pro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varianza y 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a 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idades: cantidades relevante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8 CuadroTexto"/>
          <p:cNvSpPr/>
          <p:nvPr/>
        </p:nvSpPr>
        <p:spPr>
          <a:xfrm>
            <a:off x="1000080" y="0"/>
            <a:ext cx="70722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572314"/>
                </a:solidFill>
                <a:latin typeface="Gill Sans MT"/>
              </a:rPr>
              <a:t>Cifras significa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¿cuán preciso puedodar el núm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9 CuadroTexto"/>
          <p:cNvSpPr/>
          <p:nvPr/>
        </p:nvSpPr>
        <p:spPr>
          <a:xfrm>
            <a:off x="1143000" y="1500120"/>
            <a:ext cx="742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población de nuestra ciudad es 157900 ó también 1580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00: cuatro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… 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9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0000"/>
                </a:solidFill>
                <a:latin typeface="Arial"/>
              </a:rPr>
              <a:t>157900±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l número de votos registrados hasta el 1 de Enero fueron de 1578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57872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: 6 cifras sign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glas simples para las cifras significativas</a:t>
            </a:r>
            <a:br>
              <a:rPr sz="3200"/>
            </a:b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Redonde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929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572314"/>
                </a:solidFill>
                <a:latin typeface="Gill Sans MT"/>
              </a:rPr>
              <a:t>Cantidades relevantes en Fís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2867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istanc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Otras: fuerza, temperatura, resistencia, corriente, voltaje, energía, pres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kilógramo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07" name="Picture 4" descr="307px-CGKilogram"/>
          <p:cNvPicPr/>
          <p:nvPr/>
        </p:nvPicPr>
        <p:blipFill>
          <a:blip r:embed="rId1"/>
          <a:stretch/>
        </p:blipFill>
        <p:spPr>
          <a:xfrm>
            <a:off x="357120" y="1357200"/>
            <a:ext cx="3900600" cy="2857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4429080" y="24289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K (Prototipo Internacional del kilógramo, por sus siglas en 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ura=diámetro=39.17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eación de Pt e Ir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2"/>
          <a:stretch/>
        </p:blipFill>
        <p:spPr>
          <a:xfrm>
            <a:off x="1214280" y="4500720"/>
            <a:ext cx="6969240" cy="18572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1928880" y="6488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numérica representa el logaritmo del número mos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6 CuadroTexto"/>
          <p:cNvSpPr/>
          <p:nvPr/>
        </p:nvSpPr>
        <p:spPr>
          <a:xfrm>
            <a:off x="1518840" y="564372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357200" y="6143760"/>
            <a:ext cx="32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mas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9 Conector recto"/>
          <p:cNvSpPr/>
          <p:nvPr/>
        </p:nvSpPr>
        <p:spPr>
          <a:xfrm>
            <a:off x="1785960" y="6084720"/>
            <a:ext cx="250020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15080" y="6026040"/>
            <a:ext cx="179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ilog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00080" y="1447560"/>
            <a:ext cx="79344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longitud del trayecto recorrido en el vacío por la luz durante un tiempo de 1/299 792 458 de segundo (unidad de tiemp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 distancia la recorre la luz e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,34 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3571920"/>
            <a:ext cx="7394760" cy="2428920"/>
          </a:xfrm>
          <a:prstGeom prst="rect">
            <a:avLst/>
          </a:prstGeom>
          <a:ln w="0">
            <a:noFill/>
          </a:ln>
        </p:spPr>
      </p:pic>
      <p:sp>
        <p:nvSpPr>
          <p:cNvPr id="518" name="4 CuadroTexto"/>
          <p:cNvSpPr/>
          <p:nvPr/>
        </p:nvSpPr>
        <p:spPr>
          <a:xfrm>
            <a:off x="1304640" y="5214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071720" y="576108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6 Conector recto"/>
          <p:cNvSpPr/>
          <p:nvPr/>
        </p:nvSpPr>
        <p:spPr>
          <a:xfrm>
            <a:off x="2395440" y="5675400"/>
            <a:ext cx="128592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7429680" y="56437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stancia</a:t>
            </a:r>
            <a:br>
              <a:rPr sz="4300"/>
            </a:br>
            <a:r>
              <a:rPr b="0" lang="es-ES" sz="2000" spc="-1" strike="noStrike">
                <a:solidFill>
                  <a:srgbClr val="572314"/>
                </a:solidFill>
                <a:latin typeface="Gill Sans MT"/>
              </a:rPr>
              <a:t>Unidad SI = metro (μέτρον )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microelectrónica la unidad más usada es el </a:t>
            </a:r>
            <a:r>
              <a:rPr b="0" lang="es-ES" sz="2800" spc="-1" strike="noStrike">
                <a:solidFill>
                  <a:srgbClr val="ff3300"/>
                </a:solidFill>
                <a:latin typeface="Gill Sans MT"/>
              </a:rPr>
              <a:t>nanómet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nanómetro = 1 nm = 1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9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átomo de hidrógen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~ 0.1 nm = 1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Å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jemplos: Transist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Core2 820 millones de transistores, Distancia característica 45n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iPod: medio de almacenamiento memorias flash, 65-130 n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4" name="Picture 4" descr="250px-Transistor-photo"/>
          <p:cNvPicPr/>
          <p:nvPr/>
        </p:nvPicPr>
        <p:blipFill>
          <a:blip r:embed="rId1"/>
          <a:stretch/>
        </p:blipFill>
        <p:spPr>
          <a:xfrm>
            <a:off x="6516720" y="5373720"/>
            <a:ext cx="2381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Tie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572314"/>
                </a:solidFill>
                <a:latin typeface="Gill Sans MT"/>
              </a:rPr>
              <a:t>Unidad SI = segun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18 CuadroTexto"/>
          <p:cNvSpPr/>
          <p:nvPr/>
        </p:nvSpPr>
        <p:spPr>
          <a:xfrm>
            <a:off x="1143000" y="128592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segundo es la duración de 9.192.631.770 periodo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ransición entre dos niveles hiperfinos del estado de energía mínimo del átomo de Cesio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: GPS, redes de telefonía, calibracio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85920" y="3143160"/>
            <a:ext cx="7472160" cy="2500560"/>
          </a:xfrm>
          <a:prstGeom prst="rect">
            <a:avLst/>
          </a:prstGeom>
          <a:ln w="0">
            <a:noFill/>
          </a:ln>
        </p:spPr>
      </p:pic>
      <p:sp>
        <p:nvSpPr>
          <p:cNvPr id="528" name="4 CuadroTexto"/>
          <p:cNvSpPr/>
          <p:nvPr/>
        </p:nvSpPr>
        <p:spPr>
          <a:xfrm>
            <a:off x="1304640" y="50007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895480" y="5559480"/>
            <a:ext cx="385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distanci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7 Conector recto"/>
          <p:cNvSpPr/>
          <p:nvPr/>
        </p:nvSpPr>
        <p:spPr>
          <a:xfrm>
            <a:off x="3286080" y="5454720"/>
            <a:ext cx="300060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7358040" y="53578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Tempera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medición de la intensidad térmica unidad es kelvin, 0 k = -273.15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5286240" cy="1513080"/>
          </a:xfrm>
          <a:prstGeom prst="rect">
            <a:avLst/>
          </a:prstGeom>
          <a:ln w="0">
            <a:noFill/>
          </a:ln>
        </p:spPr>
      </p:pic>
      <p:sp>
        <p:nvSpPr>
          <p:cNvPr id="534" name="4 CuadroTexto"/>
          <p:cNvSpPr/>
          <p:nvPr/>
        </p:nvSpPr>
        <p:spPr>
          <a:xfrm>
            <a:off x="2090520" y="2928960"/>
            <a:ext cx="6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714760" y="3357720"/>
            <a:ext cx="38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temperaturas en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Conector recto"/>
          <p:cNvSpPr/>
          <p:nvPr/>
        </p:nvSpPr>
        <p:spPr>
          <a:xfrm>
            <a:off x="3429000" y="3286080"/>
            <a:ext cx="1368360" cy="1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500880" y="321480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500040" y="385776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Gill Sans MT"/>
              </a:rPr>
              <a:t>Pres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fuerza ejercida por unidad de área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idad es 1 Pascale = 1 N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ill Sans MT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2"/>
          <a:stretch/>
        </p:blipFill>
        <p:spPr>
          <a:xfrm>
            <a:off x="4200480" y="4381560"/>
            <a:ext cx="4943520" cy="2476440"/>
          </a:xfrm>
          <a:prstGeom prst="rect">
            <a:avLst/>
          </a:prstGeom>
          <a:ln w="0">
            <a:noFill/>
          </a:ln>
        </p:spPr>
      </p:pic>
      <p:sp>
        <p:nvSpPr>
          <p:cNvPr id="541" name="19 Conector recto"/>
          <p:cNvSpPr/>
          <p:nvPr/>
        </p:nvSpPr>
        <p:spPr>
          <a:xfrm>
            <a:off x="4883040" y="6067440"/>
            <a:ext cx="2627280" cy="144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240160" y="6118200"/>
            <a:ext cx="235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go de 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000080" y="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tras cantida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2714760" y="2357280"/>
            <a:ext cx="3929040" cy="12146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0d0d0d"/>
                </a:solidFill>
                <a:latin typeface="Gill Sans MT"/>
              </a:rPr>
              <a:t>Fuerzas</a:t>
            </a:r>
            <a:br>
              <a:rPr sz="4300"/>
            </a:b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Unidad SI =kg*m/s</a:t>
            </a:r>
            <a:r>
              <a:rPr b="0" lang="es-ES" sz="2000" spc="-1" strike="noStrike" baseline="30000">
                <a:solidFill>
                  <a:srgbClr val="0d0d0d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d0d0d"/>
                </a:solidFill>
                <a:latin typeface="Gill Sans MT"/>
              </a:rPr>
              <a:t>=Newton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Uso de las un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214200" y="928800"/>
            <a:ext cx="8929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ntender las relaciones entre varias unidades de medida y de ahí su significad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eleración m/s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=(m/s)/s =variación de la velocidad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yudan a evaluar si una ecuación está bien definida:  no se suman papas con peras… A= b+c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Fijarse que muchas cantidades no tienen dimensiones: variable x en log(x), e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sin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0 CuadroTexto"/>
          <p:cNvSpPr/>
          <p:nvPr/>
        </p:nvSpPr>
        <p:spPr>
          <a:xfrm>
            <a:off x="1071720" y="1357200"/>
            <a:ext cx="403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Valor: 134…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7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13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Incertidumbre ±0.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5219640" y="92880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379" name="4 Rectángulo"/>
          <p:cNvSpPr/>
          <p:nvPr/>
        </p:nvSpPr>
        <p:spPr>
          <a:xfrm>
            <a:off x="687600" y="52149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7 Conector recto de flecha"/>
          <p:cNvCxnSpPr/>
          <p:nvPr/>
        </p:nvCxnSpPr>
        <p:spPr>
          <a:xfrm flipH="1">
            <a:off x="2142360" y="2676600"/>
            <a:ext cx="71532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1" name="10 Conector recto de flecha"/>
          <p:cNvCxnSpPr/>
          <p:nvPr/>
        </p:nvCxnSpPr>
        <p:spPr>
          <a:xfrm>
            <a:off x="3357720" y="2676600"/>
            <a:ext cx="71496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2" name="12 Flecha abajo"/>
          <p:cNvSpPr/>
          <p:nvPr/>
        </p:nvSpPr>
        <p:spPr>
          <a:xfrm>
            <a:off x="2928960" y="346248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1 CuadroTexto"/>
          <p:cNvSpPr/>
          <p:nvPr/>
        </p:nvSpPr>
        <p:spPr>
          <a:xfrm>
            <a:off x="1071720" y="214200"/>
            <a:ext cx="80722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Hoy hemos discu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r conlleva siempre una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sis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aleatorios: tratamiento estadístico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medio, varianza y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esviación estad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tribución gaus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re más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mi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enor es la </a:t>
            </a: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dispers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mis datos </a:t>
            </a:r>
            <a:r>
              <a:rPr b="1" lang="es-MX" sz="4400" spc="-1" strike="noStrike">
                <a:solidFill>
                  <a:srgbClr val="ff0000"/>
                </a:solidFill>
                <a:latin typeface="Arial"/>
              </a:rPr>
              <a:t>↔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ifras significativas y cuantificación de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unidades utilizadas e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2 Flecha curvada hacia la derecha"/>
          <p:cNvSpPr/>
          <p:nvPr/>
        </p:nvSpPr>
        <p:spPr>
          <a:xfrm>
            <a:off x="0" y="2924280"/>
            <a:ext cx="1071720" cy="29289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631800 h 2928960"/>
              <a:gd name="textAreaBottom" fmla="*/ 216324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9" stAng="-5400000" swAng="-5400000"/>
                <a:lnTo>
                  <a:pt x="0" y="11294"/>
                </a:lnTo>
                <a:arcTo wR="21600" hR="9319" stAng="10800000" swAng="-3545976"/>
                <a:lnTo>
                  <a:pt x="16200" y="21304"/>
                </a:lnTo>
                <a:lnTo>
                  <a:pt x="21600" y="19625"/>
                </a:lnTo>
                <a:lnTo>
                  <a:pt x="16200" y="17353"/>
                </a:lnTo>
                <a:lnTo>
                  <a:pt x="16200" y="18341"/>
                </a:lnTo>
                <a:arcTo wR="21600" hR="9319" stAng="7254024" swAng="3388032"/>
                <a:lnTo>
                  <a:pt x="122" y="10306"/>
                </a:lnTo>
                <a:arcTo wR="21600" hR="9319" stAng="-10642056" swAng="5242056"/>
                <a:close/>
              </a:path>
              <a:path fill="darkenLess" w="21600" h="21600">
                <a:moveTo>
                  <a:pt x="21600" y="0"/>
                </a:moveTo>
                <a:arcTo wR="21600" hR="9319" stAng="-5400000" swAng="-5400000"/>
                <a:lnTo>
                  <a:pt x="0" y="9319"/>
                </a:lnTo>
                <a:arcTo wR="21600" hR="9319" stAng="10800000" swAng="-157944"/>
                <a:lnTo>
                  <a:pt x="122" y="10306"/>
                </a:lnTo>
                <a:arcTo wR="21600" hR="9319" stAng="-10642056" swAng="5242056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357200"/>
            <a:ext cx="8229600" cy="33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Unidad 3 Sistemas extendidos</a:t>
            </a:r>
            <a:br>
              <a:rPr sz="4000"/>
            </a:b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Definición de centro de masa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8 CuadroTexto"/>
          <p:cNvSpPr/>
          <p:nvPr/>
        </p:nvSpPr>
        <p:spPr>
          <a:xfrm>
            <a:off x="1143000" y="107172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on los sistemas extendi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sa y centro de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perimento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17280" y="0"/>
            <a:ext cx="38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572314"/>
                </a:solidFill>
                <a:latin typeface="Gill Sans MT"/>
              </a:rPr>
              <a:t>Conten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¿Qué son los sistemas extendido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53" name="Picture 6" descr="car"/>
          <p:cNvPicPr/>
          <p:nvPr/>
        </p:nvPicPr>
        <p:blipFill>
          <a:blip r:embed="rId1"/>
          <a:stretch/>
        </p:blipFill>
        <p:spPr>
          <a:xfrm>
            <a:off x="1258920" y="2492280"/>
            <a:ext cx="7416720" cy="13636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97164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artículas “no interactuando” entre ellas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6589080" y="465300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1908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0"/>
          <p:cNvSpPr/>
          <p:nvPr/>
        </p:nvSpPr>
        <p:spPr>
          <a:xfrm>
            <a:off x="2195640" y="306864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1"/>
          <p:cNvSpPr/>
          <p:nvPr/>
        </p:nvSpPr>
        <p:spPr>
          <a:xfrm>
            <a:off x="226836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"/>
          <p:cNvSpPr/>
          <p:nvPr/>
        </p:nvSpPr>
        <p:spPr>
          <a:xfrm>
            <a:off x="161928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2700360" y="2924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4"/>
          <p:cNvSpPr/>
          <p:nvPr/>
        </p:nvSpPr>
        <p:spPr>
          <a:xfrm>
            <a:off x="2987640" y="3429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3132000" y="299736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6"/>
          <p:cNvSpPr/>
          <p:nvPr/>
        </p:nvSpPr>
        <p:spPr>
          <a:xfrm>
            <a:off x="3348000" y="3357720"/>
            <a:ext cx="7308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7"/>
          <p:cNvSpPr/>
          <p:nvPr/>
        </p:nvSpPr>
        <p:spPr>
          <a:xfrm>
            <a:off x="2050920" y="3141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2340000" y="3284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9"/>
          <p:cNvSpPr/>
          <p:nvPr/>
        </p:nvSpPr>
        <p:spPr>
          <a:xfrm>
            <a:off x="2556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0"/>
          <p:cNvSpPr/>
          <p:nvPr/>
        </p:nvSpPr>
        <p:spPr>
          <a:xfrm>
            <a:off x="2916360" y="32130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1"/>
          <p:cNvSpPr/>
          <p:nvPr/>
        </p:nvSpPr>
        <p:spPr>
          <a:xfrm>
            <a:off x="3132000" y="350028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2"/>
          <p:cNvSpPr/>
          <p:nvPr/>
        </p:nvSpPr>
        <p:spPr>
          <a:xfrm>
            <a:off x="2556000" y="285264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asa y centro de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4"/>
              <p:cNvSpPr txBox="1"/>
              <p:nvPr/>
            </p:nvSpPr>
            <p:spPr>
              <a:xfrm>
                <a:off x="1143000" y="1484280"/>
                <a:ext cx="383220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4932360" y="3860640"/>
                <a:ext cx="244944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3" name="AutoShape 8"/>
          <p:cNvSpPr/>
          <p:nvPr/>
        </p:nvSpPr>
        <p:spPr>
          <a:xfrm>
            <a:off x="3635280" y="3284640"/>
            <a:ext cx="1152720" cy="2881080"/>
          </a:xfrm>
          <a:custGeom>
            <a:avLst/>
            <a:gdLst>
              <a:gd name="textAreaLeft" fmla="*/ 0 w 1152720"/>
              <a:gd name="textAreaRight" fmla="*/ 416160 w 11527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5 Forma libre"/>
          <p:cNvSpPr/>
          <p:nvPr/>
        </p:nvSpPr>
        <p:spPr>
          <a:xfrm>
            <a:off x="6715080" y="1214280"/>
            <a:ext cx="2000160" cy="1857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6 Rectángulo"/>
          <p:cNvGrpSpPr/>
          <p:nvPr/>
        </p:nvGrpSpPr>
        <p:grpSpPr>
          <a:xfrm>
            <a:off x="7400880" y="1682640"/>
            <a:ext cx="195480" cy="268560"/>
            <a:chOff x="7400880" y="1682640"/>
            <a:chExt cx="195480" cy="268560"/>
          </a:xfrm>
        </p:grpSpPr>
        <p:pic>
          <p:nvPicPr>
            <p:cNvPr id="576" name="6 Rectángulo" descr=""/>
            <p:cNvPicPr/>
            <p:nvPr/>
          </p:nvPicPr>
          <p:blipFill>
            <a:blip r:embed="rId1"/>
            <a:stretch/>
          </p:blipFill>
          <p:spPr>
            <a:xfrm>
              <a:off x="7400880" y="1682640"/>
              <a:ext cx="19548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29680" y="171468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7 CuadroTexto"/>
          <p:cNvSpPr/>
          <p:nvPr/>
        </p:nvSpPr>
        <p:spPr>
          <a:xfrm>
            <a:off x="7301520" y="135720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13 Conector recto de flecha"/>
          <p:cNvCxnSpPr/>
          <p:nvPr/>
        </p:nvCxnSpPr>
        <p:spPr>
          <a:xfrm flipV="1">
            <a:off x="6500880" y="1642320"/>
            <a:ext cx="216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0" name="15 Conector recto de flecha"/>
          <p:cNvCxnSpPr/>
          <p:nvPr/>
        </p:nvCxnSpPr>
        <p:spPr>
          <a:xfrm>
            <a:off x="6500880" y="3141720"/>
            <a:ext cx="16437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81" name="17 Conector recto de flecha"/>
          <p:cNvCxnSpPr/>
          <p:nvPr/>
        </p:nvCxnSpPr>
        <p:spPr>
          <a:xfrm flipH="1">
            <a:off x="6000120" y="3141360"/>
            <a:ext cx="500760" cy="501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82" name="Object 9"/>
              <p:cNvSpPr txBox="1"/>
              <p:nvPr/>
            </p:nvSpPr>
            <p:spPr>
              <a:xfrm>
                <a:off x="6103800" y="3355920"/>
                <a:ext cx="397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0"/>
              <p:cNvSpPr txBox="1"/>
              <p:nvPr/>
            </p:nvSpPr>
            <p:spPr>
              <a:xfrm>
                <a:off x="6072120" y="1662120"/>
                <a:ext cx="3970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1"/>
              <p:cNvSpPr txBox="1"/>
              <p:nvPr/>
            </p:nvSpPr>
            <p:spPr>
              <a:xfrm>
                <a:off x="8053560" y="289080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85" name="23 Conector recto de flecha"/>
          <p:cNvCxnSpPr/>
          <p:nvPr/>
        </p:nvCxnSpPr>
        <p:spPr>
          <a:xfrm flipV="1">
            <a:off x="6500880" y="192816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24 Conector recto de flecha"/>
          <p:cNvCxnSpPr/>
          <p:nvPr/>
        </p:nvCxnSpPr>
        <p:spPr>
          <a:xfrm flipV="1">
            <a:off x="6500520" y="214272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26 Y"/>
          <p:cNvSpPr/>
          <p:nvPr/>
        </p:nvSpPr>
        <p:spPr>
          <a:xfrm>
            <a:off x="7858080" y="2000160"/>
            <a:ext cx="214200" cy="214560"/>
          </a:xfrm>
          <a:prstGeom prst="flowChartSummingJunction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uadroTexto"/>
          <p:cNvSpPr/>
          <p:nvPr/>
        </p:nvSpPr>
        <p:spPr>
          <a:xfrm>
            <a:off x="8058960" y="185724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2"/>
              <p:cNvSpPr txBox="1"/>
              <p:nvPr/>
            </p:nvSpPr>
            <p:spPr>
              <a:xfrm>
                <a:off x="6858000" y="1714680"/>
                <a:ext cx="396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3"/>
              <p:cNvSpPr txBox="1"/>
              <p:nvPr/>
            </p:nvSpPr>
            <p:spPr>
              <a:xfrm>
                <a:off x="7429680" y="2308320"/>
                <a:ext cx="753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35 CuadroTexto"/>
          <p:cNvSpPr/>
          <p:nvPr/>
        </p:nvSpPr>
        <p:spPr>
          <a:xfrm>
            <a:off x="4572000" y="528624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Posición promedio ponderada de la mas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 de cálcul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se ubicará en el eje entre las dos partícu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0 y 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 d y 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2m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=d/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M se encuentra siempre más cerca de la partícula más m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CM de un objeto simétrico se ubica  sobre el eje de simetría y sobre cualquier plano de simetr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Picture 2" descr="mhtml:file://C:\Users\jlisoni\Documents\Cursos\clases\semana%203\Dinámica%20de%20un%20sistema%20de%20partículas.mht!http://www.sc.ehu.es/sbweb/fisica/dinamica/con_mlineal/dinamica/choques2.gif"/>
          <p:cNvPicPr/>
          <p:nvPr/>
        </p:nvPicPr>
        <p:blipFill>
          <a:blip r:embed="rId1"/>
          <a:stretch/>
        </p:blipFill>
        <p:spPr>
          <a:xfrm>
            <a:off x="357120" y="2286000"/>
            <a:ext cx="4032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jemplo: explosión de un proyecti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1640" y="9997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ire no opone resitenc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Fuerza externa=grave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tes de la explosión el proyectil tiene una trayectoria paraból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l explo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Explosión=fuerzas intern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No afectan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ill Sans MT"/>
              </a:rPr>
              <a:t>CM continúa la trayectoria paraból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6 Forma libre"/>
          <p:cNvSpPr/>
          <p:nvPr/>
        </p:nvSpPr>
        <p:spPr>
          <a:xfrm>
            <a:off x="214200" y="2286000"/>
            <a:ext cx="3272040" cy="1514520"/>
          </a:xfrm>
          <a:prstGeom prst="pie">
            <a:avLst/>
          </a:prstGeom>
          <a:noFill/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8 Conector recto"/>
          <p:cNvSpPr/>
          <p:nvPr/>
        </p:nvSpPr>
        <p:spPr>
          <a:xfrm>
            <a:off x="3500280" y="3000240"/>
            <a:ext cx="85752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 Explosión 1"/>
          <p:cNvSpPr/>
          <p:nvPr/>
        </p:nvSpPr>
        <p:spPr>
          <a:xfrm>
            <a:off x="3000240" y="2500200"/>
            <a:ext cx="928800" cy="1071720"/>
          </a:xfrm>
          <a:prstGeom prst="irregularSeal1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1 Flecha abajo"/>
          <p:cNvSpPr/>
          <p:nvPr/>
        </p:nvSpPr>
        <p:spPr>
          <a:xfrm>
            <a:off x="6500880" y="39290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2 Flecha abajo"/>
          <p:cNvSpPr/>
          <p:nvPr/>
        </p:nvSpPr>
        <p:spPr>
          <a:xfrm>
            <a:off x="6500880" y="4714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13 CuadroTexto"/>
          <p:cNvSpPr/>
          <p:nvPr/>
        </p:nvSpPr>
        <p:spPr>
          <a:xfrm>
            <a:off x="4076280" y="3214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erimento 2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4 de Agost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771800" cy="2590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2"/>
          <a:stretch/>
        </p:blipFill>
        <p:spPr>
          <a:xfrm>
            <a:off x="5429160" y="500040"/>
            <a:ext cx="3419640" cy="3371760"/>
          </a:xfrm>
          <a:prstGeom prst="rect">
            <a:avLst/>
          </a:prstGeom>
          <a:ln w="0">
            <a:noFill/>
          </a:ln>
        </p:spPr>
      </p:pic>
      <p:sp>
        <p:nvSpPr>
          <p:cNvPr id="606" name="3 Marcador de texto"/>
          <p:cNvSpPr/>
          <p:nvPr/>
        </p:nvSpPr>
        <p:spPr>
          <a:xfrm>
            <a:off x="1285920" y="4214880"/>
            <a:ext cx="735804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nsor de fuerza: trans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arjeta de adquisi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alibración sensor: Voltaje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nálisis estadístico de un conjunto de datos: tensión de corte de un h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entarios al laboratorio anter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2 CuadroTexto"/>
          <p:cNvSpPr/>
          <p:nvPr/>
        </p:nvSpPr>
        <p:spPr>
          <a:xfrm>
            <a:off x="214200" y="67140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áf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clu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significa repetir los resultos obte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la Real Academia Española de la Lengua (www.rae.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in y terminación de al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terminar y resolver sobre lo que se ha tra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Inferir, deducir una verdad de otras que se admiten, demuestran o presup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ncer a alguien con la razón, de modo que no tenga qué responder ni re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jemplos tomados del infor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. 1 si, aunque es una distancia considerable para un ángulo pequeño, la cual en distancias aún mayores sería aún más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obtuvimos por conclusión que el ángulo es un factor determinante a la hora de lanzar un proyectil puesto que las componentes horizontales y verticales varían considerabl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experiencia 1 pudimos observar que al modificar el ángulo de lanzamiento cambia la trayectoria y el punto de impacto ya que cambian las (componentes) velocidades y la altur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pendencia era esperable, ya que a mayor peso, mayor es la fuerza ejercida por la gravedad la que es opuesta a la fuerza que realiza la cuerda, por lo que mayor es el tiempo en alcanzar el equilibrio de las fuer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Gill Sans MT"/>
              </a:rPr>
              <a:t>Evalu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56840" y="1600200"/>
            <a:ext cx="7358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30 de Agosto a las 16:15 hrs: ejercici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Será una tarea para la ca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Unidad 1, Unidad 2 y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scritos: 9/10, 6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Controles experimentales (en sesión de laboratorio): 21/09, 23/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Ejercicios (durante clase auxiliar): </a:t>
            </a:r>
            <a:r>
              <a:rPr b="0" i="1" lang="es-ES" sz="3200" spc="-1" strike="noStrike">
                <a:solidFill>
                  <a:srgbClr val="ff0000"/>
                </a:solidFill>
                <a:latin typeface="Gill Sans MT"/>
              </a:rPr>
              <a:t>30/08</a:t>
            </a: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, 27/09, 18/10, 15/11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l significado de med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 Rectángulo"/>
          <p:cNvSpPr/>
          <p:nvPr/>
        </p:nvSpPr>
        <p:spPr>
          <a:xfrm>
            <a:off x="360720" y="600084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ntidad medida = valor reportado + incertid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8 Elipse"/>
          <p:cNvSpPr/>
          <p:nvPr/>
        </p:nvSpPr>
        <p:spPr>
          <a:xfrm>
            <a:off x="6234120" y="5810400"/>
            <a:ext cx="2297160" cy="904680"/>
          </a:xfrm>
          <a:prstGeom prst="ellipse">
            <a:avLst/>
          </a:prstGeom>
          <a:solidFill>
            <a:srgbClr val="3891a7">
              <a:alpha val="1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643720" y="2428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"/>
          <p:cNvPicPr/>
          <p:nvPr/>
        </p:nvPicPr>
        <p:blipFill>
          <a:blip r:embed="rId3"/>
          <a:stretch/>
        </p:blipFill>
        <p:spPr>
          <a:xfrm>
            <a:off x="7143840" y="285840"/>
            <a:ext cx="1000080" cy="5263920"/>
          </a:xfrm>
          <a:prstGeom prst="rect">
            <a:avLst/>
          </a:prstGeom>
          <a:ln w="0">
            <a:noFill/>
          </a:ln>
        </p:spPr>
      </p:pic>
      <p:sp>
        <p:nvSpPr>
          <p:cNvPr id="389" name="13 Flecha izquierda y derecha"/>
          <p:cNvSpPr/>
          <p:nvPr/>
        </p:nvSpPr>
        <p:spPr>
          <a:xfrm>
            <a:off x="3571920" y="2928960"/>
            <a:ext cx="1785960" cy="121428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¿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4 CuadroTexto"/>
          <p:cNvSpPr/>
          <p:nvPr/>
        </p:nvSpPr>
        <p:spPr>
          <a:xfrm>
            <a:off x="23400" y="500076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tura del termómetro 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mucho menos de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l valor med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 CuadroTexto"/>
          <p:cNvSpPr/>
          <p:nvPr/>
        </p:nvSpPr>
        <p:spPr>
          <a:xfrm>
            <a:off x="2946600" y="13572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sist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4 CuadroTexto"/>
          <p:cNvSpPr/>
          <p:nvPr/>
        </p:nvSpPr>
        <p:spPr>
          <a:xfrm>
            <a:off x="3300480" y="55008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Error ale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5 Llamada de flecha izquierda y derecha"/>
          <p:cNvGrpSpPr/>
          <p:nvPr/>
        </p:nvGrpSpPr>
        <p:grpSpPr>
          <a:xfrm>
            <a:off x="3852720" y="1994040"/>
            <a:ext cx="1652760" cy="3443040"/>
            <a:chOff x="3852720" y="1994040"/>
            <a:chExt cx="1652760" cy="3443040"/>
          </a:xfrm>
        </p:grpSpPr>
        <p:pic>
          <p:nvPicPr>
            <p:cNvPr id="395" name="5 Llamada de flecha izquierda y derecha" descr=""/>
            <p:cNvPicPr/>
            <p:nvPr/>
          </p:nvPicPr>
          <p:blipFill>
            <a:blip r:embed="rId1"/>
            <a:stretch/>
          </p:blipFill>
          <p:spPr>
            <a:xfrm>
              <a:off x="3852720" y="1994040"/>
              <a:ext cx="1652760" cy="34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 rot="16200000">
              <a:off x="3855240" y="2891160"/>
              <a:ext cx="164916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10 CuadroTexto"/>
          <p:cNvSpPr/>
          <p:nvPr/>
        </p:nvSpPr>
        <p:spPr>
          <a:xfrm>
            <a:off x="1738440" y="300024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rrores inherentes y que van asociados a cualquier cantidad que se m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siste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uadroTexto"/>
          <p:cNvSpPr/>
          <p:nvPr/>
        </p:nvSpPr>
        <p:spPr>
          <a:xfrm>
            <a:off x="1143000" y="1357200"/>
            <a:ext cx="7705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sistemátic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aquellos que se producen siempre de igual modo en una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 típico: el instrumento que se usó para medir tiene algú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balanza digital está descalib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Puse mal la hora d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La persona que mide siempre comete el mismo error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rror de paral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3 CuadroTexto"/>
          <p:cNvSpPr/>
          <p:nvPr/>
        </p:nvSpPr>
        <p:spPr>
          <a:xfrm>
            <a:off x="1143000" y="5286240"/>
            <a:ext cx="7715160" cy="137376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se hacen muchas mediciones este error siempre va de alguna manera propagarse en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6715080" y="2928960"/>
            <a:ext cx="2190960" cy="1238400"/>
          </a:xfrm>
          <a:prstGeom prst="rect">
            <a:avLst/>
          </a:prstGeom>
          <a:ln w="0">
            <a:noFill/>
          </a:ln>
        </p:spPr>
      </p:pic>
      <p:pic>
        <p:nvPicPr>
          <p:cNvPr id="402" name="5 CuadroTexto" descr=""/>
          <p:cNvPicPr/>
          <p:nvPr/>
        </p:nvPicPr>
        <p:blipFill>
          <a:blip r:embed="rId2"/>
          <a:stretch/>
        </p:blipFill>
        <p:spPr>
          <a:xfrm>
            <a:off x="152280" y="420840"/>
            <a:ext cx="94464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Título"/>
          <p:cNvSpPr/>
          <p:nvPr/>
        </p:nvSpPr>
        <p:spPr>
          <a:xfrm>
            <a:off x="1071720" y="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Gill Sans MT"/>
              </a:rPr>
              <a:t>Errores en valores me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Gill Sans MT"/>
              </a:rPr>
              <a:t>Error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0 CuadroTexto"/>
          <p:cNvSpPr/>
          <p:nvPr/>
        </p:nvSpPr>
        <p:spPr>
          <a:xfrm>
            <a:off x="1152360" y="1274760"/>
            <a:ext cx="77058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rrores aleatorios</a:t>
            </a: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: son eventos fortuitos, inevitables y de difíci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f271c"/>
                </a:solidFill>
                <a:latin typeface="Arial"/>
              </a:rPr>
              <a:t>Entre más precisión tiene mi instrumento más probable es que dos mediciones sucesivas no conlleven al mism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sistema no midió porque hubo caída de 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Vibraciones: medidor de masa de microg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Arial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CuadroTexto"/>
          <p:cNvSpPr/>
          <p:nvPr/>
        </p:nvSpPr>
        <p:spPr>
          <a:xfrm>
            <a:off x="1071720" y="5429160"/>
            <a:ext cx="7786440" cy="1068840"/>
          </a:xfrm>
          <a:prstGeom prst="rect">
            <a:avLst/>
          </a:prstGeom>
          <a:solidFill>
            <a:srgbClr val="84a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 se hacen muchas mediciones los errores aleatorios se cance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4 CuadroTexto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950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CuadroTexto"/>
          <p:cNvSpPr/>
          <p:nvPr/>
        </p:nvSpPr>
        <p:spPr>
          <a:xfrm>
            <a:off x="1000080" y="0"/>
            <a:ext cx="8143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72314"/>
                </a:solidFill>
                <a:latin typeface="Arial"/>
              </a:rPr>
              <a:t>Más de una resp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572314"/>
                </a:solidFill>
                <a:latin typeface="Arial"/>
              </a:rPr>
              <a:t>Dispersión de valores me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4 CuadroTexto"/>
          <p:cNvSpPr/>
          <p:nvPr/>
        </p:nvSpPr>
        <p:spPr>
          <a:xfrm>
            <a:off x="1143000" y="142884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el error aleatorio es tan pequeño que no lo detectamos entonces no nos preocupa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r mi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do cocinamos: pizca, 1 taz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ciones científicas: buscamos tener “confiabilidad” en nuestr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ción de una cantidad depende de muchas otros valores que a su vez también tiene u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quiero saber cuando se disuelven 10 g de sal en 100 ml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antidad a determinar es una 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: saber cuanto es la vida media de una ampo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5 Flecha abajo"/>
          <p:cNvSpPr/>
          <p:nvPr/>
        </p:nvSpPr>
        <p:spPr>
          <a:xfrm>
            <a:off x="4143240" y="378612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6 CuadroTexto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9446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8 CuadroText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Tratamiento estadístico de resultados experi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CuadroTexto"/>
          <p:cNvSpPr/>
          <p:nvPr/>
        </p:nvSpPr>
        <p:spPr>
          <a:xfrm>
            <a:off x="928800" y="114300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element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Población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no se refiere a personas necesariamente, pero al universo completo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uestras similares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e estoy analiz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Median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s el número que se encuentra en medio de una lista de nú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ang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diferencia entre el máximo y mínimo valor del conjunto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10-08-23T21:22:15Z</dcterms:modified>
  <cp:revision>238</cp:revision>
  <dc:subject/>
  <dc:title>Diapositiva 1</dc:title>
</cp:coreProperties>
</file>