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5.wmf" ContentType="image/x-wmf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17.wmf" ContentType="image/x-wmf"/>
  <Override PartName="/ppt/media/image9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2BEA-6EE2-4D18-AF4E-7859CE3FCC0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719B-EF7F-4814-91A0-91138A9DCEE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EEC6-122D-4E94-9AC9-C5409BA24ED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346C-E2E4-4B99-AB8E-8C59F815D36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EF84-BE47-41A6-88EB-B487FAB394D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E78C-FB6E-46AC-ACFC-F502392F832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B372-AF93-4CCD-92C8-3AC645DF61C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4A5A-8EBE-4611-A65A-3454B468C2D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2AD9-CA71-44BD-A2FC-BAA190C12AC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6B85-3B37-4CA9-BD14-85536372B49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8295-EF90-457B-921E-44924F2B403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A800-624D-412C-94FB-79A4419D103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0005-85ED-4E07-ACF7-94E3DB27316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59CE-6FE9-4112-9E2B-F80F854B7EF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E7A9-E2EE-4C0D-9FA2-B8EA02AF6FA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DDD1-F60B-4D30-89AE-6F408DDF5D6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E761-E346-4B49-8EDC-08AD0CF9C67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D7C2-EADA-4334-84C7-4D9810B5A50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C0E8-F8B3-4D30-8AE6-C18A4A99EBF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B3F3-CC3B-404B-90BF-938863393A6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26BB-9AE3-48FA-835E-3BE23192A7C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D9AC-D083-4F35-8CA3-64B68648490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4888-722C-4050-9242-E7A45E11A58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49C8-74AA-415A-BF9D-2CE2615824E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F00D-FA3E-43F1-BA4F-D1595B7FEB4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FA67-8537-46A4-80F3-F8BD4641CB4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6874-BEB9-4CC5-ABE8-CBA13F8AAC2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E113-7348-46B4-A1D5-62D31315231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BC07-4F0C-41BD-BBE6-8D90582C1AD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C7D2-4019-480A-8045-57A476AE790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9EB2-992B-452D-90A9-77B5715B481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8CE6-2B52-4EF2-BA63-0419DAC18BB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066F-87F3-4703-AE8B-FAD8C197816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6710-7D8B-4D98-B795-B662AD6AC07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FE8B-A25E-40DD-9659-236D5C1093D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73AD-6865-4D29-9F0E-A75F4379154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6546-E23B-4C8C-9815-B4E551705A2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E730-53E0-45A1-A0BD-0658D7003F1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715-C220-434B-A5C0-8D0F46F4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00D-77B6-4BE4-B629-16D025E5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02F-3409-4FA0-924C-E0E04FFA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FEF-E2CB-4B82-BCD5-C1357C71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44BD-A1F9-4637-ABC6-7309088B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8305-711B-4EDA-80C3-27346B24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5F05-94F1-44BA-81A8-96E1A526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AB22-3B9F-4416-8E99-CD348FDF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CAD2-41D3-4CA5-BDF1-81F5FC6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9468-A439-45D3-BE88-85C1FF15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CDFB-21D2-456C-8CB6-E828FAC8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94B-1AD5-4A03-A94F-336E8E51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8857-B534-4C1F-86DB-3A7D1BCA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399B-8F4E-4962-A934-6C4D7CD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825F-7BD8-4723-A5D5-24B1AF91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B2D9-C7BC-4D1D-AD11-F57BAFF6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D077-0AE3-4CD8-BC61-9CFB5887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D7CB-1176-4901-9730-9220B943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96F2-9509-4604-9D03-6F40F2BE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480C8-DD33-4D3E-8CCD-6E6AB135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BBC9-8612-46B0-959E-ACB2BA9A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F19E-A680-43F3-9636-70FCDFF4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7D3-6F97-4A3D-9D31-71D2AE89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AA0E-237F-4D5B-B046-DDDDFEF3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C9BB-9F39-4EA1-8B4F-01DB815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30C3-DA7D-4A75-9FBB-FEC52433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4AA1-6082-48E3-BB91-FF569AB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3BD56-4FD9-46D6-9013-2D2AF25F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92734-BE93-462D-B4E3-EBFA679B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1631-1691-4632-9FCA-2CC2E6FF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DF116-6235-4B74-8E70-0E0B2309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1D539-0656-4922-82F3-C30A067E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1108-B5FF-4FBB-B93A-64C248D2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EFF-A10E-47FC-8A78-0CBD0BCC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852C-CF07-4DB9-80B7-B6AC63A3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A8107-2EAE-45BB-B871-8640FAF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3BC4F-BA92-445D-994B-A7975EA5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BAFA-58C4-42A1-8E87-33732742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8DD7-FCE7-40C0-A5CF-2C6318C1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33067-1875-43A2-96C5-39E3AE96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8EA0-F71D-4CBA-B570-2F323105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46D38-A187-4D70-A0EF-81F2F32E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CF23C-0D60-4AC9-B657-6778281B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D566F-DF26-419F-BD06-FE6208F6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0D7-C22F-4E90-BC92-22041BEA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2DAEC-6331-4B03-8D93-19053A6F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4D4C9-A69D-48D5-B1FD-95401760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228C2-3FA4-4AE4-8119-14A989FA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74EEA-7CA5-4AB6-A095-4A1F41DD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90CA-BD36-4363-BCAA-2DC31E43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A1115-6C9F-4396-AE36-5674A924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32A09-EE21-4D8A-AE6F-DEB482F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69B30-777E-420D-9337-1BD0A9D9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39208-69D0-406A-8C14-223FE5C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CA65-588A-47A2-BBCF-DE3A95DD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8A3-E59E-4E8A-952F-B2BA92BF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8BE1E-D0FA-453C-B832-6B8231D5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8D7A1-82A9-49B3-8F7B-56572B4D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8E750-155E-4425-A33A-8997DADE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6ADB3-4D66-4910-9F11-6EE3310E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8A6EF-A882-4870-8DC1-5CF110FB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F915C-44CC-4F4F-894A-E1021D6B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DD7BE-693C-4107-A093-17D4E1A4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C13B3-6C3F-4228-8759-41414560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50F87-574E-446C-BE4B-F9C66F1F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318ED-51DB-409D-939B-1DD0A814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EB2-0662-407A-9FA7-4E5A4982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E066-21B0-4DA4-9DF4-338C01BC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73A22-3CF4-4E86-93EB-067E52B1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27DFD-A732-438D-A5AE-3023494C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C14C1-4EBC-4240-84D2-1F75F46E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045C5-1CB5-45ED-B130-5F7637DD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6E9C5-22B8-4F11-9852-4FD08510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87BB9-BFAB-4017-95DA-D34F5F58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BC7FF-162A-4CCE-ADD7-FAC7515C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3342B-9DC5-4294-9651-E29668CA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97A44-7711-48E7-B46F-75B9F47A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ABE-65C7-481A-8D17-CBC48BF0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25E46-D1B8-4972-A5D1-87E7F314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F743E-26A6-4628-9C44-D7FC1150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B125F-381A-4290-8A4B-80C7B4E5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E87AD-7C50-4AC2-8D42-2851B8E8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9E9CC-FB17-4FF5-B622-3045C5D9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25DF2-7F12-4179-92DC-62576535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7D68E-B3A0-40AF-BF6D-4C1DAFFD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B95E0-BDB0-46FD-9F1C-35CDC201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FC912-E1D4-4AFB-858C-2A4DE8D8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1CC7B-31B8-43A0-A244-5297C0A6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294-CF27-492D-B507-776FAC4D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AC652-2AD1-45D2-B968-5ECF1194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A6C1-1A34-4D47-8992-EE94C90C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BE697-FBB2-4279-9BEF-D3E69EAA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EEB01-7D3D-4A5C-AFBE-1A98175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B006D-56B3-4B19-B834-76AB6476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9B634-520D-4A78-A002-30419F35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EE76F-0281-4D4B-9466-0EF82D34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7A31-3811-48E8-BEA4-2E0C0E5946CB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12B9-AF5B-4BEC-B5B6-775BF311EC11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16AD-8ECB-44E7-9BAC-140B919A18A5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CC11-C510-4496-84B8-4EC2F379CAD1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A123-6633-4885-9EE0-DE09076CBA8C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A453-A629-465C-A621-AA306EBBA3F1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0C0C-206C-4B62-94AA-9D68845C3DAD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6D8E-34C9-482F-BF1A-67A2B1EB4624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35692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Unidad 2 Métodos experimental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El pro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9 CuadroTexto"/>
          <p:cNvSpPr/>
          <p:nvPr/>
        </p:nvSpPr>
        <p:spPr>
          <a:xfrm>
            <a:off x="928800" y="1143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ón: se mide N veces una cantidad física, entonces su promedio se define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643040" y="2143080"/>
                <a:ext cx="63007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3500280" y="3643200"/>
            <a:ext cx="5108760" cy="3071880"/>
          </a:xfrm>
          <a:prstGeom prst="rect">
            <a:avLst/>
          </a:prstGeom>
          <a:ln w="0">
            <a:noFill/>
          </a:ln>
        </p:spPr>
      </p:pic>
      <p:sp>
        <p:nvSpPr>
          <p:cNvPr id="417" name="9 Conector recto"/>
          <p:cNvSpPr/>
          <p:nvPr/>
        </p:nvSpPr>
        <p:spPr>
          <a:xfrm flipH="1">
            <a:off x="6357960" y="3786120"/>
            <a:ext cx="1440" cy="221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0 CuadroTexto"/>
          <p:cNvSpPr/>
          <p:nvPr/>
        </p:nvSpPr>
        <p:spPr>
          <a:xfrm>
            <a:off x="285840" y="42148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=(10.1 + 3*10.2 + 4*10.3 + 3*10.4 +4*10.5 + 5*10.6 + 1*10.7)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1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El promedio: cómo medir “mej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9 CuadroTexto"/>
          <p:cNvSpPr/>
          <p:nvPr/>
        </p:nvSpPr>
        <p:spPr>
          <a:xfrm>
            <a:off x="928800" y="1143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el promedio de un muestreo se acerca al promedio de toda la pobl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3749760" y="2286000"/>
            <a:ext cx="5394240" cy="3357720"/>
          </a:xfrm>
          <a:prstGeom prst="rect">
            <a:avLst/>
          </a:prstGeom>
          <a:ln w="0">
            <a:noFill/>
          </a:ln>
        </p:spPr>
      </p:pic>
      <p:sp>
        <p:nvSpPr>
          <p:cNvPr id="422" name="4 CuadroTexto"/>
          <p:cNvSpPr/>
          <p:nvPr/>
        </p:nvSpPr>
        <p:spPr>
          <a:xfrm>
            <a:off x="214200" y="2428920"/>
            <a:ext cx="307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re más mida más confianza puedo tener en mis resultados; ejemplo: tirar una moneda cara vs. s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celación de los errores ale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5 Flecha abajo"/>
          <p:cNvSpPr/>
          <p:nvPr/>
        </p:nvSpPr>
        <p:spPr>
          <a:xfrm>
            <a:off x="1428840" y="4857840"/>
            <a:ext cx="5000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6 CuadroTexto"/>
          <p:cNvSpPr/>
          <p:nvPr/>
        </p:nvSpPr>
        <p:spPr>
          <a:xfrm>
            <a:off x="4214880" y="59292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Cada vez acercarse más al “verdadero” valor promedio; ejemplo: las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7 CuadroTexto"/>
          <p:cNvSpPr/>
          <p:nvPr/>
        </p:nvSpPr>
        <p:spPr>
          <a:xfrm>
            <a:off x="3857760" y="5357880"/>
            <a:ext cx="25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Muchas med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8 CuadroTexto"/>
          <p:cNvSpPr/>
          <p:nvPr/>
        </p:nvSpPr>
        <p:spPr>
          <a:xfrm>
            <a:off x="6429240" y="5357880"/>
            <a:ext cx="250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Pocas med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9 CuadroTexto"/>
          <p:cNvSpPr/>
          <p:nvPr/>
        </p:nvSpPr>
        <p:spPr>
          <a:xfrm>
            <a:off x="4500720" y="257184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c4853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0 CuadroTexto"/>
          <p:cNvSpPr/>
          <p:nvPr/>
        </p:nvSpPr>
        <p:spPr>
          <a:xfrm>
            <a:off x="3822840" y="3000240"/>
            <a:ext cx="1071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37f26"/>
                </a:solidFill>
                <a:latin typeface="Arial"/>
                <a:ea typeface="Arial"/>
              </a:rPr>
              <a:t>Valor verdad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1 CuadroTexto"/>
          <p:cNvSpPr/>
          <p:nvPr/>
        </p:nvSpPr>
        <p:spPr>
          <a:xfrm>
            <a:off x="7500960" y="257184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c4853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2 CuadroTexto"/>
          <p:cNvSpPr/>
          <p:nvPr/>
        </p:nvSpPr>
        <p:spPr>
          <a:xfrm>
            <a:off x="6357960" y="2928960"/>
            <a:ext cx="1071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37f26"/>
                </a:solidFill>
                <a:latin typeface="Arial"/>
                <a:ea typeface="Arial"/>
              </a:rPr>
              <a:t>Valor verdad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572314"/>
                </a:solidFill>
                <a:latin typeface="Gill Sans MT"/>
              </a:rPr>
              <a:t>Efecto de la estadística</a:t>
            </a:r>
            <a:br>
              <a:rPr sz="3900"/>
            </a:br>
            <a:r>
              <a:rPr b="0" lang="es-MX" sz="2800" spc="-1" strike="noStrike">
                <a:solidFill>
                  <a:srgbClr val="572314"/>
                </a:solidFill>
                <a:latin typeface="Gill Sans MT"/>
              </a:rPr>
              <a:t>cancelación de errores aleatorio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0" y="1643040"/>
            <a:ext cx="4319640" cy="32734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2"/>
          <a:stretch/>
        </p:blipFill>
        <p:spPr>
          <a:xfrm>
            <a:off x="4633920" y="1644480"/>
            <a:ext cx="4321080" cy="3273480"/>
          </a:xfrm>
          <a:prstGeom prst="rect">
            <a:avLst/>
          </a:prstGeom>
          <a:ln w="0">
            <a:noFill/>
          </a:ln>
        </p:spPr>
      </p:pic>
      <p:sp>
        <p:nvSpPr>
          <p:cNvPr id="434" name="6 CuadroTexto"/>
          <p:cNvSpPr/>
          <p:nvPr/>
        </p:nvSpPr>
        <p:spPr>
          <a:xfrm>
            <a:off x="6480" y="1643040"/>
            <a:ext cx="979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70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7 CuadroTexto"/>
          <p:cNvSpPr/>
          <p:nvPr/>
        </p:nvSpPr>
        <p:spPr>
          <a:xfrm>
            <a:off x="4364280" y="1714680"/>
            <a:ext cx="979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30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8 CuadroTexto"/>
          <p:cNvSpPr/>
          <p:nvPr/>
        </p:nvSpPr>
        <p:spPr>
          <a:xfrm>
            <a:off x="3960" y="421488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9 CuadroTexto"/>
          <p:cNvSpPr/>
          <p:nvPr/>
        </p:nvSpPr>
        <p:spPr>
          <a:xfrm>
            <a:off x="3861720" y="420372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0 CuadroTexto"/>
          <p:cNvSpPr/>
          <p:nvPr/>
        </p:nvSpPr>
        <p:spPr>
          <a:xfrm>
            <a:off x="4744080" y="422604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1 CuadroTexto"/>
          <p:cNvSpPr/>
          <p:nvPr/>
        </p:nvSpPr>
        <p:spPr>
          <a:xfrm>
            <a:off x="8601840" y="421488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12 CuadroTexto"/>
          <p:cNvSpPr/>
          <p:nvPr/>
        </p:nvSpPr>
        <p:spPr>
          <a:xfrm>
            <a:off x="42480" y="464328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ps: cuenta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13 CuadroTexto"/>
          <p:cNvSpPr/>
          <p:nvPr/>
        </p:nvSpPr>
        <p:spPr>
          <a:xfrm>
            <a:off x="1084320" y="1487520"/>
            <a:ext cx="272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1 segund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14 CuadroTexto"/>
          <p:cNvSpPr/>
          <p:nvPr/>
        </p:nvSpPr>
        <p:spPr>
          <a:xfrm>
            <a:off x="5299920" y="1487520"/>
            <a:ext cx="285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10 segund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16 CuadroTexto"/>
          <p:cNvSpPr/>
          <p:nvPr/>
        </p:nvSpPr>
        <p:spPr>
          <a:xfrm>
            <a:off x="1086480" y="4214880"/>
            <a:ext cx="218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ngul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17 CuadroTexto"/>
          <p:cNvSpPr/>
          <p:nvPr/>
        </p:nvSpPr>
        <p:spPr>
          <a:xfrm>
            <a:off x="5872680" y="4227480"/>
            <a:ext cx="218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ngul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18 CuadroTexto"/>
          <p:cNvSpPr/>
          <p:nvPr/>
        </p:nvSpPr>
        <p:spPr>
          <a:xfrm>
            <a:off x="357120" y="550080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Entre más midamos menor la dispersión de los 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19 Elipse"/>
          <p:cNvSpPr/>
          <p:nvPr/>
        </p:nvSpPr>
        <p:spPr>
          <a:xfrm>
            <a:off x="2071800" y="5952960"/>
            <a:ext cx="2357280" cy="905040"/>
          </a:xfrm>
          <a:prstGeom prst="ellipse">
            <a:avLst/>
          </a:prstGeom>
          <a:solidFill>
            <a:srgbClr val="3891a7">
              <a:alpha val="1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Vari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9 CuadroTexto"/>
          <p:cNvSpPr/>
          <p:nvPr/>
        </p:nvSpPr>
        <p:spPr>
          <a:xfrm>
            <a:off x="1143000" y="1143000"/>
            <a:ext cx="7572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es el cuadrado de las desviaciones de las mediciones con respecto al pro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medio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persión es dif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Sumar los cuadrados de las desviaciones ayuda a que estas no se canc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5037120" y="2928960"/>
                <a:ext cx="41068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0" y="3143160"/>
            <a:ext cx="4857840" cy="749520"/>
          </a:xfrm>
          <a:prstGeom prst="rect">
            <a:avLst/>
          </a:prstGeom>
          <a:ln w="0">
            <a:noFill/>
          </a:ln>
        </p:spPr>
      </p:pic>
      <p:sp>
        <p:nvSpPr>
          <p:cNvPr id="451" name="5 Rectángulo"/>
          <p:cNvSpPr/>
          <p:nvPr/>
        </p:nvSpPr>
        <p:spPr>
          <a:xfrm>
            <a:off x="2143080" y="3143160"/>
            <a:ext cx="50004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6 Cerrar llave"/>
          <p:cNvSpPr/>
          <p:nvPr/>
        </p:nvSpPr>
        <p:spPr>
          <a:xfrm rot="5400000">
            <a:off x="1999800" y="342900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La desviación estándar, 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9 CuadroTexto"/>
          <p:cNvSpPr/>
          <p:nvPr/>
        </p:nvSpPr>
        <p:spPr>
          <a:xfrm>
            <a:off x="1143000" y="928800"/>
            <a:ext cx="8001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es la raíz cuadrada de l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Importa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si N &gt;&gt;1 entonces N-1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~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N (fórmula dada en el apu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efleja la diferencia en la precisión con que se midan diferentes muestreos de una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2357280" y="2071800"/>
                <a:ext cx="49611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Representación del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valor promedio y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50920" y="1285920"/>
          <a:ext cx="8642160" cy="171432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anza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-20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20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/(2-1)=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-5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5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/(2-1)=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viación estadística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285840" y="3500280"/>
            <a:ext cx="8859600" cy="3143520"/>
          </a:xfrm>
          <a:prstGeom prst="rect">
            <a:avLst/>
          </a:prstGeom>
          <a:ln w="0">
            <a:noFill/>
          </a:ln>
        </p:spPr>
      </p:pic>
      <p:sp>
        <p:nvSpPr>
          <p:cNvPr id="459" name="5 CuadroTexto"/>
          <p:cNvSpPr/>
          <p:nvPr/>
        </p:nvSpPr>
        <p:spPr>
          <a:xfrm>
            <a:off x="5286240" y="4786200"/>
            <a:ext cx="1428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úmero de ocurr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6 CuadroTexto"/>
          <p:cNvSpPr/>
          <p:nvPr/>
        </p:nvSpPr>
        <p:spPr>
          <a:xfrm>
            <a:off x="2428920" y="392904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7 CuadroTexto"/>
          <p:cNvSpPr/>
          <p:nvPr/>
        </p:nvSpPr>
        <p:spPr>
          <a:xfrm>
            <a:off x="7072200" y="3714840"/>
            <a:ext cx="121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9 CuadroTexto"/>
          <p:cNvSpPr/>
          <p:nvPr/>
        </p:nvSpPr>
        <p:spPr>
          <a:xfrm>
            <a:off x="1214280" y="5643720"/>
            <a:ext cx="314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viación del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0 CuadroTexto"/>
          <p:cNvSpPr/>
          <p:nvPr/>
        </p:nvSpPr>
        <p:spPr>
          <a:xfrm>
            <a:off x="1187280" y="3209760"/>
            <a:ext cx="6357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Gran número de med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0 CuadroTexto"/>
          <p:cNvSpPr/>
          <p:nvPr/>
        </p:nvSpPr>
        <p:spPr>
          <a:xfrm>
            <a:off x="1104480" y="4071960"/>
            <a:ext cx="1301040" cy="52056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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1 CuadroTexto"/>
          <p:cNvSpPr/>
          <p:nvPr/>
        </p:nvSpPr>
        <p:spPr>
          <a:xfrm>
            <a:off x="6906240" y="4071960"/>
            <a:ext cx="785880" cy="36828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Symbol"/>
                <a:ea typeface="Symbol"/>
              </a:rPr>
              <a:t>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2590560"/>
          </a:xfrm>
          <a:prstGeom prst="rect">
            <a:avLst/>
          </a:prstGeom>
          <a:ln w="0">
            <a:noFill/>
          </a:ln>
        </p:spPr>
      </p:pic>
      <p:sp>
        <p:nvSpPr>
          <p:cNvPr id="467" name="2 CuadroTexto"/>
          <p:cNvSpPr/>
          <p:nvPr/>
        </p:nvSpPr>
        <p:spPr>
          <a:xfrm>
            <a:off x="1191960" y="114300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promedio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Distribución Gaussiana, z=x-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</a:t>
            </a:r>
            <a:r>
              <a:rPr b="0" lang="es-MX" sz="1000" spc="-1" strike="noStrike">
                <a:solidFill>
                  <a:srgbClr val="572314"/>
                </a:solidFill>
                <a:latin typeface="Gill Sans MT"/>
              </a:rPr>
              <a:t>verdadero valor medio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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4 CuadroTexto"/>
          <p:cNvSpPr/>
          <p:nvPr/>
        </p:nvSpPr>
        <p:spPr>
          <a:xfrm>
            <a:off x="968760" y="5429160"/>
            <a:ext cx="78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5436a"/>
                </a:solidFill>
                <a:latin typeface="Arial"/>
              </a:rPr>
              <a:t>68.3%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de los datos está entre [&lt;C&gt;-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, &lt;C&gt;+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5436a"/>
                </a:solidFill>
                <a:latin typeface="Arial"/>
              </a:rPr>
              <a:t>95.4%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de los datos está entre [&lt;C&gt;-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, &lt;C&gt;+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5 Cerrar llave"/>
          <p:cNvSpPr/>
          <p:nvPr/>
        </p:nvSpPr>
        <p:spPr>
          <a:xfrm rot="5400000">
            <a:off x="2161080" y="3947040"/>
            <a:ext cx="357480" cy="74952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749520"/>
              <a:gd name="textAreaBottom" fmla="*/ 740520 h 74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9"/>
                  <a:pt x="10800" y="858"/>
                </a:cubicBezTo>
                <a:lnTo>
                  <a:pt x="10800" y="9942"/>
                </a:lnTo>
                <a:cubicBezTo>
                  <a:pt x="10800" y="10371"/>
                  <a:pt x="16200" y="10800"/>
                  <a:pt x="21600" y="10800"/>
                </a:cubicBezTo>
                <a:cubicBezTo>
                  <a:pt x="16200" y="10800"/>
                  <a:pt x="10800" y="11229"/>
                  <a:pt x="10800" y="11658"/>
                </a:cubicBezTo>
                <a:lnTo>
                  <a:pt x="10800" y="20742"/>
                </a:lnTo>
                <a:cubicBezTo>
                  <a:pt x="10800" y="2117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6 CuadroTexto"/>
          <p:cNvSpPr/>
          <p:nvPr/>
        </p:nvSpPr>
        <p:spPr>
          <a:xfrm>
            <a:off x="2052000" y="440388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7 Cerrar llave"/>
          <p:cNvSpPr/>
          <p:nvPr/>
        </p:nvSpPr>
        <p:spPr>
          <a:xfrm rot="5400000">
            <a:off x="6786000" y="3571920"/>
            <a:ext cx="357480" cy="150012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1500120"/>
              <a:gd name="textAreaBottom" fmla="*/ 149112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16200" y="10800"/>
                  <a:pt x="21600" y="10800"/>
                </a:cubicBezTo>
                <a:cubicBezTo>
                  <a:pt x="162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8 CuadroTexto"/>
          <p:cNvSpPr/>
          <p:nvPr/>
        </p:nvSpPr>
        <p:spPr>
          <a:xfrm>
            <a:off x="6695280" y="440388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9 CuadroTexto"/>
          <p:cNvSpPr/>
          <p:nvPr/>
        </p:nvSpPr>
        <p:spPr>
          <a:xfrm>
            <a:off x="6429240" y="2786040"/>
            <a:ext cx="1143000" cy="73332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valo de confid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5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10 CuadroTexto"/>
          <p:cNvSpPr/>
          <p:nvPr/>
        </p:nvSpPr>
        <p:spPr>
          <a:xfrm>
            <a:off x="1857240" y="2643120"/>
            <a:ext cx="1000440" cy="64152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o de confi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1 CuadroTexto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Cuantificació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9 CuadroTexto"/>
          <p:cNvSpPr/>
          <p:nvPr/>
        </p:nvSpPr>
        <p:spPr>
          <a:xfrm>
            <a:off x="928800" y="750960"/>
            <a:ext cx="821520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Error absolut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=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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el valor de la desviación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Error relativ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/&lt;C&gt; =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/&lt;C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rcentaje” de confiabilidad de las me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57120" y="3857760"/>
            <a:ext cx="4643640" cy="2786040"/>
          </a:xfrm>
          <a:prstGeom prst="rect">
            <a:avLst/>
          </a:prstGeom>
          <a:ln w="0">
            <a:noFill/>
          </a:ln>
        </p:spPr>
      </p:pic>
      <p:sp>
        <p:nvSpPr>
          <p:cNvPr id="479" name="6 CuadroTexto"/>
          <p:cNvSpPr/>
          <p:nvPr/>
        </p:nvSpPr>
        <p:spPr>
          <a:xfrm>
            <a:off x="5357880" y="34290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Si el o los datos caen fuera del error estadístico uno podría pensar en elimin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7 Rectángulo"/>
          <p:cNvSpPr/>
          <p:nvPr/>
        </p:nvSpPr>
        <p:spPr>
          <a:xfrm>
            <a:off x="5500800" y="4500720"/>
            <a:ext cx="3143160" cy="20001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9 Conector recto"/>
          <p:cNvSpPr/>
          <p:nvPr/>
        </p:nvSpPr>
        <p:spPr>
          <a:xfrm flipV="1">
            <a:off x="5857920" y="4785840"/>
            <a:ext cx="2357280" cy="1357560"/>
          </a:xfrm>
          <a:prstGeom prst="line">
            <a:avLst/>
          </a:prstGeom>
          <a:ln w="38160">
            <a:solidFill>
              <a:srgbClr val="3891a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10 Multiplicar"/>
          <p:cNvSpPr/>
          <p:nvPr/>
        </p:nvSpPr>
        <p:spPr>
          <a:xfrm>
            <a:off x="6072120" y="600084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11 Multiplicar"/>
          <p:cNvSpPr/>
          <p:nvPr/>
        </p:nvSpPr>
        <p:spPr>
          <a:xfrm>
            <a:off x="6286680" y="557208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2 Multiplicar"/>
          <p:cNvSpPr/>
          <p:nvPr/>
        </p:nvSpPr>
        <p:spPr>
          <a:xfrm>
            <a:off x="6786720" y="564372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13 Multiplicar"/>
          <p:cNvSpPr/>
          <p:nvPr/>
        </p:nvSpPr>
        <p:spPr>
          <a:xfrm>
            <a:off x="7072200" y="550080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14 Multiplicar"/>
          <p:cNvSpPr/>
          <p:nvPr/>
        </p:nvSpPr>
        <p:spPr>
          <a:xfrm>
            <a:off x="5857920" y="614376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5 Multiplicar"/>
          <p:cNvSpPr/>
          <p:nvPr/>
        </p:nvSpPr>
        <p:spPr>
          <a:xfrm>
            <a:off x="7286760" y="528624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16 Multiplicar"/>
          <p:cNvSpPr/>
          <p:nvPr/>
        </p:nvSpPr>
        <p:spPr>
          <a:xfrm>
            <a:off x="7429680" y="492912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17 Multiplicar"/>
          <p:cNvSpPr/>
          <p:nvPr/>
        </p:nvSpPr>
        <p:spPr>
          <a:xfrm>
            <a:off x="7858080" y="592920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18 Multiplicar"/>
          <p:cNvSpPr/>
          <p:nvPr/>
        </p:nvSpPr>
        <p:spPr>
          <a:xfrm>
            <a:off x="8072280" y="485784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19 Elipse"/>
          <p:cNvSpPr/>
          <p:nvPr/>
        </p:nvSpPr>
        <p:spPr>
          <a:xfrm>
            <a:off x="7715160" y="5786280"/>
            <a:ext cx="500040" cy="50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20 Forma libre"/>
          <p:cNvSpPr/>
          <p:nvPr/>
        </p:nvSpPr>
        <p:spPr>
          <a:xfrm>
            <a:off x="5964120" y="4678200"/>
            <a:ext cx="2238480" cy="1603440"/>
          </a:xfrm>
          <a:prstGeom prst="pie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21 CuadroTexto"/>
          <p:cNvSpPr/>
          <p:nvPr/>
        </p:nvSpPr>
        <p:spPr>
          <a:xfrm>
            <a:off x="6649920" y="61437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23 CuadroTexto"/>
          <p:cNvSpPr/>
          <p:nvPr/>
        </p:nvSpPr>
        <p:spPr>
          <a:xfrm rot="16200000">
            <a:off x="5176800" y="511704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3 CuadroTexto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Eliminando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1 CuadroTexto"/>
          <p:cNvSpPr/>
          <p:nvPr/>
        </p:nvSpPr>
        <p:spPr>
          <a:xfrm>
            <a:off x="1000080" y="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Propagació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2"/>
              <p:cNvSpPr txBox="1"/>
              <p:nvPr/>
            </p:nvSpPr>
            <p:spPr>
              <a:xfrm>
                <a:off x="0" y="960480"/>
                <a:ext cx="9144000" cy="59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Δa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Δ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ma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Δ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Δ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sta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Δ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Δ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ultiplicación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∗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∗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a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b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visión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a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b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nción</m:t>
                        </m:r>
                        <m:r>
                          <m:t xml:space="preserve">: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&lt;</m:t>
                            </m:r>
                            <m:r>
                              <m:t xml:space="preserve">a</m:t>
                            </m:r>
                            <m:r>
                              <m:t xml:space="preserve">&gt;</m:t>
                            </m:r>
                            <m:r>
                              <m:t xml:space="preserve">Δ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8 CuadroTexto"/>
          <p:cNvSpPr/>
          <p:nvPr/>
        </p:nvSpPr>
        <p:spPr>
          <a:xfrm>
            <a:off x="428760" y="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572314"/>
                </a:solidFill>
                <a:latin typeface="Gill Sans MT"/>
              </a:rPr>
              <a:t>Cifras significa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9 CuadroTexto"/>
          <p:cNvSpPr/>
          <p:nvPr/>
        </p:nvSpPr>
        <p:spPr>
          <a:xfrm>
            <a:off x="1143000" y="1143000"/>
            <a:ext cx="7429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La población de nuestra ciudad es 157872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El número de votos registrados hasta el 1 de Enero fueron de 157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son todos los números que -que contados desde la izquierda- se conocen exactamente, sumando una más que se puede conocer “más o menos” </a:t>
            </a:r>
            <a:r>
              <a:rPr b="0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¿cuán seguro estamos de nuestras medi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8 CuadroTexto"/>
          <p:cNvSpPr/>
          <p:nvPr/>
        </p:nvSpPr>
        <p:spPr>
          <a:xfrm>
            <a:off x="1143000" y="1071720"/>
            <a:ext cx="7858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¿Cómo medimos?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Sis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Ale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El pro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La varianza y desviación estad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La 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Cuantificación de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Unidades: cantidades relevantes e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917280" y="0"/>
            <a:ext cx="38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8 CuadroTexto"/>
          <p:cNvSpPr/>
          <p:nvPr/>
        </p:nvSpPr>
        <p:spPr>
          <a:xfrm>
            <a:off x="1000080" y="0"/>
            <a:ext cx="70722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572314"/>
                </a:solidFill>
                <a:latin typeface="Gill Sans MT"/>
              </a:rPr>
              <a:t>Cifras significa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Gill Sans MT"/>
              </a:rPr>
              <a:t>¿cuán preciso puedodar el núm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9 CuadroTexto"/>
          <p:cNvSpPr/>
          <p:nvPr/>
        </p:nvSpPr>
        <p:spPr>
          <a:xfrm>
            <a:off x="1143000" y="1500120"/>
            <a:ext cx="7429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La población de nuestra ciudad es 157900 ó también 158000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9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00: cuatro 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8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50… </a:t>
            </a: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9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0000"/>
                </a:solidFill>
                <a:latin typeface="Arial"/>
              </a:rPr>
              <a:t>157900±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El número de votos registrados hasta el 1 de Enero fueron de 157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872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: 6 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Reglas simples para las cifras significativas</a:t>
            </a:r>
            <a:br>
              <a:rPr sz="3200"/>
            </a:b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Redondeo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929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572314"/>
                </a:solidFill>
                <a:latin typeface="Gill Sans MT"/>
              </a:rPr>
              <a:t>Cantidades relevantes en Fís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286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Mas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Distanc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Otras: fuerza, temperatura, resistencia, corriente, voltaje, energía, pres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as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kilógramo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07" name="Picture 4" descr="307px-CGKilogram"/>
          <p:cNvPicPr/>
          <p:nvPr/>
        </p:nvPicPr>
        <p:blipFill>
          <a:blip r:embed="rId1"/>
          <a:stretch/>
        </p:blipFill>
        <p:spPr>
          <a:xfrm>
            <a:off x="357120" y="1357200"/>
            <a:ext cx="3900600" cy="2857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"/>
          <p:cNvSpPr/>
          <p:nvPr/>
        </p:nvSpPr>
        <p:spPr>
          <a:xfrm>
            <a:off x="4429080" y="24289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PK (Prototipo Internacional del kilógramo, por sus siglas en 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ura=diámetro=39.17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eación de Pt e Iri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2"/>
          <a:stretch/>
        </p:blipFill>
        <p:spPr>
          <a:xfrm>
            <a:off x="1214280" y="4500720"/>
            <a:ext cx="6969240" cy="18572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5"/>
          <p:cNvSpPr/>
          <p:nvPr/>
        </p:nvSpPr>
        <p:spPr>
          <a:xfrm>
            <a:off x="1928880" y="6488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la numérica representa el logaritmo del número mos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6 CuadroTexto"/>
          <p:cNvSpPr/>
          <p:nvPr/>
        </p:nvSpPr>
        <p:spPr>
          <a:xfrm>
            <a:off x="1518840" y="564372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357200" y="6143760"/>
            <a:ext cx="3214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mas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9 Conector recto"/>
          <p:cNvSpPr/>
          <p:nvPr/>
        </p:nvSpPr>
        <p:spPr>
          <a:xfrm>
            <a:off x="1785960" y="6084720"/>
            <a:ext cx="2500200" cy="1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6715080" y="6026040"/>
            <a:ext cx="1795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ilog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istanci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 metro (μέτρον )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00080" y="1447560"/>
            <a:ext cx="793440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longitud del trayecto recorrido en el vacío por la luz durante un tiempo de 1/299 792 458 de segundo (unidad de tiemp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a distancia la recorre la luz e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,34 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214280" y="3571920"/>
            <a:ext cx="7394760" cy="2428920"/>
          </a:xfrm>
          <a:prstGeom prst="rect">
            <a:avLst/>
          </a:prstGeom>
          <a:ln w="0">
            <a:noFill/>
          </a:ln>
        </p:spPr>
      </p:pic>
      <p:sp>
        <p:nvSpPr>
          <p:cNvPr id="518" name="4 CuadroTexto"/>
          <p:cNvSpPr/>
          <p:nvPr/>
        </p:nvSpPr>
        <p:spPr>
          <a:xfrm>
            <a:off x="1304640" y="52149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071720" y="5761080"/>
            <a:ext cx="38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distanci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6 Conector recto"/>
          <p:cNvSpPr/>
          <p:nvPr/>
        </p:nvSpPr>
        <p:spPr>
          <a:xfrm>
            <a:off x="2395440" y="5675400"/>
            <a:ext cx="128592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7429680" y="5643720"/>
            <a:ext cx="92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istanci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 metro (μέτρον )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microelectrónica la unidad más usada es el </a:t>
            </a:r>
            <a:r>
              <a:rPr b="0" lang="es-ES" sz="2800" spc="-1" strike="noStrike">
                <a:solidFill>
                  <a:srgbClr val="ff3300"/>
                </a:solidFill>
                <a:latin typeface="Gill Sans MT"/>
              </a:rPr>
              <a:t>nanómetr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nanómetro = 1 nm = 1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ill Sans MT"/>
              </a:rPr>
              <a:t>-9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átomo de hidrógen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~ 0.1 nm = 1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Å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jemplos: Transist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Core2 820 millones de transistores, Distancia característica 45n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iPod: medio de almacenamiento memorias flash, 65-130 n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4" name="Picture 4" descr="250px-Transistor-photo"/>
          <p:cNvPicPr/>
          <p:nvPr/>
        </p:nvPicPr>
        <p:blipFill>
          <a:blip r:embed="rId1"/>
          <a:stretch/>
        </p:blipFill>
        <p:spPr>
          <a:xfrm>
            <a:off x="6516720" y="5373720"/>
            <a:ext cx="2381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Tiem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572314"/>
                </a:solidFill>
                <a:latin typeface="Gill Sans MT"/>
              </a:rPr>
              <a:t>Unidad SI = segun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18 CuadroTexto"/>
          <p:cNvSpPr/>
          <p:nvPr/>
        </p:nvSpPr>
        <p:spPr>
          <a:xfrm>
            <a:off x="1143000" y="128592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segundo es la duración de 9.192.631.770 periodo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ransición entre dos niveles hiperfinos del estado de energía mínimo del átomo de Cesio 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: GPS, redes de telefonía, calibracion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85920" y="3143160"/>
            <a:ext cx="7472160" cy="2500560"/>
          </a:xfrm>
          <a:prstGeom prst="rect">
            <a:avLst/>
          </a:prstGeom>
          <a:ln w="0">
            <a:noFill/>
          </a:ln>
        </p:spPr>
      </p:pic>
      <p:sp>
        <p:nvSpPr>
          <p:cNvPr id="528" name="4 CuadroTexto"/>
          <p:cNvSpPr/>
          <p:nvPr/>
        </p:nvSpPr>
        <p:spPr>
          <a:xfrm>
            <a:off x="1304640" y="50007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2895480" y="5559480"/>
            <a:ext cx="385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distanci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7 Conector recto"/>
          <p:cNvSpPr/>
          <p:nvPr/>
        </p:nvSpPr>
        <p:spPr>
          <a:xfrm>
            <a:off x="3286080" y="5454720"/>
            <a:ext cx="300060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7358040" y="535788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9720" y="928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ill Sans MT"/>
              </a:rPr>
              <a:t>Temperatur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medición de la intensidad térmica unidad es kelvin, 0 k = -273.15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214720" y="2000160"/>
            <a:ext cx="5286240" cy="1513080"/>
          </a:xfrm>
          <a:prstGeom prst="rect">
            <a:avLst/>
          </a:prstGeom>
          <a:ln w="0">
            <a:noFill/>
          </a:ln>
        </p:spPr>
      </p:pic>
      <p:sp>
        <p:nvSpPr>
          <p:cNvPr id="534" name="4 CuadroTexto"/>
          <p:cNvSpPr/>
          <p:nvPr/>
        </p:nvSpPr>
        <p:spPr>
          <a:xfrm>
            <a:off x="2090520" y="29289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714760" y="3357720"/>
            <a:ext cx="38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temperatur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6 Conector recto"/>
          <p:cNvSpPr/>
          <p:nvPr/>
        </p:nvSpPr>
        <p:spPr>
          <a:xfrm>
            <a:off x="3429000" y="3286080"/>
            <a:ext cx="1368360" cy="1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500880" y="321480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lv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1000080" y="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tras cantida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500040" y="385776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ill Sans MT"/>
              </a:rPr>
              <a:t>Pres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fuerza ejercida por unidad de área super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idad es 1 Pascale = 1 N m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ill Sans MT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2"/>
          <a:stretch/>
        </p:blipFill>
        <p:spPr>
          <a:xfrm>
            <a:off x="4200480" y="4381560"/>
            <a:ext cx="4943520" cy="2476440"/>
          </a:xfrm>
          <a:prstGeom prst="rect">
            <a:avLst/>
          </a:prstGeom>
          <a:ln w="0">
            <a:noFill/>
          </a:ln>
        </p:spPr>
      </p:pic>
      <p:sp>
        <p:nvSpPr>
          <p:cNvPr id="541" name="19 Conector recto"/>
          <p:cNvSpPr/>
          <p:nvPr/>
        </p:nvSpPr>
        <p:spPr>
          <a:xfrm>
            <a:off x="4883040" y="6067440"/>
            <a:ext cx="262728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5240160" y="6118200"/>
            <a:ext cx="235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pr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1000080" y="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tras cantida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2714760" y="2357280"/>
            <a:ext cx="3929040" cy="121464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0d0d0d"/>
                </a:solidFill>
                <a:latin typeface="Gill Sans MT"/>
              </a:rPr>
              <a:t>Fuerzas</a:t>
            </a:r>
            <a:br>
              <a:rPr sz="4300"/>
            </a:br>
            <a:r>
              <a:rPr b="0" lang="es-ES" sz="2000" spc="-1" strike="noStrike">
                <a:solidFill>
                  <a:srgbClr val="0d0d0d"/>
                </a:solidFill>
                <a:latin typeface="Gill Sans MT"/>
              </a:rPr>
              <a:t>Unidad SI =kg*m/s</a:t>
            </a:r>
            <a:r>
              <a:rPr b="0" lang="es-ES" sz="2000" spc="-1" strike="noStrike" baseline="30000">
                <a:solidFill>
                  <a:srgbClr val="0d0d0d"/>
                </a:solidFill>
                <a:latin typeface="Gill Sans MT"/>
              </a:rPr>
              <a:t>2</a:t>
            </a:r>
            <a:r>
              <a:rPr b="0" lang="es-ES" sz="2000" spc="-1" strike="noStrike">
                <a:solidFill>
                  <a:srgbClr val="0d0d0d"/>
                </a:solidFill>
                <a:latin typeface="Gill Sans MT"/>
              </a:rPr>
              <a:t>=Newton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Uso de las un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4 CuadroTexto"/>
          <p:cNvSpPr/>
          <p:nvPr/>
        </p:nvSpPr>
        <p:spPr>
          <a:xfrm>
            <a:off x="214200" y="928800"/>
            <a:ext cx="89298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yudan a entender las relaciones entre varias unidades de medida y de ahí su significad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eleración m/s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=(m/s)/s =variación de la velocidad en el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yudan a evaluar si una ecuación está bien definida:  no se suman papas con peras… A= b+c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4. Fijarse que muchas cantidades no tienen dimensiones: variable x en log(x), e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, sin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l significado de me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0 CuadroTexto"/>
          <p:cNvSpPr/>
          <p:nvPr/>
        </p:nvSpPr>
        <p:spPr>
          <a:xfrm>
            <a:off x="1071720" y="1357200"/>
            <a:ext cx="403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Valor: 134…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7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Incertidumbre ±0.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5219640" y="928800"/>
            <a:ext cx="3924360" cy="4249800"/>
          </a:xfrm>
          <a:prstGeom prst="rect">
            <a:avLst/>
          </a:prstGeom>
          <a:ln w="0">
            <a:noFill/>
          </a:ln>
        </p:spPr>
      </p:pic>
      <p:sp>
        <p:nvSpPr>
          <p:cNvPr id="379" name="4 Rectángulo"/>
          <p:cNvSpPr/>
          <p:nvPr/>
        </p:nvSpPr>
        <p:spPr>
          <a:xfrm>
            <a:off x="687600" y="521496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antidad medida = valor reportado +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7 Conector recto de flecha"/>
          <p:cNvCxnSpPr/>
          <p:nvPr/>
        </p:nvCxnSpPr>
        <p:spPr>
          <a:xfrm flipH="1">
            <a:off x="2142360" y="2676600"/>
            <a:ext cx="71532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1" name="10 Conector recto de flecha"/>
          <p:cNvCxnSpPr/>
          <p:nvPr/>
        </p:nvCxnSpPr>
        <p:spPr>
          <a:xfrm>
            <a:off x="3357720" y="2676600"/>
            <a:ext cx="71496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82" name="12 Flecha abajo"/>
          <p:cNvSpPr/>
          <p:nvPr/>
        </p:nvSpPr>
        <p:spPr>
          <a:xfrm>
            <a:off x="2928960" y="3462480"/>
            <a:ext cx="357120" cy="4284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1 CuadroTexto"/>
          <p:cNvSpPr/>
          <p:nvPr/>
        </p:nvSpPr>
        <p:spPr>
          <a:xfrm>
            <a:off x="1071720" y="214200"/>
            <a:ext cx="807228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Hoy hemos discut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r conlleva siempre una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sis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aleatorios: tratamiento estadístico de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medio, varianza y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desviación estad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re más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mi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menor es la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dispers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 mis datos </a:t>
            </a:r>
            <a:r>
              <a:rPr b="1" lang="es-MX" sz="4400" spc="-1" strike="noStrike">
                <a:solidFill>
                  <a:srgbClr val="ff0000"/>
                </a:solidFill>
                <a:latin typeface="Arial"/>
              </a:rPr>
              <a:t>↔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cifras significativas y cuantificación de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s unidades utilizadas e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2 Flecha curvada hacia la derecha"/>
          <p:cNvSpPr/>
          <p:nvPr/>
        </p:nvSpPr>
        <p:spPr>
          <a:xfrm>
            <a:off x="0" y="2924280"/>
            <a:ext cx="1071720" cy="292896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631800 h 2928960"/>
              <a:gd name="textAreaBottom" fmla="*/ 216324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9" stAng="-5400000" swAng="-5400000"/>
                <a:lnTo>
                  <a:pt x="0" y="11294"/>
                </a:lnTo>
                <a:arcTo wR="21600" hR="9319" stAng="10800000" swAng="-3545976"/>
                <a:lnTo>
                  <a:pt x="16200" y="21304"/>
                </a:lnTo>
                <a:lnTo>
                  <a:pt x="21600" y="19625"/>
                </a:lnTo>
                <a:lnTo>
                  <a:pt x="16200" y="17353"/>
                </a:lnTo>
                <a:lnTo>
                  <a:pt x="16200" y="18341"/>
                </a:lnTo>
                <a:arcTo wR="21600" hR="9319" stAng="7254024" swAng="3388032"/>
                <a:lnTo>
                  <a:pt x="122" y="10306"/>
                </a:lnTo>
                <a:arcTo wR="21600" hR="9319" stAng="-10642056" swAng="5242056"/>
                <a:close/>
              </a:path>
              <a:path fill="darkenLess" w="21600" h="21600">
                <a:moveTo>
                  <a:pt x="21600" y="0"/>
                </a:moveTo>
                <a:arcTo wR="21600" hR="9319" stAng="-5400000" swAng="-5400000"/>
                <a:lnTo>
                  <a:pt x="0" y="9319"/>
                </a:lnTo>
                <a:arcTo wR="21600" hR="9319" stAng="10800000" swAng="-157944"/>
                <a:lnTo>
                  <a:pt x="122" y="10306"/>
                </a:lnTo>
                <a:arcTo wR="21600" hR="9319" stAng="-10642056" swAng="5242056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1357200"/>
            <a:ext cx="8229600" cy="337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Unidad 3 Sistemas extendidos</a:t>
            </a: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Definición de centro de masa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8 CuadroTexto"/>
          <p:cNvSpPr/>
          <p:nvPr/>
        </p:nvSpPr>
        <p:spPr>
          <a:xfrm>
            <a:off x="1143000" y="1071720"/>
            <a:ext cx="7429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son los sistemas extendi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sa y centro de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perimento 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917280" y="0"/>
            <a:ext cx="38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¿Qué son los sistemas extendido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53" name="Picture 6" descr="car"/>
          <p:cNvPicPr/>
          <p:nvPr/>
        </p:nvPicPr>
        <p:blipFill>
          <a:blip r:embed="rId1"/>
          <a:stretch/>
        </p:blipFill>
        <p:spPr>
          <a:xfrm>
            <a:off x="1258920" y="2492280"/>
            <a:ext cx="7416720" cy="13636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7"/>
          <p:cNvSpPr/>
          <p:nvPr/>
        </p:nvSpPr>
        <p:spPr>
          <a:xfrm>
            <a:off x="971640" y="443700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Partículas “no interactuando” entre ellas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6589080" y="465300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1908000" y="2852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0"/>
          <p:cNvSpPr/>
          <p:nvPr/>
        </p:nvSpPr>
        <p:spPr>
          <a:xfrm>
            <a:off x="2195640" y="3068640"/>
            <a:ext cx="7272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1"/>
          <p:cNvSpPr/>
          <p:nvPr/>
        </p:nvSpPr>
        <p:spPr>
          <a:xfrm>
            <a:off x="226836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2"/>
          <p:cNvSpPr/>
          <p:nvPr/>
        </p:nvSpPr>
        <p:spPr>
          <a:xfrm>
            <a:off x="161928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3"/>
          <p:cNvSpPr/>
          <p:nvPr/>
        </p:nvSpPr>
        <p:spPr>
          <a:xfrm>
            <a:off x="2700360" y="2924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4"/>
          <p:cNvSpPr/>
          <p:nvPr/>
        </p:nvSpPr>
        <p:spPr>
          <a:xfrm>
            <a:off x="2987640" y="34290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5"/>
          <p:cNvSpPr/>
          <p:nvPr/>
        </p:nvSpPr>
        <p:spPr>
          <a:xfrm>
            <a:off x="3132000" y="299736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6"/>
          <p:cNvSpPr/>
          <p:nvPr/>
        </p:nvSpPr>
        <p:spPr>
          <a:xfrm>
            <a:off x="334800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7"/>
          <p:cNvSpPr/>
          <p:nvPr/>
        </p:nvSpPr>
        <p:spPr>
          <a:xfrm>
            <a:off x="2050920" y="314172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8"/>
          <p:cNvSpPr/>
          <p:nvPr/>
        </p:nvSpPr>
        <p:spPr>
          <a:xfrm>
            <a:off x="2340000" y="3284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9"/>
          <p:cNvSpPr/>
          <p:nvPr/>
        </p:nvSpPr>
        <p:spPr>
          <a:xfrm>
            <a:off x="2556000" y="3500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20"/>
          <p:cNvSpPr/>
          <p:nvPr/>
        </p:nvSpPr>
        <p:spPr>
          <a:xfrm>
            <a:off x="2916360" y="32130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1"/>
          <p:cNvSpPr/>
          <p:nvPr/>
        </p:nvSpPr>
        <p:spPr>
          <a:xfrm>
            <a:off x="3132000" y="3500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22"/>
          <p:cNvSpPr/>
          <p:nvPr/>
        </p:nvSpPr>
        <p:spPr>
          <a:xfrm>
            <a:off x="2556000" y="2852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asa y centro de m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4"/>
              <p:cNvSpPr txBox="1"/>
              <p:nvPr/>
            </p:nvSpPr>
            <p:spPr>
              <a:xfrm>
                <a:off x="1143000" y="1484280"/>
                <a:ext cx="383220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4932360" y="3860640"/>
                <a:ext cx="244944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3" name="AutoShape 8"/>
          <p:cNvSpPr/>
          <p:nvPr/>
        </p:nvSpPr>
        <p:spPr>
          <a:xfrm>
            <a:off x="3635280" y="3284640"/>
            <a:ext cx="1152720" cy="2881080"/>
          </a:xfrm>
          <a:custGeom>
            <a:avLst/>
            <a:gdLst>
              <a:gd name="textAreaLeft" fmla="*/ 0 w 1152720"/>
              <a:gd name="textAreaRight" fmla="*/ 416160 w 11527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5 Forma libre"/>
          <p:cNvSpPr/>
          <p:nvPr/>
        </p:nvSpPr>
        <p:spPr>
          <a:xfrm>
            <a:off x="6715080" y="1214280"/>
            <a:ext cx="2000160" cy="1857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6 Rectángulo"/>
          <p:cNvGrpSpPr/>
          <p:nvPr/>
        </p:nvGrpSpPr>
        <p:grpSpPr>
          <a:xfrm>
            <a:off x="7400880" y="1682640"/>
            <a:ext cx="195480" cy="268560"/>
            <a:chOff x="7400880" y="1682640"/>
            <a:chExt cx="195480" cy="268560"/>
          </a:xfrm>
        </p:grpSpPr>
        <p:pic>
          <p:nvPicPr>
            <p:cNvPr id="576" name="6 Rectángulo" descr=""/>
            <p:cNvPicPr/>
            <p:nvPr/>
          </p:nvPicPr>
          <p:blipFill>
            <a:blip r:embed="rId1"/>
            <a:stretch/>
          </p:blipFill>
          <p:spPr>
            <a:xfrm>
              <a:off x="7400880" y="1682640"/>
              <a:ext cx="195480" cy="2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7429680" y="171468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7 CuadroTexto"/>
          <p:cNvSpPr/>
          <p:nvPr/>
        </p:nvSpPr>
        <p:spPr>
          <a:xfrm>
            <a:off x="7301520" y="135720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13 Conector recto de flecha"/>
          <p:cNvCxnSpPr/>
          <p:nvPr/>
        </p:nvCxnSpPr>
        <p:spPr>
          <a:xfrm flipV="1">
            <a:off x="6500880" y="1642320"/>
            <a:ext cx="2160" cy="1500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80" name="15 Conector recto de flecha"/>
          <p:cNvCxnSpPr/>
          <p:nvPr/>
        </p:nvCxnSpPr>
        <p:spPr>
          <a:xfrm>
            <a:off x="6500880" y="3141720"/>
            <a:ext cx="164376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81" name="17 Conector recto de flecha"/>
          <p:cNvCxnSpPr/>
          <p:nvPr/>
        </p:nvCxnSpPr>
        <p:spPr>
          <a:xfrm flipH="1">
            <a:off x="6000120" y="3141360"/>
            <a:ext cx="500760" cy="501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82" name="Object 9"/>
              <p:cNvSpPr txBox="1"/>
              <p:nvPr/>
            </p:nvSpPr>
            <p:spPr>
              <a:xfrm>
                <a:off x="6103800" y="3355920"/>
                <a:ext cx="3970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10"/>
              <p:cNvSpPr txBox="1"/>
              <p:nvPr/>
            </p:nvSpPr>
            <p:spPr>
              <a:xfrm>
                <a:off x="6072120" y="1662120"/>
                <a:ext cx="3970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1"/>
              <p:cNvSpPr txBox="1"/>
              <p:nvPr/>
            </p:nvSpPr>
            <p:spPr>
              <a:xfrm>
                <a:off x="8053560" y="2890800"/>
                <a:ext cx="436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585" name="23 Conector recto de flecha"/>
          <p:cNvCxnSpPr/>
          <p:nvPr/>
        </p:nvCxnSpPr>
        <p:spPr>
          <a:xfrm flipV="1">
            <a:off x="6500880" y="1928160"/>
            <a:ext cx="100080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24 Conector recto de flecha"/>
          <p:cNvCxnSpPr/>
          <p:nvPr/>
        </p:nvCxnSpPr>
        <p:spPr>
          <a:xfrm flipV="1">
            <a:off x="6500520" y="2142720"/>
            <a:ext cx="14295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7" name="26 Y"/>
          <p:cNvSpPr/>
          <p:nvPr/>
        </p:nvSpPr>
        <p:spPr>
          <a:xfrm>
            <a:off x="7858080" y="2000160"/>
            <a:ext cx="214200" cy="214560"/>
          </a:xfrm>
          <a:prstGeom prst="flowChartSummingJunction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27 CuadroTexto"/>
          <p:cNvSpPr/>
          <p:nvPr/>
        </p:nvSpPr>
        <p:spPr>
          <a:xfrm>
            <a:off x="8058960" y="185724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2"/>
              <p:cNvSpPr txBox="1"/>
              <p:nvPr/>
            </p:nvSpPr>
            <p:spPr>
              <a:xfrm>
                <a:off x="6858000" y="1714680"/>
                <a:ext cx="3967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3"/>
              <p:cNvSpPr txBox="1"/>
              <p:nvPr/>
            </p:nvSpPr>
            <p:spPr>
              <a:xfrm>
                <a:off x="7429680" y="2308320"/>
                <a:ext cx="753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1" name="35 CuadroTexto"/>
          <p:cNvSpPr/>
          <p:nvPr/>
        </p:nvSpPr>
        <p:spPr>
          <a:xfrm>
            <a:off x="4572000" y="5286240"/>
            <a:ext cx="414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Posición promedio ponderada de la masa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jemplo de cálcul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1640" y="99972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CM se ubicará en el eje entre las dos partícul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0 y 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 d y m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2m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CM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d/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M se encuentra siempre más cerca de la partícula más m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CM de un objeto simétrico se ubica  sobre el eje de simetría y sobre cualquier plano de simetrí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4" name="Picture 2" descr="mhtml:file://C:\Users\jlisoni\Documents\Cursos\clases\semana%203\Dinámica%20de%20un%20sistema%20de%20partículas.mht!http://www.sc.ehu.es/sbweb/fisica/dinamica/con_mlineal/dinamica/choques2.gif"/>
          <p:cNvPicPr/>
          <p:nvPr/>
        </p:nvPicPr>
        <p:blipFill>
          <a:blip r:embed="rId1"/>
          <a:stretch/>
        </p:blipFill>
        <p:spPr>
          <a:xfrm>
            <a:off x="357120" y="2286000"/>
            <a:ext cx="4032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jemplo: explosión de un proyecti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1640" y="99972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aire no opone resitenc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Fuerza externa=grave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ntes de la explosión el proyectil tiene una trayectoria paraból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l explot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Explosión=fuerzas intern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No afectan C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CM continúa la trayectoria paraból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6 Forma libre"/>
          <p:cNvSpPr/>
          <p:nvPr/>
        </p:nvSpPr>
        <p:spPr>
          <a:xfrm>
            <a:off x="214200" y="2286000"/>
            <a:ext cx="3272040" cy="1514520"/>
          </a:xfrm>
          <a:prstGeom prst="pie">
            <a:avLst/>
          </a:prstGeom>
          <a:noFill/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8 Conector recto"/>
          <p:cNvSpPr/>
          <p:nvPr/>
        </p:nvSpPr>
        <p:spPr>
          <a:xfrm>
            <a:off x="3500280" y="3000240"/>
            <a:ext cx="857520" cy="8575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9 Explosión 1"/>
          <p:cNvSpPr/>
          <p:nvPr/>
        </p:nvSpPr>
        <p:spPr>
          <a:xfrm>
            <a:off x="3000240" y="2500200"/>
            <a:ext cx="928800" cy="1071720"/>
          </a:xfrm>
          <a:prstGeom prst="irregularSeal1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11 Flecha abajo"/>
          <p:cNvSpPr/>
          <p:nvPr/>
        </p:nvSpPr>
        <p:spPr>
          <a:xfrm>
            <a:off x="6500880" y="392904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12 Flecha abajo"/>
          <p:cNvSpPr/>
          <p:nvPr/>
        </p:nvSpPr>
        <p:spPr>
          <a:xfrm>
            <a:off x="6500880" y="47149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3 CuadroTexto"/>
          <p:cNvSpPr/>
          <p:nvPr/>
        </p:nvSpPr>
        <p:spPr>
          <a:xfrm>
            <a:off x="4076280" y="32148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perimento 2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4 de Agost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4771800" cy="2590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"/>
          <p:cNvPicPr/>
          <p:nvPr/>
        </p:nvPicPr>
        <p:blipFill>
          <a:blip r:embed="rId2"/>
          <a:stretch/>
        </p:blipFill>
        <p:spPr>
          <a:xfrm>
            <a:off x="5429160" y="500040"/>
            <a:ext cx="3419640" cy="3371760"/>
          </a:xfrm>
          <a:prstGeom prst="rect">
            <a:avLst/>
          </a:prstGeom>
          <a:ln w="0">
            <a:noFill/>
          </a:ln>
        </p:spPr>
      </p:pic>
      <p:sp>
        <p:nvSpPr>
          <p:cNvPr id="606" name="3 Marcador de texto"/>
          <p:cNvSpPr/>
          <p:nvPr/>
        </p:nvSpPr>
        <p:spPr>
          <a:xfrm>
            <a:off x="1285920" y="4214880"/>
            <a:ext cx="735804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Sensor de fuerza: trans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Tarjeta de adquisi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alibración sensor: Voltaje 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Fue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nálisis estadístico de un conjunto de datos: tensión de corte de un h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entarios al laboratorio anterior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2 CuadroTexto"/>
          <p:cNvSpPr/>
          <p:nvPr/>
        </p:nvSpPr>
        <p:spPr>
          <a:xfrm>
            <a:off x="214200" y="671400"/>
            <a:ext cx="86439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áf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clus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 significa repetir los resultos obte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la Real Academia Española de la Lengua (www.rae.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in y terminación de al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terminar y resolver sobre lo que se ha tra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Inferir, deducir una verdad de otras que se admiten, demuestran o presupo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ncer a alguien con la razón, de modo que no tenga qué responder ni repl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jemplos tomados del infor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. 1 si, aunque es una distancia considerable para un ángulo pequeño, la cual en distancias aún mayores sería aún más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experiencia 1 obtuvimos por conclusión que el ángulo es un factor determinante a la hora de lanzar un proyectil puesto que las componentes horizontales y verticales varían considerabl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experiencia 1 pudimos observar que al modificar el ángulo de lanzamiento cambia la trayectoria y el punto de impacto ya que cambian las (componentes) velocidades y la altura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pendencia era esperable, ya que a mayor peso, mayor es la fuerza ejercida por la gravedad la que es opuesta a la fuerza que realiza la cuerda, por lo que mayor es el tiempo en alcanzar el equilibrio de las fuer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valu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56840" y="1600200"/>
            <a:ext cx="73580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30 de Agosto a las 16:15 hrs: ejercici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Será una tarea para la cas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Unidad 1, Unidad 2 y 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Controles escritos: 9/10, 6/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Controles experimentales (en sesión de laboratorio): 21/09, 23/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Ejercicios (durante clase auxiliar): </a:t>
            </a:r>
            <a:r>
              <a:rPr b="0" i="1" lang="es-ES" sz="3200" spc="-1" strike="noStrike">
                <a:solidFill>
                  <a:srgbClr val="ff0000"/>
                </a:solidFill>
                <a:latin typeface="Gill Sans MT"/>
              </a:rPr>
              <a:t>30/08</a:t>
            </a: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, 27/09, 18/10, 15/11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l significado de me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 Rectángulo"/>
          <p:cNvSpPr/>
          <p:nvPr/>
        </p:nvSpPr>
        <p:spPr>
          <a:xfrm>
            <a:off x="360720" y="600084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antidad medida = valor reportado +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8 Elipse"/>
          <p:cNvSpPr/>
          <p:nvPr/>
        </p:nvSpPr>
        <p:spPr>
          <a:xfrm>
            <a:off x="6234120" y="5810400"/>
            <a:ext cx="2297160" cy="904680"/>
          </a:xfrm>
          <a:prstGeom prst="ellipse">
            <a:avLst/>
          </a:prstGeom>
          <a:solidFill>
            <a:srgbClr val="3891a7">
              <a:alpha val="1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5643720" y="2428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"/>
          <p:cNvPicPr/>
          <p:nvPr/>
        </p:nvPicPr>
        <p:blipFill>
          <a:blip r:embed="rId3"/>
          <a:stretch/>
        </p:blipFill>
        <p:spPr>
          <a:xfrm>
            <a:off x="7143840" y="285840"/>
            <a:ext cx="1000080" cy="5263920"/>
          </a:xfrm>
          <a:prstGeom prst="rect">
            <a:avLst/>
          </a:prstGeom>
          <a:ln w="0">
            <a:noFill/>
          </a:ln>
        </p:spPr>
      </p:pic>
      <p:sp>
        <p:nvSpPr>
          <p:cNvPr id="389" name="13 Flecha izquierda y derecha"/>
          <p:cNvSpPr/>
          <p:nvPr/>
        </p:nvSpPr>
        <p:spPr>
          <a:xfrm>
            <a:off x="3571920" y="2928960"/>
            <a:ext cx="1785960" cy="121428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¿Err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4 CuadroTexto"/>
          <p:cNvSpPr/>
          <p:nvPr/>
        </p:nvSpPr>
        <p:spPr>
          <a:xfrm>
            <a:off x="23400" y="5000760"/>
            <a:ext cx="37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ectura del termómetro dig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 mucho menos de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3 CuadroTexto"/>
          <p:cNvSpPr/>
          <p:nvPr/>
        </p:nvSpPr>
        <p:spPr>
          <a:xfrm>
            <a:off x="2946600" y="1357200"/>
            <a:ext cx="36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Error sistem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4 CuadroTexto"/>
          <p:cNvSpPr/>
          <p:nvPr/>
        </p:nvSpPr>
        <p:spPr>
          <a:xfrm>
            <a:off x="3300480" y="550080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Error ale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5 Llamada de flecha izquierda y derecha"/>
          <p:cNvGrpSpPr/>
          <p:nvPr/>
        </p:nvGrpSpPr>
        <p:grpSpPr>
          <a:xfrm>
            <a:off x="3852720" y="1994040"/>
            <a:ext cx="1652760" cy="3443040"/>
            <a:chOff x="3852720" y="1994040"/>
            <a:chExt cx="1652760" cy="3443040"/>
          </a:xfrm>
        </p:grpSpPr>
        <p:pic>
          <p:nvPicPr>
            <p:cNvPr id="395" name="5 Llamada de flecha izquierda y derecha" descr=""/>
            <p:cNvPicPr/>
            <p:nvPr/>
          </p:nvPicPr>
          <p:blipFill>
            <a:blip r:embed="rId1"/>
            <a:stretch/>
          </p:blipFill>
          <p:spPr>
            <a:xfrm>
              <a:off x="3852720" y="1994040"/>
              <a:ext cx="1652760" cy="34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 rot="16200000">
              <a:off x="3855240" y="2891160"/>
              <a:ext cx="164916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10 CuadroTexto"/>
          <p:cNvSpPr/>
          <p:nvPr/>
        </p:nvSpPr>
        <p:spPr>
          <a:xfrm>
            <a:off x="1738440" y="300024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inherentes y que van asociados a cualquier cantidad que se m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rror sistemá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0 CuadroTexto"/>
          <p:cNvSpPr/>
          <p:nvPr/>
        </p:nvSpPr>
        <p:spPr>
          <a:xfrm>
            <a:off x="1143000" y="1357200"/>
            <a:ext cx="7705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rrores sistemáticos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: aquellos que se producen siempre de igual modo en una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jemplo típico: el instrumento que se usó para medir tiene algú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La balanza digital está descalib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Puse mal la hora d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La persona que mide siempre comete el mismo error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rror de paral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3 CuadroTexto"/>
          <p:cNvSpPr/>
          <p:nvPr/>
        </p:nvSpPr>
        <p:spPr>
          <a:xfrm>
            <a:off x="1143000" y="5286240"/>
            <a:ext cx="7715160" cy="137376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se hacen muchas mediciones este error siempre va de alguna manera propagarse en los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6715080" y="2928960"/>
            <a:ext cx="2190960" cy="1238400"/>
          </a:xfrm>
          <a:prstGeom prst="rect">
            <a:avLst/>
          </a:prstGeom>
          <a:ln w="0">
            <a:noFill/>
          </a:ln>
        </p:spPr>
      </p:pic>
      <p:pic>
        <p:nvPicPr>
          <p:cNvPr id="402" name="5 CuadroTexto" descr=""/>
          <p:cNvPicPr/>
          <p:nvPr/>
        </p:nvPicPr>
        <p:blipFill>
          <a:blip r:embed="rId2"/>
          <a:stretch/>
        </p:blipFill>
        <p:spPr>
          <a:xfrm>
            <a:off x="152280" y="420840"/>
            <a:ext cx="94464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rror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10 CuadroTexto"/>
          <p:cNvSpPr/>
          <p:nvPr/>
        </p:nvSpPr>
        <p:spPr>
          <a:xfrm>
            <a:off x="1152360" y="1274760"/>
            <a:ext cx="77058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rrores aleatorios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: son eventos fortuitos, inevitables y de difíci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Entre más precisión tiene mi instrumento más probable es que dos mediciones sucesivas no conlleven al mismo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sistema no midió porque hubo caída de vol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Vibraciones: medidor de masa de microg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3 CuadroTexto"/>
          <p:cNvSpPr/>
          <p:nvPr/>
        </p:nvSpPr>
        <p:spPr>
          <a:xfrm>
            <a:off x="1071720" y="5429160"/>
            <a:ext cx="7786440" cy="106884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 se hacen muchas mediciones los errores aleatorios se cance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4 CuadroTexto" descr=""/>
          <p:cNvPicPr/>
          <p:nvPr/>
        </p:nvPicPr>
        <p:blipFill>
          <a:blip r:embed="rId1"/>
          <a:stretch/>
        </p:blipFill>
        <p:spPr>
          <a:xfrm>
            <a:off x="219240" y="208080"/>
            <a:ext cx="95076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8 CuadroTexto"/>
          <p:cNvSpPr/>
          <p:nvPr/>
        </p:nvSpPr>
        <p:spPr>
          <a:xfrm>
            <a:off x="1000080" y="0"/>
            <a:ext cx="81439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Arial"/>
              </a:rPr>
              <a:t>Más de una res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Arial"/>
              </a:rPr>
              <a:t>Dispersión de valores med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4 CuadroTexto"/>
          <p:cNvSpPr/>
          <p:nvPr/>
        </p:nvSpPr>
        <p:spPr>
          <a:xfrm>
            <a:off x="1143000" y="142884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el error aleatorio es tan pequeño que no lo detectamos entonces no nos preocupam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r mi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ando cocinamos: pizca, 1 taz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ciones científicas: buscamos tener “confiabilidad” en nuestr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erminación de una cantidad depende de muchas otros valores que a su vez también tiene u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: quiero saber cuando se disuelven 10 g de sal en 100 ml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antidad a determinar es una colec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: saber cuanto es la vida media de una ampol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5 Flecha abajo"/>
          <p:cNvSpPr/>
          <p:nvPr/>
        </p:nvSpPr>
        <p:spPr>
          <a:xfrm>
            <a:off x="4143240" y="3786120"/>
            <a:ext cx="78588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6 CuadroTexto" descr=""/>
          <p:cNvPicPr/>
          <p:nvPr/>
        </p:nvPicPr>
        <p:blipFill>
          <a:blip r:embed="rId1"/>
          <a:stretch/>
        </p:blipFill>
        <p:spPr>
          <a:xfrm>
            <a:off x="152280" y="212760"/>
            <a:ext cx="94464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CuadroTexto"/>
          <p:cNvSpPr/>
          <p:nvPr/>
        </p:nvSpPr>
        <p:spPr>
          <a:xfrm>
            <a:off x="928800" y="114300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uestr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s el elemento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Población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no se refiere a personas necesariamente, pero al universo completo de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uestras similares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que estoy analiz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edian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s el número que se encuentra en medio de una lista de núm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ang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diferencia entre el máximo y mínimo valor del conjunto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10-08-23T21:22:15Z</dcterms:modified>
  <cp:revision>238</cp:revision>
  <dc:subject/>
  <dc:title>Diapositiva 1</dc:title>
</cp:coreProperties>
</file>