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-36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8760" cy="34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BAD867-9CE0-4B38-B397-F74D7070D6A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B617-8158-4038-B140-0EEB7B1A8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7E46-C28F-411E-88BA-09DC0AC47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D72F-0B4A-4651-A224-3C90BE105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8D39-F003-49ED-9339-D0BF32512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FBAD-6A41-41DF-A35B-C9612073B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3CD8-7D85-4912-9076-9C5286922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D04D-57C2-42DD-9838-D6306D07D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A77C-A44A-48B7-8A80-A43833BEC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C583-63F3-4747-9D69-28C9E5A9C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048D-84EF-43AF-943A-1A3749DAB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2114-798C-482E-8BA5-A78B79403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1893-D6E2-4F19-80A8-2997EF338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37288E-4CCF-4991-BED7-55E64E0BEAC5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troducción a Matlab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terial elaborado por el profesor Juan Alvarez del DCC y utilizado como material docente en el curso CC100 en 2007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utilizado con autorización para el curso Sistemas Newtonia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x=linspace(-pi,pi,100); plot(x,sin(x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urier New"/>
              </a:rPr>
              <a:t>title(‘seno’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urier New"/>
              </a:rPr>
              <a:t>xlabel(‘…’)    ylabel(‘…’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urier New"/>
              </a:rPr>
              <a:t>plot(x,y,’r’) %color r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plot(x,y,’k:’); %negro y pun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urier New"/>
              </a:rPr>
              <a:t>plot(x,y,’…’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Various line types, plot symbols and colors may be obtained 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6240" indent="-336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LOT(X,Y,S) where S is a character string made from one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6240" indent="-336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rom any or all the following 3 column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6240" indent="-336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6240" indent="-336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     blue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.     point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-     sol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6240" indent="-336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     green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o     circle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:     dot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6240" indent="-336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     red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x     x-mark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-.    dashdo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6240" indent="-336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     cyan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+     plus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--    dashed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6240" indent="-336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     magenta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*     star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none)  no 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6240" indent="-336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y     yellow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     squ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6240" indent="-336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k     black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     diam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6240" indent="-336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v     triangle (dow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6240" indent="-336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^     triangle (u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6240" indent="-336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     triangle (lef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6240" indent="-336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gt;     triangle (righ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6240" indent="-336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     penta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6240" indent="-336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     hexa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6240" indent="-336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6240" indent="-336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or example, PLOT(X,Y,'c+:') plots a cyan dotted line with a plu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6240" indent="-336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t each data point; PLOT(X,Y,'bd') plots blue diamond at each dat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6240" indent="-336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oint but does not draw any lin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plot(linspace(-pi,pi,30),sin(x),'b:o'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unción gráf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507520" cy="48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grafico(a,b,n): grafica f en n ptos de [a,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grafico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(a,b,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x=linspace(a,b,n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y=f(x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color=input('''color''? '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marca=input('''marca de puntos''? '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s=sprintf('%s%s',color,marc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plot(x,y,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title(input('''titulo''? '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xlabel(input('''eje x''? '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ylabel(input('''eje y''? '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68400"/>
            <a:ext cx="82296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 x=linspace(-pi,pi,20);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 plot(x,sin(x),'r--*',x,cos(x),'b--o')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 legend('seno','coseno'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68400"/>
            <a:ext cx="82296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hold on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plot(x,sin(x),'r--*')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plot(x,cos(x),'b--o')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legend('seno','coseno'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omputación numérica: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rea bajo la curv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79280" y="1557360"/>
            <a:ext cx="8785440" cy="60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%area(a,b,n): area de f en [a,b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%usando n p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function r = area(a,b,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x=linspace(a,b,n-1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y=f(x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suma=sum(y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r=(b-a)/(n-1)*suma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xis([-pi,pi,-1,1]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subplot(2,1,1), plot(x,sin(x),'r--*'), title('seno')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subplot(2,1,2), plot(x,cos(x),'r--*'), title('coseno'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&gt;&gt; rectangle('Curvature',[1 1]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&gt;&gt; help rectang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   Create rectangle, rounded-rectangle, or ellip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 adds a default rectangle to the current ax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('Position', [x y w h]) adds a rectangle at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pecified posi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('Curvature', [0 0], ...) creates a rectang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('Curvature', [1 1], ...) creates an ellip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('Curvature', [x y], ...) creates a rectangle w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ounded corners where x and y are between 0 and 1 and repres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normalized amount of curvature.  Horizontal curvature 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s the fraction of the width of the position rectangle which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urved.  Vertical curvature (y) is the fraction of the he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f the position rectangle which is curv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[x y z]=sphere(30);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mesh(x,y,z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urf(x,y,z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valuación de una fun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%f(x): f(x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function y=f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y=sin(x);  %ejemp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&gt;&gt; area(0,pi,2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ans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1.88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274680"/>
            <a:ext cx="814716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aíz por búsqueda bina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0920" y="1125360"/>
            <a:ext cx="889308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raiz(a,b,eps): raiz de f en [a,b] c/prec 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unction r=raiz(a,b,e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while 0=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x=(a+b)/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f b-a &lt;= eps r=x; return; 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y=f(x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f signo(y) == signo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a=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b=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unción sig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1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signo(x) devuelve -1, 0 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function r=signo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f x&lt;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 = -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lseif x&gt;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 = 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 = 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&gt;&gt; raiz(2\pi,2\3*pi,0.000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ans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3.14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aíz por búsqueda recursi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686800" cy="51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%raiz(a,b,eps): raiz de f en [a,b] c/prec 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7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unction r=raiz(a,b,e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7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x=(a+b)/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7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f b-a &lt;= 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7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=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7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7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7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y=f(x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7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f signo(y) == signo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7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=raiz(x,b,ep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7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7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=raiz(a,x,ep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7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7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scritura” formateada a un str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S=sprintf(formato,X,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scribe el dato X en el string S bajo el control del string form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Ejempl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 s=sprintf('x=%g',p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s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x=3.1415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No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%g se reempaza por el valor de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%s se usa para strings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78920" y="1557360"/>
            <a:ext cx="871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%Jalisco: nunca pier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n=input('n°? '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disp( sprintf('gano yo con %g',n+1) 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&gt;&gt; Jalis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n°?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gano yo con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jemplo con str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a=rand(2,3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[filas cols]=size(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for i=1:fi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linea=sprintf('fila %g ',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for j=1:c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linea=sprintf('%s%g ',linea, a(i,j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line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fila 1: 0.921813 0.176266 0.93547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fila 2: 0.738207 0.405706 0.91690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rofesor</dc:creator>
  <dc:description/>
  <dc:language>en-US</dc:language>
  <cp:lastModifiedBy>jalvarez</cp:lastModifiedBy>
  <cp:revision>0</cp:revision>
  <dc:subject/>
  <dc:title>Diapositiva 1</dc:title>
</cp:coreProperties>
</file>