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7011E-220C-44BF-924A-0664E32880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AAEB-F4BB-497B-B794-58ABC0C11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D95B-375C-45CD-A32F-300A049E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E4C1-422C-4573-80A4-C73D09C38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0DC3-5808-4BD8-AE13-6106A4A22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1CEB-0BBF-40CF-9C24-659F5E7A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0EBA-53A5-4D3F-888E-A1848293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1B26-E0D0-4F91-98F0-51581FD0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A7EE-B14E-4137-8C95-B59F373C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C109-3460-470C-8179-E79E7138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43A6-BBAB-4C11-84AB-FB45682A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9DAE-29EB-4482-9195-ECA18D36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6EDD-9600-4A45-A1C5-E00B564A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5E5B9-E169-401D-84CB-80A0134C0AD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title(‘seno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urier New"/>
              </a:rPr>
              <a:t>xlabel(‘…’)    ylabel(‘…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ot(linspace(-pi,pi,30),sin(x),'b:o'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grafico(a,b,n): grafica f en n ptos de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rafico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linspace(a,b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lor=input('''color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rca=input('''marca de puntos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=sprintf('%s%s',color,ma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lot(x,y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itle(input('''titulo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label(input('''eje x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label(input('''eje y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utación numérica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a bajo la cur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60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=linspace(a,b,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uma=sum(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=(b-a)/(n-1)*su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help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  Create rectangle, rounded-rectangle, or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adds a default rectangle to the current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Position', [x y w h]) adds a rectangle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e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0 0], ...) creates a rect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1 1], ...) creates an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x y], ...) creates a rectang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ed corners where x and y are between 0 and 1 and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malized amount of curvature.  Horizontal curvatur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fraction of the width of the position rectangle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ved.  Vertical curvature (y) is the fraction of th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position rectangle which is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bi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while 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 r=x; return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si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if 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&gt; raiz(2\pi,2\3*pi,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cribe el dato X en el string S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 s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g se reemp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gt;&gt; Jal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°?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gano yo c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fila %g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esor</dc:creator>
  <dc:description/>
  <dc:language>en-US</dc:language>
  <cp:lastModifiedBy>jalvarez</cp:lastModifiedBy>
  <cp:revision>0</cp:revision>
  <dc:subject/>
  <dc:title>Diapositiva 1</dc:title>
</cp:coreProperties>
</file>