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E4F8E3-F84A-4EEB-B373-C920081AD0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F956-13F7-4544-97CC-A2DF45AC6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E682-64C8-4C5B-B627-34D48457E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EAC2-A742-45B5-94E3-4D82A0043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7085-4E8D-42D3-BC6E-E0D50EE29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84C2-B87F-459E-9A02-F52CD831A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3D8E-7BFA-4608-9DB3-41780FE8B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D1AF-38A4-4D2C-8CA8-188AF1252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2067-A1FF-4D06-AD65-AF93EF148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CAE2-2F1B-4523-A2D2-2A8904FD3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69B9-9997-45E1-A9B1-85EF2843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FA20-66AA-44BD-8B0F-1B8B3A87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9696-C933-430B-872F-B2A54B0F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C96ED4-61A4-4546-A2C6-C054F65E3C3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ción a Matlab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 elaborado por el profesor Juan Alvarez del DCC y utilizado como material docente en el curso CC100 en 2007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tilizado con autorización para el curso Sistemas Newton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peradores “punto a punto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457200" y="1600200"/>
            <a:ext cx="8231040" cy="4525920"/>
            <a:chOff x="457200" y="1600200"/>
            <a:chExt cx="8231040" cy="4525920"/>
          </a:xfrm>
        </p:grpSpPr>
        <p:sp>
          <p:nvSpPr>
            <p:cNvPr id="116" name=""/>
            <p:cNvSpPr/>
            <p:nvPr/>
          </p:nvSpPr>
          <p:spPr>
            <a:xfrm>
              <a:off x="66294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\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5720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y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x .\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5146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/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.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57200" y="49942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6294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720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5146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7200" y="3863880"/>
              <a:ext cx="2057400" cy="11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6294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(i,j)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y(i,j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720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146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7200" y="273204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6294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xpan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720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jemp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146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1600200"/>
              <a:ext cx="2057400" cy="11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" y="27320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57200" y="38638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7200" y="612468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57200" y="1600200"/>
              <a:ext cx="1440" cy="452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146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5720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629400" y="1600200"/>
              <a:ext cx="1440" cy="452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686800" y="1600200"/>
              <a:ext cx="1440" cy="452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57200" y="499428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= 2*ones(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b=[0,1;2,3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a .*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  %multiplicación elemento a ele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.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 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4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a .\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   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0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0000 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.5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if/e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 MAT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2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expresión3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…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otros else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%op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if/else: 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x=ra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x&lt;1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piedra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if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x&lt;2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papel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‘tijeras’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p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539640" y="333360"/>
            <a:ext cx="8220240" cy="6135840"/>
            <a:chOff x="539640" y="333360"/>
            <a:chExt cx="8220240" cy="6135840"/>
          </a:xfrm>
        </p:grpSpPr>
        <p:sp>
          <p:nvSpPr>
            <p:cNvPr id="149" name=""/>
            <p:cNvSpPr/>
            <p:nvPr/>
          </p:nvSpPr>
          <p:spPr>
            <a:xfrm>
              <a:off x="6659640" y="592452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279600" y="592452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39640" y="592452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sig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659640" y="538308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79600" y="538308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9640" y="538308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59640" y="484020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279600" y="484020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39640" y="484020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659640" y="4299120"/>
              <a:ext cx="20984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79600" y="4299120"/>
              <a:ext cx="3380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&lt;  &lt;=  &gt;  &gt;=  ==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9640" y="4299120"/>
              <a:ext cx="27399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relacion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659640" y="3755880"/>
              <a:ext cx="20984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79600" y="3755880"/>
              <a:ext cx="338004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39640" y="3755880"/>
              <a:ext cx="2739960" cy="54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dor 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659640" y="3214800"/>
              <a:ext cx="20984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279600" y="3214800"/>
              <a:ext cx="338004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  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39640" y="3214800"/>
              <a:ext cx="273996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uma, res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659640" y="267192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279600" y="267192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*   /   \   .*   ./   .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39640" y="267192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mult, 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659640" y="213048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79600" y="213048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  -  </a:t>
              </a:r>
              <a:r>
                <a:rPr b="1" lang="en-GB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 (negació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39640" y="213048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unario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659640" y="1587600"/>
              <a:ext cx="20984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279600" y="1587600"/>
              <a:ext cx="33800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  . 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39640" y="1587600"/>
              <a:ext cx="273996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659640" y="1046160"/>
              <a:ext cx="20984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79600" y="1046160"/>
              <a:ext cx="338004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  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39640" y="1046160"/>
              <a:ext cx="27399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expresión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659640" y="333360"/>
              <a:ext cx="20984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priorid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279600" y="333360"/>
              <a:ext cx="33800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9640" y="333360"/>
              <a:ext cx="273996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2800" spc="-1" strike="noStrike">
                  <a:solidFill>
                    <a:srgbClr val="000000"/>
                  </a:solidFill>
                  <a:latin typeface="Arial"/>
                </a:rPr>
                <a:t>Operado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9640" y="333360"/>
              <a:ext cx="8218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9640" y="104616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39640" y="158760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39640" y="213048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9640" y="26719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39640" y="321480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9640" y="375588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9640" y="42991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9640" y="484020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39640" y="5383080"/>
              <a:ext cx="82184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9640" y="5924520"/>
              <a:ext cx="82184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9640" y="6467400"/>
              <a:ext cx="82184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39640" y="333360"/>
              <a:ext cx="1800" cy="613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279600" y="333360"/>
              <a:ext cx="1800" cy="613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659640" y="333360"/>
              <a:ext cx="1440" cy="613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758080" y="333360"/>
              <a:ext cx="1800" cy="6134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trucción w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expresión 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 instruccione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i=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&lt;=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=i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196560"/>
            <a:ext cx="79200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Instrucción f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1:10 %for variable=v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instru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1: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i=1:length(a)  %largo de arreg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7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03040"/>
            <a:ext cx="8075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ript M-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vo con instrucciones o comandos MATL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mbre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 crea con editor de MATLAB (u ot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Jalisco.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=input(‘nº?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‘te gano con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n+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jecució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Jali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nº?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e gano 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cript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424720" cy="56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%CuentaRegresiva.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for i=10:-1: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pause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&gt;&gt;CuentaRegres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use(n): continúa después de n segun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use: continúa cuando usuario presiona tec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es equivalente a waitforbuttonpr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39400"/>
            <a:ext cx="814716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chivos con funciones: M-f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94920" y="907920"/>
            <a:ext cx="8497800" cy="614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y=cuadrado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=x.^2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cuadrado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cuadrado(0: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6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help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uadrado(x): calcula x al cuad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3940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ATLA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764640"/>
            <a:ext cx="8435880" cy="59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nguaje interpretado: instrucciones se ejecutan (interpretan) de inmedia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x = [1 2 3 ; 4 5 6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po de dato fundamental: arreglo de reales de dos dimensiones (escalar es un arreglo de 1x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i = 10  %nombre a la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ones con varios 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vo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[ a b ] = 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f23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ones internas (local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%f23(x): calcula x al cuadrado y al cu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nction[xx,xxx] = f23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x = 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xx = cubo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unction y=cubo(x) %visible en arch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x.</a:t>
            </a:r>
            <a:r>
              <a:rPr b="0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3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polinom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7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%pol(A,X): evalua pol de coef A en arg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nction y=pol(a,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onentes=0:length(a)-1;  %0 1 … n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otencias=x.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exponentes;  %x ^0, …,x ^(n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=sum(a.*potencia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gt;&gt;pol(1:3, 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s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ices de ecuación de 2º gr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%raices(a,b,c): raíces de ax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x+bx+c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ction[r1,r2] = raices(a,b,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a==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rror(‘no es de 2º grado’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=b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^2 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*a*c; %discrimin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f d &lt;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rror(‘raices imaginarias’) %abo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lseif d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arning(‘raices siguales) %muestra mens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1=(-b +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2=(-b - sqrt(d))/(2*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abar y leer arreg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%graba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=zeros(2,10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(1,:)=linspace(0,2*pi,100);%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os(2,:)=sin(datos(1,:)); %senos de ang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ave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%leer arreg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ad da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x=datos(1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=datos(2,: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ot(x,y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spue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 %arreglo de una dimen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;  %suprime “eco” de la in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x=[1 2 3 4 5 6]; disp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reglos(“Vectores”): inicializ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ones(1,5); disp(a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1 fila de 5 columnas con u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zeros(1,5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 1 fila de 5 columnas con 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1: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1:2:9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primero:incremento:últi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3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linspace(0,1,5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%primero, último, nº pu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25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750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.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a=rand(1,5) %1 fila de 5 cols c/valores al azar en [0,1[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     0.xxxx     0.xxxx     0.xxxx     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128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atrices”: inicial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9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rand(2,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0.xxxx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zeros(2,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ación si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a = [5 4 3 2 1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s =         “variable por omisió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5)  % a(e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 = [1 2  3 ; 4 5 6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&gt;&gt; a(2,3)    % arreglo(nºfila,nº colum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xación de partes (slic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a = [1 2 ; 3 4 ; 5 6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b=a(:,2)   %column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c=a(1, : )  %fil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&gt;&gt; d =a(1:2,1)  % primeras 2 filas de col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Operadores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(para matrices y escalare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57200" y="1600200"/>
            <a:ext cx="8231040" cy="4527720"/>
            <a:chOff x="457200" y="1600200"/>
            <a:chExt cx="8231040" cy="4527720"/>
          </a:xfrm>
        </p:grpSpPr>
        <p:sp>
          <p:nvSpPr>
            <p:cNvPr id="66" name=""/>
            <p:cNvSpPr/>
            <p:nvPr/>
          </p:nvSpPr>
          <p:spPr>
            <a:xfrm>
              <a:off x="66294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=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5146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7200" y="556092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asign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6294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5720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-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5146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57200" y="499428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res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6294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5720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 + 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5146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57200" y="44290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um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6294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5720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/y  =  y\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5146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/  \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" y="386388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div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6294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5720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x*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5146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" y="329724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6294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5720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5146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 Unicode MS"/>
                  <a:ea typeface="Arial Unicode MS"/>
                </a:rPr>
                <a:t>^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" y="273204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otenc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6294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5720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1+2)/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5146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(…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57200" y="2165400"/>
              <a:ext cx="20574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xp intern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6294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Priorida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Ejemp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5146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57200" y="1600200"/>
              <a:ext cx="2057400" cy="5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57200" y="1600200"/>
              <a:ext cx="822960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57200" y="216540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57200" y="273204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57200" y="329724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57200" y="38638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57200" y="442908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57200" y="4994280"/>
              <a:ext cx="82296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7200" y="5560920"/>
              <a:ext cx="822960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57200" y="6126120"/>
              <a:ext cx="822960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57200" y="1600200"/>
              <a:ext cx="1440" cy="452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5146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720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29400" y="1600200"/>
              <a:ext cx="1440" cy="452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686800" y="1600200"/>
              <a:ext cx="1440" cy="452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 = 2 * ones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b=a/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0.5000   0.5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a*b  %multiplicación de matrices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alvarez</dc:creator>
  <dc:description/>
  <dc:language>en-US</dc:language>
  <cp:lastModifiedBy>jalvarez</cp:lastModifiedBy>
  <cp:revision>0</cp:revision>
  <dc:subject/>
  <dc:title>Programación en MATLAB</dc:title>
</cp:coreProperties>
</file>