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8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7.wmf" ContentType="image/x-wmf"/>
  <Override PartName="/ppt/media/image17.png" ContentType="image/png"/>
  <Override PartName="/ppt/media/image31.wmf" ContentType="image/x-wmf"/>
  <Override PartName="/ppt/media/image8.jpeg" ContentType="image/jpeg"/>
  <Override PartName="/ppt/media/image33.wmf" ContentType="image/x-wmf"/>
  <Override PartName="/ppt/media/image29.jpeg" ContentType="image/jpeg"/>
  <Override PartName="/ppt/media/image32.wmf" ContentType="image/x-wmf"/>
  <Override PartName="/ppt/media/image36.wmf" ContentType="image/x-wmf"/>
  <Override PartName="/ppt/media/image38.wmf" ContentType="image/x-wmf"/>
  <Override PartName="/ppt/media/image12.wmf" ContentType="image/x-wmf"/>
  <Override PartName="/ppt/media/image6.jpeg" ContentType="image/jpeg"/>
  <Override PartName="/ppt/media/image35.wmf" ContentType="image/x-wmf"/>
  <Override PartName="/ppt/media/image5.wmf" ContentType="image/x-wmf"/>
  <Override PartName="/ppt/media/image27.jpeg" ContentType="image/jpeg"/>
  <Override PartName="/ppt/media/image10.jpeg" ContentType="image/jpeg"/>
  <Override PartName="/ppt/media/image14.png" ContentType="image/png"/>
  <Override PartName="/ppt/media/image34.wmf" ContentType="image/x-wmf"/>
  <Override PartName="/ppt/media/image4.wmf" ContentType="image/x-wmf"/>
  <Override PartName="/ppt/media/image3.png" ContentType="image/png"/>
  <Override PartName="/ppt/media/image23.jpeg" ContentType="image/jpeg"/>
  <Override PartName="/ppt/media/image25.wmf" ContentType="image/x-wmf"/>
  <Override PartName="/ppt/media/image1.png" ContentType="image/pn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9BC-3C35-42BA-9691-AD85C077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A38-C31F-46BA-A652-D762A99D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490-4C97-4FD4-A562-F1FC553A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F54-94F4-4790-A354-D2D63614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A8B-5753-4B3A-9406-416A26D7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825-FCE8-44F2-91ED-445FBA03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2D6-D913-4014-9D77-DBC984B0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AF1-2076-4281-8646-1DA66D6A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7C9-875D-4975-845E-F9A3E6B9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EC3-9410-4883-9FE3-8D8B81D7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18E-ACF6-4437-8623-3A4C465D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6F64-FE50-44FB-BE83-548D9A03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F193-4D65-4A3C-B346-AD37EF177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980720" y="213336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L 67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TALLER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N SISTEMAS DE POTENCI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rofesor: Ing. Augusto Lucero Al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89080"/>
            <a:ext cx="3581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ACULTAD DE CIENCIAS FISICAS Y MATEMA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SCUELA DE INGENIERIA Y CIENC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EPARTAMENTO DE INGENIERIA ELECT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840" y="-60480"/>
            <a:ext cx="920880" cy="1355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486400" y="152280"/>
            <a:ext cx="243828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8305920" y="303120"/>
          <a:ext cx="47628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303120"/>
                    <a:ext cx="4762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716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3856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motor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533520"/>
            <a:ext cx="6600960" cy="2433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1000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li21" descr=""/>
          <p:cNvPicPr/>
          <p:nvPr/>
        </p:nvPicPr>
        <p:blipFill>
          <a:blip r:embed="rId2"/>
          <a:srcRect l="3627" t="7747" r="11180" b="15604"/>
          <a:stretch/>
        </p:blipFill>
        <p:spPr>
          <a:xfrm>
            <a:off x="304920" y="3581280"/>
            <a:ext cx="3124080" cy="2563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962520" y="4210200"/>
            <a:ext cx="48862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03280" y="533520"/>
            <a:ext cx="6583320" cy="2895120"/>
            <a:chOff x="503280" y="533520"/>
            <a:chExt cx="6583320" cy="2895120"/>
          </a:xfrm>
        </p:grpSpPr>
        <p:sp>
          <p:nvSpPr>
            <p:cNvPr id="82" name=""/>
            <p:cNvSpPr/>
            <p:nvPr/>
          </p:nvSpPr>
          <p:spPr>
            <a:xfrm>
              <a:off x="1080720" y="53352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l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52720" y="121932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52720" y="93924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y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44720" y="1821240"/>
              <a:ext cx="64152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D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52720" y="180684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1880" y="3051000"/>
              <a:ext cx="57744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l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545720" y="657360"/>
              <a:ext cx="1847880" cy="2645280"/>
              <a:chOff x="4545720" y="657360"/>
              <a:chExt cx="1847880" cy="2645280"/>
            </a:xfrm>
          </p:grpSpPr>
          <p:sp>
            <p:nvSpPr>
              <p:cNvPr id="89" name=""/>
              <p:cNvSpPr/>
              <p:nvPr/>
            </p:nvSpPr>
            <p:spPr>
              <a:xfrm>
                <a:off x="4545720" y="1035000"/>
                <a:ext cx="1847880" cy="1889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53520" y="1272960"/>
                <a:ext cx="1270440" cy="138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84640" y="1510920"/>
                <a:ext cx="808200" cy="88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82440" y="657360"/>
                <a:ext cx="0" cy="264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981360" y="1035360"/>
              <a:ext cx="2329920" cy="1889280"/>
              <a:chOff x="981360" y="1035360"/>
              <a:chExt cx="2329920" cy="1889280"/>
            </a:xfrm>
          </p:grpSpPr>
          <p:sp>
            <p:nvSpPr>
              <p:cNvPr id="94" name=""/>
              <p:cNvSpPr/>
              <p:nvPr/>
            </p:nvSpPr>
            <p:spPr>
              <a:xfrm flipH="1" flipV="1" rot="21183600">
                <a:off x="1054080" y="246456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rot="416400">
                <a:off x="990000" y="130104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 rot="416400">
                <a:off x="2466360" y="246456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183600">
                <a:off x="2494440" y="129744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1542240" y="1035360"/>
                <a:ext cx="1270440" cy="1889280"/>
                <a:chOff x="1542240" y="1035360"/>
                <a:chExt cx="1270440" cy="18892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42240" y="1035360"/>
                  <a:ext cx="1270440" cy="188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42240" y="128700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542240" y="153900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542240" y="242064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42240" y="267264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>
              <a:off x="503280" y="1973160"/>
              <a:ext cx="6583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42600" y="317700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3040" y="317700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1160" y="323280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42600" y="323280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83480" y="103716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3480" y="127512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83480" y="151308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83480" y="238104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93600" y="103716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3600" y="292680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09160" y="1051200"/>
              <a:ext cx="0" cy="18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86080" y="813240"/>
              <a:ext cx="0" cy="18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2600" y="81324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3680" y="81324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869040"/>
              <a:ext cx="57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09400" y="145728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122000" y="96732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122000" y="232488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122000" y="121932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432120" y="9813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457680" y="28569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491480" y="31647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748960" y="31928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939600" y="8132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478520" y="8132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00720" y="3504960"/>
            <a:ext cx="4033440" cy="2590200"/>
            <a:chOff x="4500720" y="3504960"/>
            <a:chExt cx="4033440" cy="2590200"/>
          </a:xfrm>
        </p:grpSpPr>
        <p:grpSp>
          <p:nvGrpSpPr>
            <p:cNvPr id="131" name=""/>
            <p:cNvGrpSpPr/>
            <p:nvPr/>
          </p:nvGrpSpPr>
          <p:grpSpPr>
            <a:xfrm>
              <a:off x="4500720" y="3504960"/>
              <a:ext cx="4033440" cy="2590200"/>
              <a:chOff x="4500720" y="3504960"/>
              <a:chExt cx="4033440" cy="259020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4500720" y="3504960"/>
                <a:ext cx="2453040" cy="2590200"/>
                <a:chOff x="4500720" y="3504960"/>
                <a:chExt cx="2453040" cy="2590200"/>
              </a:xfrm>
            </p:grpSpPr>
            <p:sp>
              <p:nvSpPr>
                <p:cNvPr id="133" name=""/>
                <p:cNvSpPr/>
                <p:nvPr/>
              </p:nvSpPr>
              <p:spPr>
                <a:xfrm flipV="1">
                  <a:off x="6258240" y="3504960"/>
                  <a:ext cx="568800" cy="64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4500720" y="3619440"/>
                  <a:ext cx="2453040" cy="2475720"/>
                  <a:chOff x="4500720" y="3619440"/>
                  <a:chExt cx="2453040" cy="247572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5132880" y="36194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5082480" y="366228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019120" y="369072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968360" y="37479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917960" y="37911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867200" y="384840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816800" y="38912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766040" y="393408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715640" y="399132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664880" y="40341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601880" y="40629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551120" y="410580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500720" y="41630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687200" y="4367160"/>
                    <a:ext cx="1460160" cy="151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878360" y="4592520"/>
                    <a:ext cx="1025640" cy="1059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" name=""/>
                <p:cNvSpPr/>
                <p:nvPr/>
              </p:nvSpPr>
              <p:spPr>
                <a:xfrm>
                  <a:off x="5221080" y="4936680"/>
                  <a:ext cx="341280" cy="38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829400" y="5122080"/>
                  <a:ext cx="568800" cy="64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7168680" y="5566320"/>
                <a:ext cx="1365480" cy="51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BankGothic Md BT"/>
                  </a:rPr>
                  <a:t>N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BankGothic Md BT"/>
                  </a:rPr>
                  <a:t>d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BankGothic Md BT"/>
                  </a:rPr>
                  <a:t> : 2 ductos de ventil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6485400" y="4664520"/>
                <a:ext cx="1365480" cy="90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6713280" y="4406760"/>
                <a:ext cx="1137960" cy="11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H="1">
              <a:off x="4779000" y="3733200"/>
              <a:ext cx="798840" cy="66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31948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194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motor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762120"/>
            <a:ext cx="4647960" cy="2863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7180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motor%20final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40388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6320" y="228600"/>
            <a:ext cx="8762760" cy="6100920"/>
            <a:chOff x="76320" y="228600"/>
            <a:chExt cx="8762760" cy="61009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76320" y="228600"/>
              <a:ext cx="8762760" cy="6100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"/>
            <p:cNvSpPr/>
            <p:nvPr/>
          </p:nvSpPr>
          <p:spPr>
            <a:xfrm>
              <a:off x="6248160" y="1757520"/>
              <a:ext cx="1447560" cy="73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aula de ardilla en ranuras r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14040" y="995400"/>
              <a:ext cx="14475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úcleo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360" y="1011240"/>
              <a:ext cx="1447560" cy="52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obinado en  las ranu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320" y="2409840"/>
              <a:ext cx="12189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ntrehier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560" y="5659560"/>
              <a:ext cx="2742840" cy="52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ISTA AXIAL DE UN MOTOR DE INDU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280" y="1833480"/>
              <a:ext cx="144720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úcleo r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685800" y="318960"/>
            <a:ext cx="7696080" cy="6462720"/>
            <a:chOff x="685800" y="318960"/>
            <a:chExt cx="7696080" cy="646272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685800" y="318960"/>
              <a:ext cx="7696080" cy="64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819520" y="62294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CCIÓN EST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86600" y="4540320"/>
              <a:ext cx="838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86600" y="4495680"/>
              <a:ext cx="838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58160" y="1371600"/>
              <a:ext cx="106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anu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24480" y="501480"/>
              <a:ext cx="10670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u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0" y="2805120"/>
              <a:ext cx="10666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ertura entre d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929628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907280" y="616320"/>
            <a:ext cx="5495040" cy="5097240"/>
            <a:chOff x="1907280" y="616320"/>
            <a:chExt cx="5495040" cy="5097240"/>
          </a:xfrm>
        </p:grpSpPr>
        <p:grpSp>
          <p:nvGrpSpPr>
            <p:cNvPr id="179" name=""/>
            <p:cNvGrpSpPr/>
            <p:nvPr/>
          </p:nvGrpSpPr>
          <p:grpSpPr>
            <a:xfrm>
              <a:off x="2361960" y="1765080"/>
              <a:ext cx="4661280" cy="2171880"/>
              <a:chOff x="2361960" y="1765080"/>
              <a:chExt cx="4661280" cy="21718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081320" y="1765080"/>
                <a:ext cx="1028520" cy="1942920"/>
                <a:chOff x="4081320" y="1765080"/>
                <a:chExt cx="1028520" cy="19429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081320" y="176508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081320" y="1765080"/>
                  <a:ext cx="22860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309920" y="3365280"/>
                  <a:ext cx="34272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652640" y="347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309560" y="1765080"/>
                <a:ext cx="1028520" cy="1942920"/>
                <a:chOff x="4309560" y="1765080"/>
                <a:chExt cx="1028520" cy="194292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309560" y="176508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5109480" y="1765080"/>
                  <a:ext cx="22860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4766760" y="3365280"/>
                  <a:ext cx="34272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766760" y="347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361960" y="1911960"/>
                <a:ext cx="1227600" cy="2025000"/>
                <a:chOff x="2361960" y="1911960"/>
                <a:chExt cx="1227600" cy="2025000"/>
              </a:xfrm>
            </p:grpSpPr>
            <p:sp>
              <p:nvSpPr>
                <p:cNvPr id="191" name=""/>
                <p:cNvSpPr/>
                <p:nvPr/>
              </p:nvSpPr>
              <p:spPr>
                <a:xfrm flipH="1">
                  <a:off x="2361960" y="1911960"/>
                  <a:ext cx="98496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346920" y="1911960"/>
                  <a:ext cx="242640" cy="15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>
                  <a:off x="3294360" y="3510000"/>
                  <a:ext cx="295200" cy="20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94360" y="3718080"/>
                  <a:ext cx="6624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5810400" y="1863720"/>
                <a:ext cx="1212840" cy="2025000"/>
                <a:chOff x="5810400" y="1863720"/>
                <a:chExt cx="1212840" cy="2025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035040" y="1863720"/>
                  <a:ext cx="988200" cy="28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810400" y="1863720"/>
                  <a:ext cx="224640" cy="160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810400" y="3464280"/>
                  <a:ext cx="297720" cy="20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6044760" y="3669120"/>
                  <a:ext cx="63360" cy="21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 flipV="1">
                <a:off x="3382560" y="3695400"/>
                <a:ext cx="12574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76840" y="3724560"/>
                <a:ext cx="126288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249000" y="3939840"/>
              <a:ext cx="2838960" cy="1773720"/>
              <a:chOff x="3249000" y="3939840"/>
              <a:chExt cx="2838960" cy="1773720"/>
            </a:xfrm>
          </p:grpSpPr>
          <p:sp>
            <p:nvSpPr>
              <p:cNvPr id="203" name=""/>
              <p:cNvSpPr/>
              <p:nvPr/>
            </p:nvSpPr>
            <p:spPr>
              <a:xfrm flipV="1">
                <a:off x="3302280" y="5519520"/>
                <a:ext cx="53712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780440" y="3939840"/>
                <a:ext cx="1274400" cy="150480"/>
                <a:chOff x="4780440" y="3939840"/>
                <a:chExt cx="1274400" cy="1504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260320" y="3997440"/>
                  <a:ext cx="794520" cy="9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4780440" y="3939840"/>
                  <a:ext cx="794520" cy="9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 flipH="1" flipV="1">
                <a:off x="4739040" y="4143960"/>
                <a:ext cx="198360" cy="25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42440" y="4400280"/>
                <a:ext cx="18360" cy="10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5529600" y="4104360"/>
                <a:ext cx="558360" cy="1524600"/>
                <a:chOff x="5529600" y="4104360"/>
                <a:chExt cx="558360" cy="1524600"/>
              </a:xfrm>
            </p:grpSpPr>
            <p:sp>
              <p:nvSpPr>
                <p:cNvPr id="210" name=""/>
                <p:cNvSpPr/>
                <p:nvPr/>
              </p:nvSpPr>
              <p:spPr>
                <a:xfrm flipH="1">
                  <a:off x="5529600" y="4502160"/>
                  <a:ext cx="218880" cy="10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6020280" y="4104360"/>
                  <a:ext cx="4860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5747760" y="4327560"/>
                  <a:ext cx="27180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529960" y="5507640"/>
                  <a:ext cx="558000" cy="121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 flipV="1">
                <a:off x="3816000" y="3954600"/>
                <a:ext cx="7941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249000" y="4022640"/>
                <a:ext cx="7941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3258360" y="4128480"/>
                <a:ext cx="588600" cy="1383840"/>
                <a:chOff x="3258360" y="4128480"/>
                <a:chExt cx="588600" cy="13838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258360" y="4128480"/>
                  <a:ext cx="56520" cy="22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flipV="1">
                  <a:off x="3314160" y="4349880"/>
                  <a:ext cx="27792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592800" y="4515120"/>
                  <a:ext cx="254160" cy="99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4415400" y="4456800"/>
                <a:ext cx="80280" cy="10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06200" y="3970800"/>
                <a:ext cx="1476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4434480" y="4186080"/>
                <a:ext cx="19440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02880" y="5460480"/>
                <a:ext cx="45648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34360" y="3952440"/>
                <a:ext cx="151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07280" y="616320"/>
              <a:ext cx="5495040" cy="519480"/>
              <a:chOff x="1907280" y="616320"/>
              <a:chExt cx="5495040" cy="51948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1907280" y="826200"/>
                <a:ext cx="926280" cy="3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2822040" y="660960"/>
                <a:ext cx="963720" cy="15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3804120" y="621360"/>
                <a:ext cx="975960" cy="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745880" y="616320"/>
                <a:ext cx="97416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658480" y="674640"/>
                <a:ext cx="95904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15720" y="870120"/>
                <a:ext cx="786600" cy="2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>
            <a:off x="6477120" y="5867280"/>
            <a:ext cx="2361960" cy="733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ENTES Y RANURAS ESTATOR Y ROTOR MOTOR DE IN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4528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16560" y="5821200"/>
            <a:ext cx="3780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81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50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024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736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387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212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672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306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958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595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2432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8804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532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65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17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450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08800" y="5821200"/>
            <a:ext cx="3780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736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5821200"/>
            <a:ext cx="381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24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5840" y="5821200"/>
            <a:ext cx="381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310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94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595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228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880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514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165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802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450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088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739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373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24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658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10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94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07840" y="55440"/>
            <a:ext cx="5285880" cy="18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GO SOBRE LOS CANALES DE LAS RANURAS DE  ESTATOR Y R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6400" y="55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11080" y="231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278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44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993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3560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708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70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419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85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1340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500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8488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215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5636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30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292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641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007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3560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722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070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437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785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1484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500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863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211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9264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292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6412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07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3560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18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085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433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800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148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514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863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692720" y="406440"/>
            <a:ext cx="5636880" cy="6399360"/>
            <a:chOff x="1692720" y="406440"/>
            <a:chExt cx="5636880" cy="6399360"/>
          </a:xfrm>
        </p:grpSpPr>
        <p:sp>
          <p:nvSpPr>
            <p:cNvPr id="315" name=""/>
            <p:cNvSpPr/>
            <p:nvPr/>
          </p:nvSpPr>
          <p:spPr>
            <a:xfrm>
              <a:off x="50767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52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341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626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9116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1968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482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7080" y="5248440"/>
              <a:ext cx="727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056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341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626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116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20040" y="5248440"/>
              <a:ext cx="727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46760" y="5248440"/>
              <a:ext cx="748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30880" y="43070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0880" y="43704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30880" y="4433760"/>
              <a:ext cx="9360" cy="38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30880" y="44989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30880" y="45626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30880" y="46260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30880" y="46911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0880" y="47545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30880" y="48182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30880" y="48830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30880" y="49467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30880" y="50101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0880" y="50752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30880" y="51386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0880" y="52023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30880" y="52671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30880" y="53308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30880" y="53942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30880" y="54579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30880" y="55227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30880" y="55864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30880" y="56498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30880" y="57150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30880" y="57783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67440" y="57355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67440" y="56721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7440" y="560880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7440" y="55436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67440" y="54799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7440" y="54165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67440" y="53514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67440" y="52880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67440" y="52243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67440" y="51595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67440" y="50958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67440" y="50324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67440" y="496728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67440" y="49039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67440" y="48402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67440" y="477504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67440" y="471168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67440" y="46483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67440" y="45846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67440" y="451944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67440" y="445608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67440" y="43927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67440" y="43275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67440" y="426420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09640" y="40644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 form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86600" y="406440"/>
              <a:ext cx="445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 ranura de  estator y rotor contempla una canal par la cual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05320" y="609480"/>
              <a:ext cx="231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u ancho  se le ha denominad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26040" y="6922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73200" y="609480"/>
              <a:ext cx="20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a la ranura de estator y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08440" y="692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47320" y="609480"/>
              <a:ext cx="57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a 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07120" y="814320"/>
              <a:ext cx="1108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ura de roto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06560" y="8143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11080" y="1019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11080" y="122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11080" y="1430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1080" y="1633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11080" y="1838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11080" y="2043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11080" y="2246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1080" y="2451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11080" y="2654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11080" y="28591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98480" y="3063960"/>
              <a:ext cx="4956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stas canales son necesarias tanto en el estator como en el rotor pa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06760" y="3267000"/>
              <a:ext cx="115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mitir que el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68120" y="3267000"/>
              <a:ext cx="163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ujo producido por l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32400" y="327024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·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59200" y="3267000"/>
              <a:ext cx="23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l  estator enlace también a l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95600" y="3471840"/>
              <a:ext cx="523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ductores del rotor ya que si fuesen totalmente cerradas las ranuras, e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92720" y="3675240"/>
              <a:ext cx="537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ujo se cerraría principalmente por el fierro que existiría en el lugar de l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03160" y="3882960"/>
              <a:ext cx="270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nales y por lo tanto la eficiencia 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63920" y="3882960"/>
              <a:ext cx="248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ía bajísima, la reactancia muy al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05440" y="3882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11080" y="4087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11080" y="4290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11080" y="449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11080" y="4699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1080" y="49039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1080" y="5108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11080" y="5311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11080" y="55166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11080" y="57214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11440" y="5921280"/>
              <a:ext cx="181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Los flujos en azul y verde deben 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65080" y="59212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10720" y="6067440"/>
              <a:ext cx="192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ínimos y sólo corresponder a fuga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69840" y="60674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10720" y="6215040"/>
              <a:ext cx="184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ara ello las ranuras deben tener 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85960" y="6215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10000" y="6361200"/>
              <a:ext cx="196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anal, que por esa razón normalme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06560" y="6361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11080" y="6507000"/>
              <a:ext cx="1416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e considera en los diseño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2520" y="65070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11080" y="6653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87640" y="2185920"/>
              <a:ext cx="3668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09680" y="2235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5280" y="23018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31720" y="2235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22480" y="1162080"/>
              <a:ext cx="18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2248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0680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6384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22480" y="1162080"/>
              <a:ext cx="27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81480" y="1162080"/>
              <a:ext cx="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198600" y="1801800"/>
              <a:ext cx="18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9896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198600" y="2076480"/>
              <a:ext cx="64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3106440" y="116208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63840" y="1162080"/>
              <a:ext cx="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27952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79520" y="1893960"/>
              <a:ext cx="18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27952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188800" y="116208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40120" y="1162080"/>
              <a:ext cx="18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4012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2444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8148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40120" y="116208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06800" y="216684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98960" y="216684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98960" y="2206800"/>
              <a:ext cx="27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30680" y="220680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58880" y="2627280"/>
              <a:ext cx="127980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53720" y="2676600"/>
              <a:ext cx="59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Ranura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43400" y="26766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99880" y="284940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est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409560" y="28494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26040" y="2627280"/>
              <a:ext cx="127620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62840" y="2676600"/>
              <a:ext cx="106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Ranura del ro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00360" y="26766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37320" y="1252440"/>
              <a:ext cx="3682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60800" y="1301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36400" y="13683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82840" y="1301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76840" y="1841400"/>
              <a:ext cx="180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7684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6116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1036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7684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10360" y="1841400"/>
              <a:ext cx="144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12604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2604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12604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85100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02320" y="1841400"/>
              <a:ext cx="180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0232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8664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584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0232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35840" y="1841400"/>
              <a:ext cx="144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95152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95152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595152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67648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61160" y="1494000"/>
              <a:ext cx="14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51520" y="1494000"/>
              <a:ext cx="14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84680" y="1530360"/>
              <a:ext cx="27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51520" y="153360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14640" y="5457960"/>
              <a:ext cx="9176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98680" y="5506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o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47880" y="5506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14640" y="4545000"/>
              <a:ext cx="91764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7560" y="459252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st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96840" y="4592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06800" y="5002200"/>
              <a:ext cx="91764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05440" y="5049720"/>
              <a:ext cx="72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ntrehier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24000" y="5049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0600" y="5641920"/>
              <a:ext cx="45900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52400" y="56847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42040" y="5699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13360" y="4449600"/>
              <a:ext cx="26964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72000" y="4449600"/>
              <a:ext cx="27612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30640" y="4449600"/>
              <a:ext cx="27648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54760" y="4449600"/>
              <a:ext cx="26676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5760" y="4449600"/>
              <a:ext cx="27000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10160" y="4449600"/>
              <a:ext cx="27000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32280" y="5092560"/>
              <a:ext cx="2938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32280" y="4178160"/>
              <a:ext cx="2938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8136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90960" y="5305320"/>
              <a:ext cx="39996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8148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9276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10160" y="5305320"/>
              <a:ext cx="4114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95560" y="5184720"/>
              <a:ext cx="2936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32280" y="6189840"/>
              <a:ext cx="2938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16560" y="43974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12" y="6"/>
                  </a:moveTo>
                  <a:lnTo>
                    <a:pt x="6" y="6"/>
                  </a:lnTo>
                  <a:lnTo>
                    <a:pt x="6" y="12"/>
                  </a:lnTo>
                  <a:lnTo>
                    <a:pt x="29" y="12"/>
                  </a:lnTo>
                  <a:lnTo>
                    <a:pt x="2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16560" y="4535640"/>
              <a:ext cx="19080" cy="72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16560" y="4662360"/>
              <a:ext cx="19080" cy="74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16560" y="4791240"/>
              <a:ext cx="19080" cy="72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16560" y="4919760"/>
              <a:ext cx="1908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259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544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829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118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403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688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9740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259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54800" y="5038560"/>
              <a:ext cx="727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833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118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403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688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97760" y="5038560"/>
              <a:ext cx="727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262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5336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8188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1040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84920" y="4927680"/>
              <a:ext cx="17640" cy="74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84920" y="480060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84920" y="467208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84920" y="454500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84920" y="441648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736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45160" y="4397400"/>
              <a:ext cx="748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1664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8812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5960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3108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040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75480" y="4397400"/>
              <a:ext cx="727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466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180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956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6104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32520" y="4397400"/>
              <a:ext cx="727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0364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512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466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180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62560" y="4316400"/>
              <a:ext cx="17280" cy="8100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11" y="5"/>
                  </a:moveTo>
                  <a:lnTo>
                    <a:pt x="6" y="5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1"/>
                  </a:lnTo>
                  <a:lnTo>
                    <a:pt x="11" y="51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62560" y="445284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62560" y="45813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62560" y="470844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62560" y="48369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62560" y="4964040"/>
              <a:ext cx="17280" cy="745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62560" y="50925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62560" y="522144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1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29" y="29"/>
                  </a:lnTo>
                  <a:lnTo>
                    <a:pt x="29" y="17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11" y="2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62640" y="5248440"/>
              <a:ext cx="745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91160" y="5248440"/>
              <a:ext cx="745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1968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9482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70600" y="5187960"/>
              <a:ext cx="17640" cy="7920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3" y="38"/>
                  </a:moveTo>
                  <a:lnTo>
                    <a:pt x="3" y="50"/>
                  </a:lnTo>
                  <a:lnTo>
                    <a:pt x="5" y="50"/>
                  </a:lnTo>
                  <a:lnTo>
                    <a:pt x="11" y="50"/>
                  </a:lnTo>
                  <a:lnTo>
                    <a:pt x="11" y="4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5" y="44"/>
                  </a:lnTo>
                  <a:lnTo>
                    <a:pt x="5" y="38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0600" y="505944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70600" y="4930920"/>
              <a:ext cx="17640" cy="72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70600" y="480384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70600" y="4675320"/>
              <a:ext cx="17640" cy="72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70600" y="4546440"/>
              <a:ext cx="17640" cy="74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70600" y="441972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45400" y="431640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6" y="30"/>
                  </a:moveTo>
                  <a:lnTo>
                    <a:pt x="27" y="30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1688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88000" y="4316400"/>
              <a:ext cx="748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5948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3096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0244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7392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468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1832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894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092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3240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0388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7536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4684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1796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7894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6092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3240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30880" y="4240080"/>
              <a:ext cx="28440" cy="399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6" y="2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18" y="5"/>
                  </a:lnTo>
                  <a:lnTo>
                    <a:pt x="18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5"/>
                  </a:lnTo>
                  <a:lnTo>
                    <a:pt x="6" y="2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58080" y="579924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14"/>
                  </a:moveTo>
                  <a:lnTo>
                    <a:pt x="0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67400" y="6372360"/>
              <a:ext cx="145872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09680" y="6424560"/>
              <a:ext cx="99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Líneas de Fluj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00400" y="6424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990360" y="22860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URVAS DE MAGNETIZACION Y DE PE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LISTA DE CONDUCTORES NORM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4784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Sin título-Duplicado-01" descr=""/>
          <p:cNvPicPr/>
          <p:nvPr/>
        </p:nvPicPr>
        <p:blipFill>
          <a:blip r:embed="rId1"/>
          <a:stretch/>
        </p:blipFill>
        <p:spPr>
          <a:xfrm>
            <a:off x="447840" y="757080"/>
            <a:ext cx="82483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IAGRAMA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OCESO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44784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Sin título-Duplicado-02" descr=""/>
          <p:cNvPicPr/>
          <p:nvPr/>
        </p:nvPicPr>
        <p:blipFill>
          <a:blip r:embed="rId1"/>
          <a:stretch/>
        </p:blipFill>
        <p:spPr>
          <a:xfrm>
            <a:off x="447840" y="662040"/>
            <a:ext cx="82483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571680" y="457200"/>
            <a:ext cx="8038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JEMPLOS DE BOBINADO IMBR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-79200" y="-92160"/>
            <a:ext cx="929952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-4680" y="-4680"/>
            <a:ext cx="9188280" cy="6249960"/>
            <a:chOff x="-4680" y="-4680"/>
            <a:chExt cx="9188280" cy="6249960"/>
          </a:xfrm>
        </p:grpSpPr>
        <p:sp>
          <p:nvSpPr>
            <p:cNvPr id="614" name=""/>
            <p:cNvSpPr/>
            <p:nvPr/>
          </p:nvSpPr>
          <p:spPr>
            <a:xfrm>
              <a:off x="1499760" y="104760"/>
              <a:ext cx="2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 pol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28480" y="201600"/>
              <a:ext cx="42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 ranur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9960" y="326880"/>
              <a:ext cx="25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se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1160" y="32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0144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3308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5788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952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1684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4884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8912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1932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4556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7576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0452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63652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7500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0664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3324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6344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9220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22240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66268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8880" y="1316160"/>
              <a:ext cx="41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anura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9604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2624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5788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8952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2008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05172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8336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1356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9840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860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602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904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224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540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842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162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7479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781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6101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6440" y="1442880"/>
              <a:ext cx="30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se 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9604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23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755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952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254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5172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8336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1068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4268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8296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1316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3940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6960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9836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30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6884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004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2528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5728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40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960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262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5788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8952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2008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5172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8336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1356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9840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2860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602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904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224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540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842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3162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479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781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101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56960" y="480708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a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86880" y="4807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48000" y="4807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15240" y="48070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600" y="4954680"/>
              <a:ext cx="861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specificacion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640" y="5059440"/>
              <a:ext cx="1497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.  2 ranuras por polo y por f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57080" y="50706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61480" y="5059440"/>
              <a:ext cx="1587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Velocidad  síncrona    (r.p.m.)   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98480" y="5048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51760" y="5111640"/>
              <a:ext cx="29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09720" y="506412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= 120 f / 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88120" y="5070600"/>
              <a:ext cx="2580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8.   Las flechas representan el sentido de las corrientes de fas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600" y="5226120"/>
              <a:ext cx="104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.  6 ranuras por polo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62920" y="5226120"/>
              <a:ext cx="157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f  :   frecuencia de la red  (c.p.s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160" y="5375160"/>
              <a:ext cx="2604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.  Paso completo ( paso de la bobina  =  paso del polo 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56080" y="5375160"/>
              <a:ext cx="1736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  :   número  de  polos  del  estator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1080" y="5381640"/>
              <a:ext cx="123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NIVERSIDAD DE CHI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240" y="5522760"/>
              <a:ext cx="291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.  La cantidad total de ranuras dependerá del número de pol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57080" y="553248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93240" y="5532480"/>
              <a:ext cx="2530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s enrollado en doble capa. Por ejemplo, el lado de bobi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96480" y="5530680"/>
              <a:ext cx="183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EPTO. DE INGENIERIA ELECTR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8080" y="5672160"/>
              <a:ext cx="2812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.  Por ejemplo, para un motor de inducción 3¢ de velocida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94320" y="5681520"/>
              <a:ext cx="2439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 la ranura 1 de la fase a está en la parte superior de e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01880" y="5691240"/>
              <a:ext cx="30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L  67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802640" y="5680080"/>
              <a:ext cx="68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SQUEM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480" y="5821200"/>
              <a:ext cx="2997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síncrona 1.000 r.p.m., el número de polos sería 6 y el númer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89280" y="5830920"/>
              <a:ext cx="243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anura y el otro lado de la misma bobina se encuentra 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42760" y="5853240"/>
              <a:ext cx="68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aller de Diseñ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30840" y="5827680"/>
              <a:ext cx="1299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ROLLADO IMBRIC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9880" y="5969160"/>
              <a:ext cx="287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de ranuras del estator 36. Para un motor de 1.500 r.p.m., 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39240" y="5978520"/>
              <a:ext cx="1360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a parte inferior de la ranura 7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73360" y="6000840"/>
              <a:ext cx="17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LA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26720" y="5977080"/>
              <a:ext cx="175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 DOBLE CAPA PASO COMPL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480" y="6086520"/>
              <a:ext cx="305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úmero de polos sería 4 y el número de ranuras del  estator 24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9760" y="223920"/>
              <a:ext cx="86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9760" y="223920"/>
              <a:ext cx="865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9724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7248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102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1028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6979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69796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-4680" y="-4680"/>
              <a:ext cx="19080" cy="624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164520" y="14400"/>
              <a:ext cx="19080" cy="623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04720" y="1436760"/>
              <a:ext cx="1800" cy="140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04720" y="1436760"/>
              <a:ext cx="9720" cy="1404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3492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3492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669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669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7985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985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287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287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607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6076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909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90960" y="1446120"/>
              <a:ext cx="111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2260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2260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95460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95460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38480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38480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1644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1644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24844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24844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7864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67864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10280" y="5657760"/>
              <a:ext cx="1440" cy="56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10280" y="5657760"/>
              <a:ext cx="9360" cy="56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404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40480" y="1446120"/>
              <a:ext cx="111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72480" y="5359320"/>
              <a:ext cx="1440" cy="86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72480" y="5359320"/>
              <a:ext cx="9360" cy="86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41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41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8343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343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2659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2659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697960" y="6113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697960" y="6113520"/>
              <a:ext cx="9360" cy="11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" y="-4680"/>
              <a:ext cx="9169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803240" y="223920"/>
              <a:ext cx="86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03240" y="223920"/>
              <a:ext cx="86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4440" y="1436760"/>
              <a:ext cx="819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4440" y="1436760"/>
              <a:ext cx="8192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4440" y="2830680"/>
              <a:ext cx="819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4440" y="2830680"/>
              <a:ext cx="8192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981840" y="5359320"/>
              <a:ext cx="218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981840" y="5359320"/>
              <a:ext cx="21826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19640" y="5657760"/>
              <a:ext cx="3044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19640" y="5657760"/>
              <a:ext cx="30448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81840" y="6103800"/>
              <a:ext cx="218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81840" y="6103800"/>
              <a:ext cx="21826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4400" y="6226200"/>
              <a:ext cx="9169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68440" y="463320"/>
              <a:ext cx="123012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992160" y="441000"/>
              <a:ext cx="12304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3139920" y="441000"/>
              <a:ext cx="123840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3562200" y="441000"/>
              <a:ext cx="125424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5703840" y="463320"/>
              <a:ext cx="126036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73640" y="441000"/>
              <a:ext cx="12304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0520" y="2824200"/>
              <a:ext cx="123012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74880" y="2830680"/>
              <a:ext cx="1253880" cy="9889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39920" y="2838600"/>
              <a:ext cx="1230480" cy="9810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86320" y="2838600"/>
              <a:ext cx="1215720" cy="9810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718240" y="2846520"/>
              <a:ext cx="125424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73640" y="2846520"/>
              <a:ext cx="123048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8440" y="1436760"/>
              <a:ext cx="144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984240" y="1436760"/>
              <a:ext cx="144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39920" y="1436760"/>
              <a:ext cx="1800" cy="1409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62200" y="1436760"/>
              <a:ext cx="180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2760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73640" y="1436760"/>
              <a:ext cx="1800" cy="1409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5727600" y="2793960"/>
              <a:ext cx="1800" cy="4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001760" y="463680"/>
              <a:ext cx="12524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4448160" y="463680"/>
              <a:ext cx="123048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4865400" y="441360"/>
              <a:ext cx="12366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286240" y="463680"/>
              <a:ext cx="125424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86280" y="2824200"/>
              <a:ext cx="126216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33760" y="2824200"/>
              <a:ext cx="12304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5760" y="2824200"/>
              <a:ext cx="12510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3880" y="2824200"/>
              <a:ext cx="124452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992040" y="1436760"/>
              <a:ext cx="25560" cy="13795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4441320" y="1450800"/>
              <a:ext cx="24120" cy="1387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79800" y="1442880"/>
              <a:ext cx="1800" cy="1381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03880" y="1436760"/>
              <a:ext cx="1440" cy="1401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1439640" y="463680"/>
              <a:ext cx="12063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836720" y="463680"/>
              <a:ext cx="12333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2277720" y="463680"/>
              <a:ext cx="123660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698920" y="441360"/>
              <a:ext cx="12556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22360" y="2824200"/>
              <a:ext cx="12304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36720" y="2846520"/>
              <a:ext cx="12542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84560" y="2824200"/>
              <a:ext cx="123012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708280" y="2824200"/>
              <a:ext cx="125244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447920" y="1436760"/>
              <a:ext cx="1440" cy="14018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860480" y="1450800"/>
              <a:ext cx="1800" cy="1387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84560" y="1450800"/>
              <a:ext cx="1440" cy="13654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98920" y="1436760"/>
              <a:ext cx="936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71480" y="3730680"/>
              <a:ext cx="1800" cy="1114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502000" y="3689280"/>
              <a:ext cx="1440" cy="11127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54480" y="3681360"/>
              <a:ext cx="1440" cy="1120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90640" y="441360"/>
              <a:ext cx="125424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66920" y="463680"/>
              <a:ext cx="123012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42840" y="441360"/>
              <a:ext cx="12304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4720" y="441360"/>
              <a:ext cx="12542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504720" y="785880"/>
              <a:ext cx="806400" cy="650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472680" y="1106280"/>
              <a:ext cx="415800" cy="3301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14720" y="463680"/>
              <a:ext cx="127620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666880" y="441360"/>
              <a:ext cx="12556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90960" y="441360"/>
              <a:ext cx="12556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30520" y="441360"/>
              <a:ext cx="125424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70440" y="441360"/>
              <a:ext cx="12556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92720" y="441360"/>
              <a:ext cx="12538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808520" y="441360"/>
              <a:ext cx="126216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54560" y="463680"/>
              <a:ext cx="12477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678640" y="463680"/>
              <a:ext cx="126180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78600" y="463680"/>
              <a:ext cx="126216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58120" y="463680"/>
              <a:ext cx="123012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50160" y="463680"/>
              <a:ext cx="128412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96200" y="463680"/>
              <a:ext cx="125424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80080" y="441000"/>
              <a:ext cx="12542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027920" y="463320"/>
              <a:ext cx="122400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442280" y="441000"/>
              <a:ext cx="126216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7891560" y="806040"/>
              <a:ext cx="806400" cy="6303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8315280" y="1114560"/>
              <a:ext cx="444600" cy="328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1798560" y="2809800"/>
              <a:ext cx="1260720" cy="1030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2214360" y="2809800"/>
              <a:ext cx="1268280" cy="1009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666880" y="2824200"/>
              <a:ext cx="1239840" cy="1015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374840" y="2846520"/>
              <a:ext cx="1239840" cy="9936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920520" y="2824200"/>
              <a:ext cx="12762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04720" y="2824200"/>
              <a:ext cx="1246320" cy="9604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72680" y="2830680"/>
              <a:ext cx="847800" cy="6253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3090600" y="2830680"/>
              <a:ext cx="1238040" cy="988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3514680" y="2816280"/>
              <a:ext cx="1255680" cy="1003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3931920" y="2809800"/>
              <a:ext cx="1252440" cy="9972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377960" y="2838600"/>
              <a:ext cx="1244520" cy="968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794120" y="2816280"/>
              <a:ext cx="1252800" cy="990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5216400" y="2824200"/>
              <a:ext cx="12686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5640120" y="2824200"/>
              <a:ext cx="124452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6109920" y="2816280"/>
              <a:ext cx="1204920" cy="1003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6534000" y="2824200"/>
              <a:ext cx="123696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89800" y="2846520"/>
              <a:ext cx="12380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21440" y="2824200"/>
              <a:ext cx="12524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59560" y="2824200"/>
              <a:ext cx="12304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6980040" y="2816280"/>
              <a:ext cx="1230120" cy="990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403760" y="2824200"/>
              <a:ext cx="123012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7819560" y="3102120"/>
              <a:ext cx="870120" cy="704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897680" y="2830680"/>
              <a:ext cx="806760" cy="639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329680" y="2838600"/>
              <a:ext cx="392040" cy="322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8884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03200" y="1436760"/>
              <a:ext cx="1800" cy="14018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27280" y="1436760"/>
              <a:ext cx="1440" cy="13507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73320" y="1436760"/>
              <a:ext cx="23760" cy="1423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14680" y="1442880"/>
              <a:ext cx="1440" cy="1381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013200" y="1436760"/>
              <a:ext cx="2196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59240" y="1436760"/>
              <a:ext cx="144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906720" y="1436760"/>
              <a:ext cx="180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329000" y="1436760"/>
              <a:ext cx="1800" cy="1393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770360" y="1436760"/>
              <a:ext cx="1800" cy="1401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91200" y="1436760"/>
              <a:ext cx="144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6494400" y="1436760"/>
              <a:ext cx="7920" cy="13795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046560" y="1436760"/>
              <a:ext cx="612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580080" y="1450800"/>
              <a:ext cx="9720" cy="1373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35840" y="1436760"/>
              <a:ext cx="144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94360" y="1436760"/>
              <a:ext cx="792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40760" y="1459080"/>
              <a:ext cx="1440" cy="1252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4480" y="1436760"/>
              <a:ext cx="2376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210520" y="1436760"/>
              <a:ext cx="144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63424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451640" y="1450800"/>
              <a:ext cx="7920" cy="1379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7897320" y="1465200"/>
              <a:ext cx="9720" cy="13590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21760" y="1442880"/>
              <a:ext cx="1440" cy="1381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19360" y="2741760"/>
              <a:ext cx="21960" cy="104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41440" y="3716280"/>
              <a:ext cx="1800" cy="2286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24160" y="3944880"/>
              <a:ext cx="249228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11840" y="3689280"/>
              <a:ext cx="1440" cy="2494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816440" y="3944880"/>
              <a:ext cx="10476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077240" y="3730680"/>
              <a:ext cx="22356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10840" y="3155760"/>
              <a:ext cx="863640" cy="6634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511200" y="3470400"/>
              <a:ext cx="417600" cy="342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5640" y="3745080"/>
              <a:ext cx="1440" cy="298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65640" y="4035600"/>
              <a:ext cx="226836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59440" y="3745080"/>
              <a:ext cx="1800" cy="298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534000" y="4035600"/>
              <a:ext cx="32544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179880" y="3738600"/>
              <a:ext cx="1440" cy="5731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3179520" y="4311720"/>
              <a:ext cx="249876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765760" y="3724200"/>
              <a:ext cx="1800" cy="6112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656320" y="4311720"/>
              <a:ext cx="10944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21360" y="3724200"/>
              <a:ext cx="6120" cy="7016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5121000" y="4417920"/>
              <a:ext cx="2274840" cy="1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715160" y="3730680"/>
              <a:ext cx="1800" cy="7095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88280" y="4411800"/>
              <a:ext cx="33480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8265960" y="3430080"/>
              <a:ext cx="432000" cy="3891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99520" y="3730680"/>
              <a:ext cx="1440" cy="214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99520" y="3944880"/>
              <a:ext cx="117612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6950160" y="3784320"/>
              <a:ext cx="4608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353440" y="3724200"/>
              <a:ext cx="1440" cy="596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46960" y="4329000"/>
              <a:ext cx="311400" cy="1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10040" y="3738600"/>
              <a:ext cx="1440" cy="9795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27320" y="4686480"/>
              <a:ext cx="2506680" cy="1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3738600"/>
              <a:ext cx="1440" cy="958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6508440" y="4686480"/>
              <a:ext cx="112680" cy="1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75280" y="3730680"/>
              <a:ext cx="1800" cy="1049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83200" y="4786200"/>
              <a:ext cx="1828800" cy="1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570880" y="3716280"/>
              <a:ext cx="1800" cy="1077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7819920" y="4786200"/>
              <a:ext cx="750960" cy="1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487080" y="463680"/>
              <a:ext cx="887400" cy="7016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87440" y="441360"/>
              <a:ext cx="441360" cy="3589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827840" y="441360"/>
              <a:ext cx="893880" cy="6732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251920" y="441360"/>
              <a:ext cx="469800" cy="358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8251920" y="441360"/>
              <a:ext cx="21960" cy="22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65120" y="2063880"/>
              <a:ext cx="81000" cy="125280"/>
              <a:chOff x="465120" y="2063880"/>
              <a:chExt cx="81000" cy="125280"/>
            </a:xfrm>
          </p:grpSpPr>
          <p:sp>
            <p:nvSpPr>
              <p:cNvPr id="952" name=""/>
              <p:cNvSpPr/>
              <p:nvPr/>
            </p:nvSpPr>
            <p:spPr>
              <a:xfrm flipV="1">
                <a:off x="504720" y="2136600"/>
                <a:ext cx="1800" cy="5256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512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896760" y="2063880"/>
              <a:ext cx="79560" cy="133200"/>
              <a:chOff x="896760" y="2063880"/>
              <a:chExt cx="79560" cy="133200"/>
            </a:xfrm>
          </p:grpSpPr>
          <p:sp>
            <p:nvSpPr>
              <p:cNvPr id="955" name=""/>
              <p:cNvSpPr/>
              <p:nvPr/>
            </p:nvSpPr>
            <p:spPr>
              <a:xfrm flipV="1">
                <a:off x="934920" y="2136600"/>
                <a:ext cx="1800" cy="604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9676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327320" y="2055960"/>
              <a:ext cx="80640" cy="104400"/>
              <a:chOff x="1327320" y="2055960"/>
              <a:chExt cx="80640" cy="104400"/>
            </a:xfrm>
          </p:grpSpPr>
          <p:sp>
            <p:nvSpPr>
              <p:cNvPr id="958" name=""/>
              <p:cNvSpPr/>
              <p:nvPr/>
            </p:nvSpPr>
            <p:spPr>
              <a:xfrm flipV="1">
                <a:off x="1366920" y="2128320"/>
                <a:ext cx="1440" cy="3204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327320" y="2055960"/>
                <a:ext cx="8064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1758960" y="2063880"/>
              <a:ext cx="81000" cy="125280"/>
              <a:chOff x="1758960" y="2063880"/>
              <a:chExt cx="81000" cy="12528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1798560" y="2136600"/>
                <a:ext cx="1800" cy="5256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75896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2190600" y="2063880"/>
              <a:ext cx="79560" cy="133200"/>
              <a:chOff x="2190600" y="2063880"/>
              <a:chExt cx="79560" cy="133200"/>
            </a:xfrm>
          </p:grpSpPr>
          <p:sp>
            <p:nvSpPr>
              <p:cNvPr id="964" name=""/>
              <p:cNvSpPr/>
              <p:nvPr/>
            </p:nvSpPr>
            <p:spPr>
              <a:xfrm flipV="1">
                <a:off x="2228760" y="2136600"/>
                <a:ext cx="1800" cy="604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19060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2620800" y="2063880"/>
              <a:ext cx="81000" cy="125280"/>
              <a:chOff x="2620800" y="2063880"/>
              <a:chExt cx="81000" cy="125280"/>
            </a:xfrm>
          </p:grpSpPr>
          <p:sp>
            <p:nvSpPr>
              <p:cNvPr id="967" name=""/>
              <p:cNvSpPr/>
              <p:nvPr/>
            </p:nvSpPr>
            <p:spPr>
              <a:xfrm flipV="1">
                <a:off x="2660760" y="2136600"/>
                <a:ext cx="1440" cy="5256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62080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3049560" y="2011320"/>
              <a:ext cx="81000" cy="135000"/>
              <a:chOff x="3049560" y="2011320"/>
              <a:chExt cx="81000" cy="135000"/>
            </a:xfrm>
          </p:grpSpPr>
          <p:sp>
            <p:nvSpPr>
              <p:cNvPr id="970" name=""/>
              <p:cNvSpPr/>
              <p:nvPr/>
            </p:nvSpPr>
            <p:spPr>
              <a:xfrm>
                <a:off x="3090960" y="2011320"/>
                <a:ext cx="1440" cy="61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049560" y="20685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3481560" y="2011320"/>
              <a:ext cx="80640" cy="135000"/>
              <a:chOff x="3481560" y="2011320"/>
              <a:chExt cx="80640" cy="135000"/>
            </a:xfrm>
          </p:grpSpPr>
          <p:sp>
            <p:nvSpPr>
              <p:cNvPr id="973" name=""/>
              <p:cNvSpPr/>
              <p:nvPr/>
            </p:nvSpPr>
            <p:spPr>
              <a:xfrm>
                <a:off x="3522600" y="2011320"/>
                <a:ext cx="1800" cy="61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481560" y="2068560"/>
                <a:ext cx="8064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3909960" y="2019240"/>
              <a:ext cx="81000" cy="127080"/>
              <a:chOff x="3909960" y="2019240"/>
              <a:chExt cx="81000" cy="127080"/>
            </a:xfrm>
          </p:grpSpPr>
          <p:sp>
            <p:nvSpPr>
              <p:cNvPr id="976" name=""/>
              <p:cNvSpPr/>
              <p:nvPr/>
            </p:nvSpPr>
            <p:spPr>
              <a:xfrm flipH="1">
                <a:off x="3951000" y="2019240"/>
                <a:ext cx="3240" cy="5400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09960" y="2065320"/>
                <a:ext cx="81000" cy="810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0"/>
                    </a:moveTo>
                    <a:lnTo>
                      <a:pt x="23" y="51"/>
                    </a:lnTo>
                    <a:lnTo>
                      <a:pt x="5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4343400" y="2041560"/>
              <a:ext cx="81000" cy="104760"/>
              <a:chOff x="4343400" y="2041560"/>
              <a:chExt cx="81000" cy="104760"/>
            </a:xfrm>
          </p:grpSpPr>
          <p:sp>
            <p:nvSpPr>
              <p:cNvPr id="979" name=""/>
              <p:cNvSpPr/>
              <p:nvPr/>
            </p:nvSpPr>
            <p:spPr>
              <a:xfrm>
                <a:off x="4384800" y="2041560"/>
                <a:ext cx="1440" cy="3168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343400" y="20685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5205240" y="2025720"/>
              <a:ext cx="81000" cy="127080"/>
              <a:chOff x="5205240" y="2025720"/>
              <a:chExt cx="81000" cy="127080"/>
            </a:xfrm>
          </p:grpSpPr>
          <p:sp>
            <p:nvSpPr>
              <p:cNvPr id="982" name=""/>
              <p:cNvSpPr/>
              <p:nvPr/>
            </p:nvSpPr>
            <p:spPr>
              <a:xfrm>
                <a:off x="5248440" y="2025720"/>
                <a:ext cx="1440" cy="540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205240" y="207504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7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640480" y="2063880"/>
              <a:ext cx="79200" cy="125280"/>
              <a:chOff x="5640480" y="2063880"/>
              <a:chExt cx="79200" cy="125280"/>
            </a:xfrm>
          </p:grpSpPr>
          <p:sp>
            <p:nvSpPr>
              <p:cNvPr id="985" name=""/>
              <p:cNvSpPr/>
              <p:nvPr/>
            </p:nvSpPr>
            <p:spPr>
              <a:xfrm flipV="1">
                <a:off x="5678640" y="2136600"/>
                <a:ext cx="1440" cy="5256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640480" y="206388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6070680" y="2055960"/>
              <a:ext cx="81000" cy="104400"/>
              <a:chOff x="6070680" y="2055960"/>
              <a:chExt cx="81000" cy="10440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6110280" y="2128320"/>
                <a:ext cx="1440" cy="320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070680" y="20559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502320" y="2063880"/>
              <a:ext cx="79560" cy="125280"/>
              <a:chOff x="6502320" y="2063880"/>
              <a:chExt cx="79560" cy="12528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6540480" y="2136600"/>
                <a:ext cx="1440" cy="5256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0232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6932520" y="2055960"/>
              <a:ext cx="81000" cy="104400"/>
              <a:chOff x="6932520" y="2055960"/>
              <a:chExt cx="81000" cy="104400"/>
            </a:xfrm>
          </p:grpSpPr>
          <p:sp>
            <p:nvSpPr>
              <p:cNvPr id="994" name=""/>
              <p:cNvSpPr/>
              <p:nvPr/>
            </p:nvSpPr>
            <p:spPr>
              <a:xfrm flipV="1">
                <a:off x="6972480" y="2128320"/>
                <a:ext cx="1440" cy="3204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32520" y="20559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7364520" y="2063880"/>
              <a:ext cx="81000" cy="133200"/>
              <a:chOff x="7364520" y="2063880"/>
              <a:chExt cx="81000" cy="133200"/>
            </a:xfrm>
          </p:grpSpPr>
          <p:sp>
            <p:nvSpPr>
              <p:cNvPr id="997" name=""/>
              <p:cNvSpPr/>
              <p:nvPr/>
            </p:nvSpPr>
            <p:spPr>
              <a:xfrm flipV="1">
                <a:off x="7404120" y="2136600"/>
                <a:ext cx="1440" cy="604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36452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7796160" y="2055960"/>
              <a:ext cx="79560" cy="104400"/>
              <a:chOff x="7796160" y="2055960"/>
              <a:chExt cx="79560" cy="1044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7834320" y="2128320"/>
                <a:ext cx="1440" cy="3204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796160" y="205596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5632560" y="1436760"/>
              <a:ext cx="1440" cy="14302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40760" y="2689200"/>
              <a:ext cx="1440" cy="127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40760" y="2793960"/>
              <a:ext cx="1440" cy="52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8593200" y="2048040"/>
              <a:ext cx="79200" cy="104760"/>
              <a:chOff x="8593200" y="2048040"/>
              <a:chExt cx="79200" cy="104760"/>
            </a:xfrm>
          </p:grpSpPr>
          <p:sp>
            <p:nvSpPr>
              <p:cNvPr id="1006" name=""/>
              <p:cNvSpPr/>
              <p:nvPr/>
            </p:nvSpPr>
            <p:spPr>
              <a:xfrm>
                <a:off x="8634240" y="2048040"/>
                <a:ext cx="1800" cy="316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593200" y="20750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 flipH="1">
              <a:off x="472680" y="2824200"/>
              <a:ext cx="423720" cy="315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2598840" y="185760"/>
              <a:ext cx="81000" cy="79200"/>
              <a:chOff x="2598840" y="185760"/>
              <a:chExt cx="81000" cy="79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2678040" y="223920"/>
                <a:ext cx="1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598840" y="18576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50"/>
                    </a:moveTo>
                    <a:lnTo>
                      <a:pt x="50" y="24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511200" y="182520"/>
              <a:ext cx="77760" cy="81000"/>
              <a:chOff x="511200" y="182520"/>
              <a:chExt cx="77760" cy="81000"/>
            </a:xfrm>
          </p:grpSpPr>
          <p:sp>
            <p:nvSpPr>
              <p:cNvPr id="1013" name=""/>
              <p:cNvSpPr/>
              <p:nvPr/>
            </p:nvSpPr>
            <p:spPr>
              <a:xfrm>
                <a:off x="511200" y="223920"/>
                <a:ext cx="1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11200" y="182520"/>
                <a:ext cx="77760" cy="8100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9" y="0"/>
                    </a:moveTo>
                    <a:lnTo>
                      <a:pt x="0" y="26"/>
                    </a:lnTo>
                    <a:lnTo>
                      <a:pt x="49" y="5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7939080" y="372420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1" y="79"/>
                  </a:lnTo>
                  <a:lnTo>
                    <a:pt x="121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221520" y="3724200"/>
              <a:ext cx="225360" cy="146160"/>
            </a:xfrm>
            <a:custGeom>
              <a:avLst/>
              <a:gdLst/>
              <a:ahLst/>
              <a:rect l="l" t="t" r="r" b="b"/>
              <a:pathLst>
                <a:path w="142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2" y="79"/>
                  </a:lnTo>
                  <a:lnTo>
                    <a:pt x="122" y="10"/>
                  </a:lnTo>
                  <a:lnTo>
                    <a:pt x="142" y="10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42040" y="3716280"/>
              <a:ext cx="225360" cy="146160"/>
            </a:xfrm>
            <a:custGeom>
              <a:avLst/>
              <a:gdLst/>
              <a:ahLst/>
              <a:rect l="l" t="t" r="r" b="b"/>
              <a:pathLst>
                <a:path w="142" h="92">
                  <a:moveTo>
                    <a:pt x="0" y="0"/>
                  </a:moveTo>
                  <a:lnTo>
                    <a:pt x="0" y="77"/>
                  </a:lnTo>
                  <a:lnTo>
                    <a:pt x="16" y="77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2" y="80"/>
                  </a:lnTo>
                  <a:lnTo>
                    <a:pt x="122" y="11"/>
                  </a:lnTo>
                  <a:lnTo>
                    <a:pt x="142" y="11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89560" y="3724200"/>
              <a:ext cx="22356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2" y="79"/>
                  </a:lnTo>
                  <a:lnTo>
                    <a:pt x="122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635280" y="3708360"/>
              <a:ext cx="223920" cy="14760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3"/>
                  </a:lnTo>
                  <a:lnTo>
                    <a:pt x="106" y="93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89280" y="373068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17720" y="373068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47600" y="372420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5" y="76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1" y="79"/>
                  </a:lnTo>
                  <a:lnTo>
                    <a:pt x="121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4775040" y="2011320"/>
              <a:ext cx="79560" cy="127080"/>
              <a:chOff x="4775040" y="2011320"/>
              <a:chExt cx="79560" cy="127080"/>
            </a:xfrm>
          </p:grpSpPr>
          <p:sp>
            <p:nvSpPr>
              <p:cNvPr id="1024" name=""/>
              <p:cNvSpPr/>
              <p:nvPr/>
            </p:nvSpPr>
            <p:spPr>
              <a:xfrm>
                <a:off x="4816440" y="2011320"/>
                <a:ext cx="1800" cy="540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775040" y="206064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8224920" y="2048040"/>
              <a:ext cx="79200" cy="104760"/>
              <a:chOff x="8224920" y="2048040"/>
              <a:chExt cx="79200" cy="104760"/>
            </a:xfrm>
          </p:grpSpPr>
          <p:sp>
            <p:nvSpPr>
              <p:cNvPr id="1027" name=""/>
              <p:cNvSpPr/>
              <p:nvPr/>
            </p:nvSpPr>
            <p:spPr>
              <a:xfrm>
                <a:off x="8265960" y="2048040"/>
                <a:ext cx="1800" cy="316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224920" y="20750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OBINADO DEL ES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"/>
          <p:cNvGrpSpPr/>
          <p:nvPr/>
        </p:nvGrpSpPr>
        <p:grpSpPr>
          <a:xfrm>
            <a:off x="1124280" y="1851120"/>
            <a:ext cx="3503160" cy="2415960"/>
            <a:chOff x="1124280" y="1851120"/>
            <a:chExt cx="3503160" cy="2415960"/>
          </a:xfrm>
        </p:grpSpPr>
        <p:grpSp>
          <p:nvGrpSpPr>
            <p:cNvPr id="1031" name=""/>
            <p:cNvGrpSpPr/>
            <p:nvPr/>
          </p:nvGrpSpPr>
          <p:grpSpPr>
            <a:xfrm>
              <a:off x="1124280" y="1935000"/>
              <a:ext cx="873000" cy="2332080"/>
              <a:chOff x="1124280" y="1935000"/>
              <a:chExt cx="873000" cy="2332080"/>
            </a:xfrm>
          </p:grpSpPr>
          <p:sp>
            <p:nvSpPr>
              <p:cNvPr id="1032" name=""/>
              <p:cNvSpPr/>
              <p:nvPr/>
            </p:nvSpPr>
            <p:spPr>
              <a:xfrm rot="16132800">
                <a:off x="548280" y="253836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132800">
                <a:off x="604800" y="253692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16132800">
                <a:off x="584280" y="253764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16132800">
                <a:off x="631440" y="253692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132800">
                <a:off x="652320" y="253656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361160" y="3674520"/>
                <a:ext cx="0" cy="54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789920" y="3655440"/>
                <a:ext cx="0" cy="54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61480" y="4192920"/>
                <a:ext cx="536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335960" y="42130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2571840" y="1851120"/>
              <a:ext cx="2055600" cy="2401200"/>
              <a:chOff x="2571840" y="1851120"/>
              <a:chExt cx="2055600" cy="240120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2880360" y="1935000"/>
                <a:ext cx="1747080" cy="2317320"/>
                <a:chOff x="2880360" y="1935000"/>
                <a:chExt cx="1747080" cy="2317320"/>
              </a:xfrm>
            </p:grpSpPr>
            <p:sp>
              <p:nvSpPr>
                <p:cNvPr id="1043" name=""/>
                <p:cNvSpPr/>
                <p:nvPr/>
              </p:nvSpPr>
              <p:spPr>
                <a:xfrm rot="16132800">
                  <a:off x="2477880" y="2536560"/>
                  <a:ext cx="1920600" cy="731520"/>
                </a:xfrm>
                <a:prstGeom prst="hexagon">
                  <a:avLst>
                    <a:gd name="adj" fmla="val 6563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255120" y="4179240"/>
                  <a:ext cx="53640" cy="5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586320" y="4198320"/>
                  <a:ext cx="54000" cy="5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283920" y="3661200"/>
                  <a:ext cx="0" cy="54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611880" y="3651480"/>
                  <a:ext cx="0" cy="54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880360" y="2418840"/>
                  <a:ext cx="109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2908800" y="3371400"/>
                  <a:ext cx="109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895920" y="1942560"/>
                  <a:ext cx="7315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Cabezas de bobin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895920" y="2674080"/>
                  <a:ext cx="7315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ados de bobin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617640" y="3781080"/>
                  <a:ext cx="8265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Termina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697480" y="239976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97480" y="302076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063240" y="285696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11880" y="285696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019320" y="2043360"/>
                <a:ext cx="18288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571840" y="275040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255480" y="267588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760480" y="185112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6134040" y="2537280"/>
            <a:ext cx="2019240" cy="1177200"/>
            <a:chOff x="6134040" y="2537280"/>
            <a:chExt cx="2019240" cy="1177200"/>
          </a:xfrm>
        </p:grpSpPr>
        <p:sp>
          <p:nvSpPr>
            <p:cNvPr id="1062" name=""/>
            <p:cNvSpPr/>
            <p:nvPr/>
          </p:nvSpPr>
          <p:spPr>
            <a:xfrm rot="5400000">
              <a:off x="6777720" y="2939040"/>
              <a:ext cx="639720" cy="365040"/>
            </a:xfrm>
            <a:custGeom>
              <a:avLst/>
              <a:gdLst>
                <a:gd name="textAreaLeft" fmla="*/ 0 w 639720"/>
                <a:gd name="textAreaRight" fmla="*/ 448920 w 639720"/>
                <a:gd name="textAreaTop" fmla="*/ 15120 h 365040"/>
                <a:gd name="textAreaBottom" fmla="*/ 349920 h 36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199640" y="2711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59560" y="2720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199640" y="271152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016760" y="272088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199640" y="280188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924960" y="2801880"/>
              <a:ext cx="9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6134040" y="2537280"/>
              <a:ext cx="1035720" cy="1177200"/>
              <a:chOff x="6134040" y="2537280"/>
              <a:chExt cx="1035720" cy="1177200"/>
            </a:xfrm>
          </p:grpSpPr>
          <p:sp>
            <p:nvSpPr>
              <p:cNvPr id="1070" name=""/>
              <p:cNvSpPr/>
              <p:nvPr/>
            </p:nvSpPr>
            <p:spPr>
              <a:xfrm rot="1850400">
                <a:off x="6298920" y="26478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850400">
                <a:off x="6305400" y="27180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850400">
                <a:off x="6297480" y="26910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850400">
                <a:off x="6325200" y="275184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850400">
                <a:off x="6297840" y="26604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850400">
                <a:off x="6322320" y="27237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850400">
                <a:off x="6327000" y="27712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850400">
                <a:off x="6348240" y="27838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7098840" y="2617200"/>
              <a:ext cx="1054440" cy="1044360"/>
              <a:chOff x="7098840" y="2617200"/>
              <a:chExt cx="1054440" cy="1044360"/>
            </a:xfrm>
          </p:grpSpPr>
          <p:sp>
            <p:nvSpPr>
              <p:cNvPr id="1079" name=""/>
              <p:cNvSpPr/>
              <p:nvPr/>
            </p:nvSpPr>
            <p:spPr>
              <a:xfrm flipH="1" rot="17453400">
                <a:off x="7269480" y="26607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rot="17453400">
                <a:off x="7307640" y="27201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 rot="17453400">
                <a:off x="7297200" y="26938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rot="17453400">
                <a:off x="7313040" y="27586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 rot="17453400">
                <a:off x="7277760" y="267012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 rot="17453400">
                <a:off x="7297920" y="273492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 rot="17453400">
                <a:off x="7323480" y="277524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 rot="17453400">
                <a:off x="7314840" y="27982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7" name=""/>
          <p:cNvSpPr/>
          <p:nvPr/>
        </p:nvSpPr>
        <p:spPr>
          <a:xfrm>
            <a:off x="57913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inado en doble c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05120" y="4740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i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76688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sgtf315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9784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77156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sgt4054" descr=""/>
          <p:cNvPicPr/>
          <p:nvPr/>
        </p:nvPicPr>
        <p:blipFill>
          <a:blip r:embed="rId1"/>
          <a:stretch/>
        </p:blipFill>
        <p:spPr>
          <a:xfrm>
            <a:off x="677880" y="1295280"/>
            <a:ext cx="77803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176688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sgt71f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1504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2872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6360" y="282600"/>
          <a:ext cx="8532720" cy="63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282600"/>
                    <a:ext cx="853272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17668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6" name="sgt9292" descr=""/>
          <p:cNvPicPr/>
          <p:nvPr/>
        </p:nvPicPr>
        <p:blipFill>
          <a:blip r:embed="rId1"/>
          <a:stretch/>
        </p:blipFill>
        <p:spPr>
          <a:xfrm>
            <a:off x="519120" y="528480"/>
            <a:ext cx="80154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19000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sgtb353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427880" cy="508464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838080" y="776160"/>
            <a:ext cx="40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BINADO DE PASO C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TODO DE CA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"/>
          <p:cNvGrpSpPr/>
          <p:nvPr/>
        </p:nvGrpSpPr>
        <p:grpSpPr>
          <a:xfrm>
            <a:off x="-308880" y="31680"/>
            <a:ext cx="9445320" cy="6784920"/>
            <a:chOff x="-308880" y="31680"/>
            <a:chExt cx="9445320" cy="6784920"/>
          </a:xfrm>
        </p:grpSpPr>
        <p:sp>
          <p:nvSpPr>
            <p:cNvPr id="1102" name=""/>
            <p:cNvSpPr/>
            <p:nvPr/>
          </p:nvSpPr>
          <p:spPr>
            <a:xfrm>
              <a:off x="7101000" y="1065240"/>
              <a:ext cx="68256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408880" y="1065240"/>
              <a:ext cx="63684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01000" y="3024360"/>
              <a:ext cx="682560" cy="49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408880" y="3024360"/>
              <a:ext cx="636840" cy="49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01000" y="4503600"/>
              <a:ext cx="682560" cy="268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408880" y="4503600"/>
              <a:ext cx="636840" cy="268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101000" y="5302080"/>
              <a:ext cx="68256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408880" y="5302080"/>
              <a:ext cx="63684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01000" y="6102360"/>
              <a:ext cx="682560" cy="225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408880" y="6102360"/>
              <a:ext cx="636840" cy="225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-23760" y="31680"/>
              <a:ext cx="149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UNIVERSIDAD DE CH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-203760" y="214200"/>
              <a:ext cx="281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PARTAMENTO DE INGENIERIA ELECT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-308880" y="1096920"/>
              <a:ext cx="286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PECIFICACIONES DEL M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399720" y="1092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479640" y="118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29240" y="1092240"/>
              <a:ext cx="61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H.P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363440" y="1103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55640" y="11034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578080" y="11034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450480" y="1359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520680" y="1447920"/>
              <a:ext cx="14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f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567480" y="1359000"/>
              <a:ext cx="38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V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31484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97976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60220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34200" y="1609560"/>
              <a:ext cx="70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f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1060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07552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69940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406560" y="183348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  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36344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02872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65260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499080" y="20527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40640" y="20415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33752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00280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62668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631200" y="2266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33752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00280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62668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13760" y="25160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91160" y="26067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26720" y="2516040"/>
              <a:ext cx="60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N 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24176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4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90704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9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52912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9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62840" y="27828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13600" y="28735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ar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17280" y="2782800"/>
              <a:ext cx="58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1,5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423120" y="278928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N· 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192800" y="27939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2.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907040" y="27939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4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529120" y="27939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9.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59760" y="3049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43356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356880" y="3049560"/>
              <a:ext cx="75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r.p.m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26588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93116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55504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630480" y="330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29036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95564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57808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247080" y="3524400"/>
              <a:ext cx="86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  [r.p.m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6588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93116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55504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31040" y="3801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160320" y="380196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Nºde polos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41060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07552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69940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-155880" y="4025880"/>
              <a:ext cx="198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EÑO DEL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49480" y="4297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22640" y="4262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04640" y="4352760"/>
              <a:ext cx="38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sta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64560" y="4262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542400" y="4262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566520" y="4352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466080" y="4262400"/>
              <a:ext cx="91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 = 746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93640" y="4352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207320" y="426240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3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15040" y="4251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44920" y="42624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86480" y="4251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908760" y="426888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0232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.9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05140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.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67060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.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49480" y="4564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0040" y="4529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3200" y="4619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6480" y="4529160"/>
              <a:ext cx="178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/polo f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29800" y="4529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10800" y="4619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68204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33292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95176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9480" y="4830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10040" y="4795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7880" y="4886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23640" y="4795920"/>
              <a:ext cx="137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/p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29800" y="4795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615480" y="4886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620520" y="479592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71440" y="4886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801600" y="4795920"/>
              <a:ext cx="91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·  Nº f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60320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25264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87184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9480" y="5097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040" y="506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7880" y="515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0440" y="5062680"/>
              <a:ext cx="159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529800" y="506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615480" y="515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617640" y="506268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62080" y="51516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·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57840" y="506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60320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25264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87184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49480" y="5364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280" y="531648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80240" y="541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88280" y="5329080"/>
              <a:ext cx="20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aso de la ranura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40240" y="531648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599640" y="541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51800" y="533412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81160" y="53402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252640" y="534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871840" y="534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9480" y="5629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20120" y="5583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7240" y="5684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58360" y="5684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06000" y="5594400"/>
              <a:ext cx="163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aso del polo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538080" y="558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23400" y="5691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575520" y="558648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80440" y="56912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84760" y="5586480"/>
              <a:ext cx="2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048920" y="5691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751800" y="560088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402320" y="5607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87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72000" y="5607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791200" y="5607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49480" y="5896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-53280" y="5867280"/>
              <a:ext cx="278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  Diámetro del entrehierro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493800" y="586116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53720" y="5850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836160" y="59515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898800" y="58611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21200" y="585000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51800" y="586728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32132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38.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7076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.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58996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.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49480" y="6141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-105120" y="6113520"/>
              <a:ext cx="308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  Carga específica del estator [A/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532320" y="6113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739560" y="611352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/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32132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,9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97076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,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58996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,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9480" y="6365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-107640" y="6335640"/>
              <a:ext cx="312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  Nº conductores estator por ran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29800" y="6335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60320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25264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87184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040" y="6608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-94320" y="6580080"/>
              <a:ext cx="303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Z   Nº conductores en serie por f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444120" y="6573960"/>
              <a:ext cx="61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Z = C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928320" y="66643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93840" y="6573960"/>
              <a:ext cx="15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52256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17200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79120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17160" y="387360"/>
              <a:ext cx="501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ALLER DE DISEÑO EN SISTEMAS DE POTENCIA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92520" y="642960"/>
              <a:ext cx="278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 Semestre de Primavera de 2009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602720" y="853920"/>
              <a:ext cx="611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ISEÑO DE UN MOTOR DE INDUCCION ROTOR DE JAULA DE ARDIL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33200" y="1060560"/>
              <a:ext cx="1800" cy="27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3200" y="1060560"/>
              <a:ext cx="9720" cy="27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3200" y="2490840"/>
              <a:ext cx="1800" cy="152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3200" y="2490840"/>
              <a:ext cx="9720" cy="152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3200" y="4230720"/>
              <a:ext cx="1800" cy="258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3200" y="4230720"/>
              <a:ext cx="9720" cy="258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188040" y="1071720"/>
              <a:ext cx="1800" cy="29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188040" y="1071720"/>
              <a:ext cx="9720" cy="294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9776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9776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754760" y="1071720"/>
              <a:ext cx="180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754760" y="1071720"/>
              <a:ext cx="972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76304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76304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77096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7096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7777080" y="1071720"/>
            <a:ext cx="180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777080" y="1071720"/>
            <a:ext cx="972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40420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404200" y="1071720"/>
            <a:ext cx="972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902340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902340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903132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03132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903924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903924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911840" y="2484360"/>
            <a:ext cx="1440" cy="153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911840" y="2484360"/>
            <a:ext cx="9360" cy="15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78000" y="4243320"/>
            <a:ext cx="1440" cy="257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78000" y="4243320"/>
            <a:ext cx="9360" cy="257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42920" y="106056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42920" y="1060560"/>
            <a:ext cx="8907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42920" y="132732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42920" y="1327320"/>
            <a:ext cx="89074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97760" y="159228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197760" y="1592280"/>
            <a:ext cx="90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97760" y="181620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97760" y="1816200"/>
            <a:ext cx="90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197760" y="203832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97760" y="2038320"/>
            <a:ext cx="90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97760" y="226224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197760" y="2262240"/>
            <a:ext cx="90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21200" y="2484360"/>
            <a:ext cx="218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921200" y="2484360"/>
            <a:ext cx="2185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42920" y="400860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42920" y="4008600"/>
            <a:ext cx="89074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42920" y="423072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42920" y="4230720"/>
            <a:ext cx="8907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" descr=""/>
          <p:cNvPicPr/>
          <p:nvPr/>
        </p:nvPicPr>
        <p:blipFill>
          <a:blip r:embed="rId1"/>
          <a:stretch/>
        </p:blipFill>
        <p:spPr>
          <a:xfrm>
            <a:off x="133200" y="57240"/>
            <a:ext cx="8915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" descr=""/>
          <p:cNvPicPr/>
          <p:nvPr/>
        </p:nvPicPr>
        <p:blipFill>
          <a:blip r:embed="rId1"/>
          <a:stretch/>
        </p:blipFill>
        <p:spPr>
          <a:xfrm>
            <a:off x="19080" y="111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" descr=""/>
          <p:cNvPicPr/>
          <p:nvPr/>
        </p:nvPicPr>
        <p:blipFill>
          <a:blip r:embed="rId1"/>
          <a:stretch/>
        </p:blipFill>
        <p:spPr>
          <a:xfrm>
            <a:off x="28440" y="76320"/>
            <a:ext cx="9115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28440" y="685800"/>
            <a:ext cx="9115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" descr=""/>
          <p:cNvPicPr/>
          <p:nvPr/>
        </p:nvPicPr>
        <p:blipFill>
          <a:blip r:embed="rId1"/>
          <a:stretch/>
        </p:blipFill>
        <p:spPr>
          <a:xfrm>
            <a:off x="190440" y="49320"/>
            <a:ext cx="88394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8128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9280" y="306360"/>
          <a:ext cx="8237520" cy="617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306360"/>
                    <a:ext cx="823752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912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0374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motor%20final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257800" cy="261324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/>
          <p:nvPr/>
        </p:nvSpPr>
        <p:spPr>
          <a:xfrm>
            <a:off x="3962520" y="548640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OCESO ESQU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 FABR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 MOTORES DE IN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2876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ha" descr=""/>
          <p:cNvPicPr/>
          <p:nvPr/>
        </p:nvPicPr>
        <p:blipFill>
          <a:blip r:embed="rId1"/>
          <a:stretch/>
        </p:blipFill>
        <p:spPr>
          <a:xfrm>
            <a:off x="609480" y="2682720"/>
            <a:ext cx="7809120" cy="188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00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765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33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2876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00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irculitos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609480"/>
            <a:ext cx="8001000" cy="1684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765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circulo2" descr=""/>
          <p:cNvPicPr/>
          <p:nvPr/>
        </p:nvPicPr>
        <p:blipFill>
          <a:blip r:embed="rId2"/>
          <a:stretch/>
        </p:blipFill>
        <p:spPr>
          <a:xfrm>
            <a:off x="3581280" y="2554200"/>
            <a:ext cx="1981440" cy="1949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33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otor2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600200" y="4600440"/>
            <a:ext cx="53053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7670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otor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776680" y="457200"/>
            <a:ext cx="4309920" cy="3086280"/>
          </a:xfrm>
          <a:prstGeom prst="rect">
            <a:avLst/>
          </a:prstGeom>
          <a:ln w="0">
            <a:noFill/>
          </a:ln>
        </p:spPr>
      </p:pic>
      <p:pic>
        <p:nvPicPr>
          <p:cNvPr id="69" name="motor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676520" y="4089240"/>
            <a:ext cx="5881680" cy="1854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289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670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7652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2120" y="685800"/>
            <a:ext cx="6724440" cy="2840040"/>
          </a:xfrm>
          <a:prstGeom prst="rect">
            <a:avLst/>
          </a:prstGeom>
          <a:ln w="0">
            <a:noFill/>
          </a:ln>
        </p:spPr>
      </p:pic>
      <p:pic>
        <p:nvPicPr>
          <p:cNvPr id="74" name="ali6" descr=""/>
          <p:cNvPicPr/>
          <p:nvPr/>
        </p:nvPicPr>
        <p:blipFill>
          <a:blip r:embed="rId2"/>
          <a:srcRect l="0" t="17640" r="0" b="29095"/>
          <a:stretch/>
        </p:blipFill>
        <p:spPr>
          <a:xfrm>
            <a:off x="685800" y="4299120"/>
            <a:ext cx="7543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01:55:53Z</dcterms:created>
  <dc:creator>Lucero Baeza</dc:creator>
  <dc:description/>
  <dc:language>en-US</dc:language>
  <cp:lastModifiedBy>alucero</cp:lastModifiedBy>
  <dcterms:modified xsi:type="dcterms:W3CDTF">2010-08-09T23:09:16Z</dcterms:modified>
  <cp:revision>25</cp:revision>
  <dc:subject/>
  <dc:title>Presentación de PowerPoint</dc:title>
</cp:coreProperties>
</file>