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wmf" ContentType="image/x-wmf"/>
  <Override PartName="/ppt/media/image28.jpeg" ContentType="image/jpe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7.png" ContentType="image/png"/>
  <Override PartName="/ppt/media/image2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30.jpeg" ContentType="image/jpeg"/>
  <Override PartName="/ppt/media/image37.wmf" ContentType="image/x-wmf"/>
  <Override PartName="/ppt/media/image17.png" ContentType="image/png"/>
  <Override PartName="/ppt/media/image31.wmf" ContentType="image/x-wmf"/>
  <Override PartName="/ppt/media/image8.jpeg" ContentType="image/jpeg"/>
  <Override PartName="/ppt/media/image33.wmf" ContentType="image/x-wmf"/>
  <Override PartName="/ppt/media/image29.jpeg" ContentType="image/jpeg"/>
  <Override PartName="/ppt/media/image32.wmf" ContentType="image/x-wmf"/>
  <Override PartName="/ppt/media/image36.wmf" ContentType="image/x-wmf"/>
  <Override PartName="/ppt/media/image38.wmf" ContentType="image/x-wmf"/>
  <Override PartName="/ppt/media/image12.wmf" ContentType="image/x-wmf"/>
  <Override PartName="/ppt/media/image6.jpeg" ContentType="image/jpeg"/>
  <Override PartName="/ppt/media/image35.wmf" ContentType="image/x-wmf"/>
  <Override PartName="/ppt/media/image5.wmf" ContentType="image/x-wmf"/>
  <Override PartName="/ppt/media/image27.jpeg" ContentType="image/jpeg"/>
  <Override PartName="/ppt/media/image10.jpeg" ContentType="image/jpeg"/>
  <Override PartName="/ppt/media/image14.png" ContentType="image/png"/>
  <Override PartName="/ppt/media/image34.wmf" ContentType="image/x-wmf"/>
  <Override PartName="/ppt/media/image4.wmf" ContentType="image/x-wmf"/>
  <Override PartName="/ppt/media/image3.png" ContentType="image/png"/>
  <Override PartName="/ppt/media/image23.jpeg" ContentType="image/jpeg"/>
  <Override PartName="/ppt/media/image25.wmf" ContentType="image/x-wmf"/>
  <Override PartName="/ppt/media/image1.png" ContentType="image/png"/>
  <Override PartName="/ppt/media/image1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DC0F-5707-478A-B7EF-A70E571E5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BBB0-B794-400B-B255-43B1D5720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DEB5-3185-46B5-8EDE-D6385A51A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3BD7-D1BC-4FB1-AAAF-2069BAD69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64D4-7793-4626-A0BB-2CFBDE064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372A-A681-4ED9-97B7-4FF697205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4A20-D9F8-485F-BC96-6E9475D3A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6782-D290-481D-A4D5-DCB10418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1ADE-C481-4752-BD32-CA97AE90E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96EA-12C6-457E-B11B-F7F46ADD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6DFF-4AF2-4C40-A1D4-A24F87EB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BEEF-7CA1-4F55-910D-EC72171C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98EB0-778F-4B3C-847E-297224FBD3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980720" y="2133360"/>
            <a:ext cx="5715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EL 67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TALLER DE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EN SISTEMAS DE POTENCIA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Profesor: Ing. Augusto Lucero Al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90720" y="289080"/>
            <a:ext cx="3581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FACULTAD DE CIENCIAS FISICAS Y MATEMATIC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ESCUELA DE INGENIERIA Y CIENCI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DEPARTAMENTO DE INGENIERIA ELECTR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9840" y="-60480"/>
            <a:ext cx="920880" cy="1355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486400" y="152280"/>
            <a:ext cx="2438280" cy="121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"/>
          <p:cNvGraphicFramePr/>
          <p:nvPr/>
        </p:nvGraphicFramePr>
        <p:xfrm>
          <a:off x="8305920" y="303120"/>
          <a:ext cx="476280" cy="103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05920" y="303120"/>
                    <a:ext cx="47628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27160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33856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motor6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295280" y="533520"/>
            <a:ext cx="6600960" cy="24336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51000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ali21" descr=""/>
          <p:cNvPicPr/>
          <p:nvPr/>
        </p:nvPicPr>
        <p:blipFill>
          <a:blip r:embed="rId2"/>
          <a:srcRect l="3627" t="7747" r="11180" b="15604"/>
          <a:stretch/>
        </p:blipFill>
        <p:spPr>
          <a:xfrm>
            <a:off x="304920" y="3581280"/>
            <a:ext cx="3124080" cy="2563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3962520" y="4210200"/>
            <a:ext cx="488628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503280" y="533520"/>
            <a:ext cx="6583320" cy="2895120"/>
            <a:chOff x="503280" y="533520"/>
            <a:chExt cx="6583320" cy="2895120"/>
          </a:xfrm>
        </p:grpSpPr>
        <p:sp>
          <p:nvSpPr>
            <p:cNvPr id="82" name=""/>
            <p:cNvSpPr/>
            <p:nvPr/>
          </p:nvSpPr>
          <p:spPr>
            <a:xfrm>
              <a:off x="1080720" y="533520"/>
              <a:ext cx="461880" cy="37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BankGothic Md BT"/>
                </a:rPr>
                <a:t>l</a:t>
              </a:r>
              <a:r>
                <a:rPr b="1" lang="es-ES_tradnl" sz="1200" spc="-1" strike="noStrike" baseline="-25000">
                  <a:solidFill>
                    <a:srgbClr val="000000"/>
                  </a:solidFill>
                  <a:latin typeface="BankGothic Md BT"/>
                </a:rPr>
                <a:t>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852720" y="1219320"/>
              <a:ext cx="461880" cy="37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BankGothic Md BT"/>
                </a:rPr>
                <a:t>h</a:t>
              </a:r>
              <a:r>
                <a:rPr b="1" lang="es-ES_tradnl" sz="1200" spc="-1" strike="noStrike" baseline="-25000">
                  <a:solidFill>
                    <a:srgbClr val="000000"/>
                  </a:solidFill>
                  <a:latin typeface="BankGothic Md BT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852720" y="939240"/>
              <a:ext cx="461880" cy="37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BankGothic Md BT"/>
                </a:rPr>
                <a:t>y</a:t>
              </a:r>
              <a:r>
                <a:rPr b="1" lang="es-ES_tradnl" sz="1200" spc="-1" strike="noStrike" baseline="-25000">
                  <a:solidFill>
                    <a:srgbClr val="000000"/>
                  </a:solidFill>
                  <a:latin typeface="BankGothic Md BT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44720" y="1821240"/>
              <a:ext cx="641520" cy="37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BankGothic Md BT"/>
                </a:rPr>
                <a:t>D</a:t>
              </a:r>
              <a:r>
                <a:rPr b="1" lang="es-ES_tradnl" sz="1200" spc="-1" strike="noStrike" baseline="-25000">
                  <a:solidFill>
                    <a:srgbClr val="000000"/>
                  </a:solidFill>
                  <a:latin typeface="BankGothic Md BT"/>
                </a:rPr>
                <a:t>ex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52720" y="1806840"/>
              <a:ext cx="461880" cy="37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BankGothic Md BT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901880" y="3051000"/>
              <a:ext cx="577440" cy="37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BankGothic Md BT"/>
                </a:rPr>
                <a:t>l</a:t>
              </a:r>
              <a:r>
                <a:rPr b="1" lang="es-ES_tradnl" sz="1200" spc="-1" strike="noStrike" baseline="-25000">
                  <a:solidFill>
                    <a:srgbClr val="000000"/>
                  </a:solidFill>
                  <a:latin typeface="BankGothic Md BT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4545720" y="657360"/>
              <a:ext cx="1847880" cy="2645280"/>
              <a:chOff x="4545720" y="657360"/>
              <a:chExt cx="1847880" cy="2645280"/>
            </a:xfrm>
          </p:grpSpPr>
          <p:sp>
            <p:nvSpPr>
              <p:cNvPr id="89" name=""/>
              <p:cNvSpPr/>
              <p:nvPr/>
            </p:nvSpPr>
            <p:spPr>
              <a:xfrm>
                <a:off x="4545720" y="1035000"/>
                <a:ext cx="1847880" cy="1889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853520" y="1272960"/>
                <a:ext cx="1270440" cy="1385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084640" y="1510920"/>
                <a:ext cx="808200" cy="88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482440" y="657360"/>
                <a:ext cx="0" cy="264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981360" y="1035360"/>
              <a:ext cx="2329920" cy="1889280"/>
              <a:chOff x="981360" y="1035360"/>
              <a:chExt cx="2329920" cy="1889280"/>
            </a:xfrm>
          </p:grpSpPr>
          <p:sp>
            <p:nvSpPr>
              <p:cNvPr id="94" name=""/>
              <p:cNvSpPr/>
              <p:nvPr/>
            </p:nvSpPr>
            <p:spPr>
              <a:xfrm flipH="1" flipV="1" rot="21183600">
                <a:off x="1054080" y="2464560"/>
                <a:ext cx="808200" cy="192960"/>
              </a:xfrm>
              <a:prstGeom prst="parallelogram">
                <a:avLst>
                  <a:gd name="adj" fmla="val 104711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 rot="416400">
                <a:off x="990000" y="1301040"/>
                <a:ext cx="808200" cy="192960"/>
              </a:xfrm>
              <a:prstGeom prst="parallelogram">
                <a:avLst>
                  <a:gd name="adj" fmla="val 104711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V="1" rot="416400">
                <a:off x="2466360" y="2464560"/>
                <a:ext cx="808200" cy="192960"/>
              </a:xfrm>
              <a:prstGeom prst="parallelogram">
                <a:avLst>
                  <a:gd name="adj" fmla="val 104711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21183600">
                <a:off x="2494440" y="1297440"/>
                <a:ext cx="808200" cy="192960"/>
              </a:xfrm>
              <a:prstGeom prst="parallelogram">
                <a:avLst>
                  <a:gd name="adj" fmla="val 104711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" name=""/>
              <p:cNvGrpSpPr/>
              <p:nvPr/>
            </p:nvGrpSpPr>
            <p:grpSpPr>
              <a:xfrm>
                <a:off x="1542240" y="1035360"/>
                <a:ext cx="1270440" cy="1889280"/>
                <a:chOff x="1542240" y="1035360"/>
                <a:chExt cx="1270440" cy="188928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42240" y="1035360"/>
                  <a:ext cx="1270440" cy="1889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42240" y="1287000"/>
                  <a:ext cx="1270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1542240" y="1539000"/>
                  <a:ext cx="1270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1542240" y="2420640"/>
                  <a:ext cx="1270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1542240" y="2672640"/>
                  <a:ext cx="1270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4" name=""/>
            <p:cNvSpPr/>
            <p:nvPr/>
          </p:nvSpPr>
          <p:spPr>
            <a:xfrm>
              <a:off x="503280" y="1973160"/>
              <a:ext cx="6583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42600" y="3177000"/>
              <a:ext cx="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13040" y="3177000"/>
              <a:ext cx="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351160" y="3232800"/>
              <a:ext cx="46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542600" y="3232800"/>
              <a:ext cx="46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83480" y="1037160"/>
              <a:ext cx="23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083480" y="1275120"/>
              <a:ext cx="23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083480" y="1513080"/>
              <a:ext cx="23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083480" y="2381040"/>
              <a:ext cx="23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393600" y="1037160"/>
              <a:ext cx="23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3600" y="2926800"/>
              <a:ext cx="23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09160" y="1051200"/>
              <a:ext cx="0" cy="188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186080" y="813240"/>
              <a:ext cx="0" cy="188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2600" y="813240"/>
              <a:ext cx="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003680" y="813240"/>
              <a:ext cx="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90720" y="869040"/>
              <a:ext cx="57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4109400" y="1457280"/>
              <a:ext cx="11520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4122000" y="967320"/>
              <a:ext cx="11520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4122000" y="2324880"/>
              <a:ext cx="11520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4122000" y="1219320"/>
              <a:ext cx="11520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432120" y="981360"/>
              <a:ext cx="11520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6457680" y="2856960"/>
              <a:ext cx="11520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1491480" y="3164760"/>
              <a:ext cx="11520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2748960" y="3192840"/>
              <a:ext cx="11520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939600" y="813240"/>
              <a:ext cx="11520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1478520" y="813240"/>
              <a:ext cx="11520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4500720" y="3504960"/>
            <a:ext cx="4033440" cy="2590200"/>
            <a:chOff x="4500720" y="3504960"/>
            <a:chExt cx="4033440" cy="2590200"/>
          </a:xfrm>
        </p:grpSpPr>
        <p:grpSp>
          <p:nvGrpSpPr>
            <p:cNvPr id="131" name=""/>
            <p:cNvGrpSpPr/>
            <p:nvPr/>
          </p:nvGrpSpPr>
          <p:grpSpPr>
            <a:xfrm>
              <a:off x="4500720" y="3504960"/>
              <a:ext cx="4033440" cy="2590200"/>
              <a:chOff x="4500720" y="3504960"/>
              <a:chExt cx="4033440" cy="2590200"/>
            </a:xfrm>
          </p:grpSpPr>
          <p:grpSp>
            <p:nvGrpSpPr>
              <p:cNvPr id="132" name=""/>
              <p:cNvGrpSpPr/>
              <p:nvPr/>
            </p:nvGrpSpPr>
            <p:grpSpPr>
              <a:xfrm>
                <a:off x="4500720" y="3504960"/>
                <a:ext cx="2453040" cy="2590200"/>
                <a:chOff x="4500720" y="3504960"/>
                <a:chExt cx="2453040" cy="2590200"/>
              </a:xfrm>
            </p:grpSpPr>
            <p:sp>
              <p:nvSpPr>
                <p:cNvPr id="133" name=""/>
                <p:cNvSpPr/>
                <p:nvPr/>
              </p:nvSpPr>
              <p:spPr>
                <a:xfrm flipV="1">
                  <a:off x="6258240" y="3504960"/>
                  <a:ext cx="568800" cy="644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lg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4" name=""/>
                <p:cNvGrpSpPr/>
                <p:nvPr/>
              </p:nvGrpSpPr>
              <p:grpSpPr>
                <a:xfrm>
                  <a:off x="4500720" y="3619440"/>
                  <a:ext cx="2453040" cy="2475720"/>
                  <a:chOff x="4500720" y="3619440"/>
                  <a:chExt cx="2453040" cy="2475720"/>
                </a:xfrm>
              </p:grpSpPr>
              <p:sp>
                <p:nvSpPr>
                  <p:cNvPr id="135" name=""/>
                  <p:cNvSpPr/>
                  <p:nvPr/>
                </p:nvSpPr>
                <p:spPr>
                  <a:xfrm>
                    <a:off x="5132880" y="3619440"/>
                    <a:ext cx="1820880" cy="193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5082480" y="3662280"/>
                    <a:ext cx="1820880" cy="193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5019120" y="3690720"/>
                    <a:ext cx="1820880" cy="193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4968360" y="3747960"/>
                    <a:ext cx="1820880" cy="193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4917960" y="3791160"/>
                    <a:ext cx="1820880" cy="193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4867200" y="3848400"/>
                    <a:ext cx="1820880" cy="193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4816800" y="3891240"/>
                    <a:ext cx="1820880" cy="193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4766040" y="3934080"/>
                    <a:ext cx="1820880" cy="193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4715640" y="3991320"/>
                    <a:ext cx="1820880" cy="193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4664880" y="4034160"/>
                    <a:ext cx="1820880" cy="193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4601880" y="4062960"/>
                    <a:ext cx="1820880" cy="193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4551120" y="4105800"/>
                    <a:ext cx="1820880" cy="193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4500720" y="4163040"/>
                    <a:ext cx="1820880" cy="193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4687200" y="4367160"/>
                    <a:ext cx="1460160" cy="1510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4878360" y="4592520"/>
                    <a:ext cx="1025640" cy="1059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0" name=""/>
                <p:cNvSpPr/>
                <p:nvPr/>
              </p:nvSpPr>
              <p:spPr>
                <a:xfrm>
                  <a:off x="5221080" y="4936680"/>
                  <a:ext cx="341280" cy="386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V="1">
                  <a:off x="4829400" y="5122080"/>
                  <a:ext cx="568800" cy="644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lg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2" name=""/>
              <p:cNvSpPr/>
              <p:nvPr/>
            </p:nvSpPr>
            <p:spPr>
              <a:xfrm>
                <a:off x="7168680" y="5566320"/>
                <a:ext cx="1365480" cy="515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BankGothic Md BT"/>
                  </a:rPr>
                  <a:t>N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BankGothic Md BT"/>
                  </a:rPr>
                  <a:t>d</a:t>
                </a:r>
                <a:r>
                  <a:rPr b="1" i="1" lang="es-ES_tradnl" sz="1200" spc="-1" strike="noStrike">
                    <a:solidFill>
                      <a:srgbClr val="000000"/>
                    </a:solidFill>
                    <a:latin typeface="BankGothic Md BT"/>
                  </a:rPr>
                  <a:t> : 2 ductos de ventilació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flipV="1">
                <a:off x="6485400" y="4664520"/>
                <a:ext cx="1365480" cy="90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 flipV="1">
                <a:off x="6713280" y="4406760"/>
                <a:ext cx="1137960" cy="115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 flipH="1">
              <a:off x="4779000" y="3733200"/>
              <a:ext cx="798840" cy="66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319480" y="28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19480" y="25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motor7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533520" y="762120"/>
            <a:ext cx="4647960" cy="28638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97180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motor%20final" descr=""/>
          <p:cNvPicPr/>
          <p:nvPr/>
        </p:nvPicPr>
        <p:blipFill>
          <a:blip r:embed="rId2"/>
          <a:stretch/>
        </p:blipFill>
        <p:spPr>
          <a:xfrm>
            <a:off x="4267080" y="4114800"/>
            <a:ext cx="403884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76320" y="228600"/>
            <a:ext cx="8762760" cy="6100920"/>
            <a:chOff x="76320" y="228600"/>
            <a:chExt cx="8762760" cy="6100920"/>
          </a:xfrm>
        </p:grpSpPr>
        <p:pic>
          <p:nvPicPr>
            <p:cNvPr id="162" name="" descr=""/>
            <p:cNvPicPr/>
            <p:nvPr/>
          </p:nvPicPr>
          <p:blipFill>
            <a:blip r:embed="rId1"/>
            <a:stretch/>
          </p:blipFill>
          <p:spPr>
            <a:xfrm>
              <a:off x="76320" y="228600"/>
              <a:ext cx="8762760" cy="61009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63" name=""/>
            <p:cNvSpPr/>
            <p:nvPr/>
          </p:nvSpPr>
          <p:spPr>
            <a:xfrm>
              <a:off x="6248160" y="1757520"/>
              <a:ext cx="1447560" cy="733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Jaula de ardilla en ranuras ro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914040" y="995400"/>
              <a:ext cx="1447560" cy="30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Núcleo est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562360" y="1011240"/>
              <a:ext cx="1447560" cy="520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obinado en  las ranur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09320" y="2409840"/>
              <a:ext cx="1218960" cy="30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ntrehier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19560" y="5659560"/>
              <a:ext cx="2742840" cy="520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VISTA AXIAL DE UN MOTOR DE INDUC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2280" y="1833480"/>
              <a:ext cx="1447200" cy="30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Núcleo ro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"/>
          <p:cNvGrpSpPr/>
          <p:nvPr/>
        </p:nvGrpSpPr>
        <p:grpSpPr>
          <a:xfrm>
            <a:off x="685800" y="318960"/>
            <a:ext cx="7696080" cy="6462720"/>
            <a:chOff x="685800" y="318960"/>
            <a:chExt cx="7696080" cy="6462720"/>
          </a:xfrm>
        </p:grpSpPr>
        <p:pic>
          <p:nvPicPr>
            <p:cNvPr id="170" name="" descr=""/>
            <p:cNvPicPr/>
            <p:nvPr/>
          </p:nvPicPr>
          <p:blipFill>
            <a:blip r:embed="rId1"/>
            <a:stretch/>
          </p:blipFill>
          <p:spPr>
            <a:xfrm>
              <a:off x="685800" y="318960"/>
              <a:ext cx="7696080" cy="646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2819520" y="6229440"/>
              <a:ext cx="33526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ECCIÓN EST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086600" y="4540320"/>
              <a:ext cx="8380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en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086600" y="4495680"/>
              <a:ext cx="8380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en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58160" y="1371600"/>
              <a:ext cx="10666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anur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324480" y="501480"/>
              <a:ext cx="106704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Yug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72000" y="2805120"/>
              <a:ext cx="106668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bertura entre dien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6320" y="228600"/>
            <a:ext cx="9296280" cy="57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"/>
          <p:cNvGrpSpPr/>
          <p:nvPr/>
        </p:nvGrpSpPr>
        <p:grpSpPr>
          <a:xfrm>
            <a:off x="1907280" y="616320"/>
            <a:ext cx="5495040" cy="5097240"/>
            <a:chOff x="1907280" y="616320"/>
            <a:chExt cx="5495040" cy="5097240"/>
          </a:xfrm>
        </p:grpSpPr>
        <p:grpSp>
          <p:nvGrpSpPr>
            <p:cNvPr id="179" name=""/>
            <p:cNvGrpSpPr/>
            <p:nvPr/>
          </p:nvGrpSpPr>
          <p:grpSpPr>
            <a:xfrm>
              <a:off x="2361960" y="1765080"/>
              <a:ext cx="4661280" cy="2171880"/>
              <a:chOff x="2361960" y="1765080"/>
              <a:chExt cx="4661280" cy="2171880"/>
            </a:xfrm>
          </p:grpSpPr>
          <p:grpSp>
            <p:nvGrpSpPr>
              <p:cNvPr id="180" name=""/>
              <p:cNvGrpSpPr/>
              <p:nvPr/>
            </p:nvGrpSpPr>
            <p:grpSpPr>
              <a:xfrm>
                <a:off x="4081320" y="1765080"/>
                <a:ext cx="1028520" cy="1942920"/>
                <a:chOff x="4081320" y="1765080"/>
                <a:chExt cx="1028520" cy="194292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4081320" y="1765080"/>
                  <a:ext cx="1028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081320" y="1765080"/>
                  <a:ext cx="228600" cy="1600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309920" y="3365280"/>
                  <a:ext cx="342720" cy="11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652640" y="347940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4309560" y="1765080"/>
                <a:ext cx="1028520" cy="1942920"/>
                <a:chOff x="4309560" y="1765080"/>
                <a:chExt cx="1028520" cy="1942920"/>
              </a:xfrm>
            </p:grpSpPr>
            <p:sp>
              <p:nvSpPr>
                <p:cNvPr id="186" name=""/>
                <p:cNvSpPr/>
                <p:nvPr/>
              </p:nvSpPr>
              <p:spPr>
                <a:xfrm flipH="1">
                  <a:off x="4309560" y="1765080"/>
                  <a:ext cx="1028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flipH="1">
                  <a:off x="5109480" y="1765080"/>
                  <a:ext cx="228600" cy="1600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flipH="1">
                  <a:off x="4766760" y="3365280"/>
                  <a:ext cx="342720" cy="11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766760" y="347940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2361960" y="1911960"/>
                <a:ext cx="1227600" cy="2025000"/>
                <a:chOff x="2361960" y="1911960"/>
                <a:chExt cx="1227600" cy="2025000"/>
              </a:xfrm>
            </p:grpSpPr>
            <p:sp>
              <p:nvSpPr>
                <p:cNvPr id="191" name=""/>
                <p:cNvSpPr/>
                <p:nvPr/>
              </p:nvSpPr>
              <p:spPr>
                <a:xfrm flipH="1">
                  <a:off x="2361960" y="1911960"/>
                  <a:ext cx="984960" cy="296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3346920" y="1911960"/>
                  <a:ext cx="242640" cy="1598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 flipH="1">
                  <a:off x="3294360" y="3510000"/>
                  <a:ext cx="295200" cy="208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3294360" y="3718080"/>
                  <a:ext cx="66240" cy="218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5810400" y="1863720"/>
                <a:ext cx="1212840" cy="2025000"/>
                <a:chOff x="5810400" y="1863720"/>
                <a:chExt cx="1212840" cy="202500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6035040" y="1863720"/>
                  <a:ext cx="988200" cy="28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flipH="1">
                  <a:off x="5810400" y="1863720"/>
                  <a:ext cx="224640" cy="1600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810400" y="3464280"/>
                  <a:ext cx="297720" cy="204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flipH="1">
                  <a:off x="6044760" y="3669120"/>
                  <a:ext cx="63360" cy="219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0" name=""/>
              <p:cNvSpPr/>
              <p:nvPr/>
            </p:nvSpPr>
            <p:spPr>
              <a:xfrm flipV="1">
                <a:off x="3382560" y="3695400"/>
                <a:ext cx="125748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776840" y="3724560"/>
                <a:ext cx="1262880" cy="19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249000" y="3939840"/>
              <a:ext cx="2838960" cy="1773720"/>
              <a:chOff x="3249000" y="3939840"/>
              <a:chExt cx="2838960" cy="1773720"/>
            </a:xfrm>
          </p:grpSpPr>
          <p:sp>
            <p:nvSpPr>
              <p:cNvPr id="203" name=""/>
              <p:cNvSpPr/>
              <p:nvPr/>
            </p:nvSpPr>
            <p:spPr>
              <a:xfrm flipV="1">
                <a:off x="3302280" y="5519520"/>
                <a:ext cx="537120" cy="19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4" name=""/>
              <p:cNvGrpSpPr/>
              <p:nvPr/>
            </p:nvGrpSpPr>
            <p:grpSpPr>
              <a:xfrm>
                <a:off x="4780440" y="3939840"/>
                <a:ext cx="1274400" cy="150480"/>
                <a:chOff x="4780440" y="3939840"/>
                <a:chExt cx="1274400" cy="15048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5260320" y="3997440"/>
                  <a:ext cx="794520" cy="9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H="1" flipV="1">
                  <a:off x="4780440" y="3939840"/>
                  <a:ext cx="794520" cy="9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7" name=""/>
              <p:cNvSpPr/>
              <p:nvPr/>
            </p:nvSpPr>
            <p:spPr>
              <a:xfrm flipH="1" flipV="1">
                <a:off x="4739040" y="4143960"/>
                <a:ext cx="198360" cy="254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942440" y="4400280"/>
                <a:ext cx="18360" cy="102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9" name=""/>
              <p:cNvGrpSpPr/>
              <p:nvPr/>
            </p:nvGrpSpPr>
            <p:grpSpPr>
              <a:xfrm>
                <a:off x="5529600" y="4104360"/>
                <a:ext cx="558360" cy="1524600"/>
                <a:chOff x="5529600" y="4104360"/>
                <a:chExt cx="558360" cy="1524600"/>
              </a:xfrm>
            </p:grpSpPr>
            <p:sp>
              <p:nvSpPr>
                <p:cNvPr id="210" name=""/>
                <p:cNvSpPr/>
                <p:nvPr/>
              </p:nvSpPr>
              <p:spPr>
                <a:xfrm flipH="1">
                  <a:off x="5529600" y="4502160"/>
                  <a:ext cx="218880" cy="100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H="1">
                  <a:off x="6020280" y="4104360"/>
                  <a:ext cx="48600" cy="223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flipV="1">
                  <a:off x="5747760" y="4327560"/>
                  <a:ext cx="271800" cy="174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5529960" y="5507640"/>
                  <a:ext cx="558000" cy="121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4" name=""/>
              <p:cNvSpPr/>
              <p:nvPr/>
            </p:nvSpPr>
            <p:spPr>
              <a:xfrm flipV="1">
                <a:off x="3816000" y="3954600"/>
                <a:ext cx="794160" cy="9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3249000" y="4022640"/>
                <a:ext cx="794160" cy="9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6" name=""/>
              <p:cNvGrpSpPr/>
              <p:nvPr/>
            </p:nvGrpSpPr>
            <p:grpSpPr>
              <a:xfrm>
                <a:off x="3258360" y="4128480"/>
                <a:ext cx="588600" cy="1383840"/>
                <a:chOff x="3258360" y="4128480"/>
                <a:chExt cx="588600" cy="138384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3258360" y="4128480"/>
                  <a:ext cx="56520" cy="221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flipV="1">
                  <a:off x="3314160" y="4349880"/>
                  <a:ext cx="277920" cy="164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592800" y="4515120"/>
                  <a:ext cx="254160" cy="99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0" name=""/>
              <p:cNvSpPr/>
              <p:nvPr/>
            </p:nvSpPr>
            <p:spPr>
              <a:xfrm>
                <a:off x="4415400" y="4456800"/>
                <a:ext cx="80280" cy="102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06200" y="3970800"/>
                <a:ext cx="14760" cy="227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V="1">
                <a:off x="4434480" y="4186080"/>
                <a:ext cx="194400" cy="25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502880" y="5460480"/>
                <a:ext cx="456480" cy="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734360" y="3952440"/>
                <a:ext cx="1512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1907280" y="616320"/>
              <a:ext cx="5495040" cy="519480"/>
              <a:chOff x="1907280" y="616320"/>
              <a:chExt cx="5495040" cy="519480"/>
            </a:xfrm>
          </p:grpSpPr>
          <p:sp>
            <p:nvSpPr>
              <p:cNvPr id="226" name=""/>
              <p:cNvSpPr/>
              <p:nvPr/>
            </p:nvSpPr>
            <p:spPr>
              <a:xfrm flipV="1">
                <a:off x="1907280" y="826200"/>
                <a:ext cx="926280" cy="30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V="1">
                <a:off x="2822040" y="660960"/>
                <a:ext cx="963720" cy="15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V="1">
                <a:off x="3804120" y="621360"/>
                <a:ext cx="975960" cy="3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745880" y="616320"/>
                <a:ext cx="974160" cy="6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658480" y="674640"/>
                <a:ext cx="959040" cy="18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615720" y="870120"/>
                <a:ext cx="786600" cy="2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2" name=""/>
          <p:cNvSpPr/>
          <p:nvPr/>
        </p:nvSpPr>
        <p:spPr>
          <a:xfrm>
            <a:off x="6477120" y="5867280"/>
            <a:ext cx="2361960" cy="733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ENTES Y RANURAS ESTATOR Y ROTOR MOTOR DE INDU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445284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516560" y="5821200"/>
            <a:ext cx="3780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8136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64508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71024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77360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3876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90212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96728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03064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09580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15952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2432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8804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5320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41656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8172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54508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608800" y="5821200"/>
            <a:ext cx="3780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7360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37320" y="5821200"/>
            <a:ext cx="381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80248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865840" y="5821200"/>
            <a:ext cx="381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93100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99436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5952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12288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18804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5140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31656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38028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44508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50880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57396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63732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248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6584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3100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9436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707840" y="55440"/>
            <a:ext cx="5285880" cy="182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LGO SOBRE LOS CANALES DE LAS RANURAS DE  ESTATOR Y RO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016400" y="5544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711080" y="23184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92784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6448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9932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735600" y="4240080"/>
            <a:ext cx="3672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67080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607080" y="4240080"/>
            <a:ext cx="3672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541920" y="4240080"/>
            <a:ext cx="3672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478560" y="4240080"/>
            <a:ext cx="3672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413400" y="4240080"/>
            <a:ext cx="381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35004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84880" y="4240080"/>
            <a:ext cx="381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22152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156360" y="4240080"/>
            <a:ext cx="381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300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29280" y="4240080"/>
            <a:ext cx="3672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964120" y="4240080"/>
            <a:ext cx="3672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90076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835600" y="4240080"/>
            <a:ext cx="3672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77224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70708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64372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57856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514840" y="4240080"/>
            <a:ext cx="3672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5004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386320" y="4240080"/>
            <a:ext cx="3672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321160" y="4240080"/>
            <a:ext cx="3672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25780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192640" y="4240080"/>
            <a:ext cx="3672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12928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64120" y="4240080"/>
            <a:ext cx="381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0076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35600" y="4240080"/>
            <a:ext cx="381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71880" y="4240080"/>
            <a:ext cx="3672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80852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743360" y="4240080"/>
            <a:ext cx="3672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8000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61484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55148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48632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1692720" y="406440"/>
            <a:ext cx="5636880" cy="6399360"/>
            <a:chOff x="1692720" y="406440"/>
            <a:chExt cx="5636880" cy="6399360"/>
          </a:xfrm>
        </p:grpSpPr>
        <p:sp>
          <p:nvSpPr>
            <p:cNvPr id="315" name=""/>
            <p:cNvSpPr/>
            <p:nvPr/>
          </p:nvSpPr>
          <p:spPr>
            <a:xfrm>
              <a:off x="5076720" y="5248440"/>
              <a:ext cx="7308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205240" y="5248440"/>
              <a:ext cx="7308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334120" y="5248440"/>
              <a:ext cx="7308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462640" y="5248440"/>
              <a:ext cx="7308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591160" y="5248440"/>
              <a:ext cx="7308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719680" y="5248440"/>
              <a:ext cx="7308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848200" y="5248440"/>
              <a:ext cx="7308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977080" y="5248440"/>
              <a:ext cx="7272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105600" y="5248440"/>
              <a:ext cx="7308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234120" y="5248440"/>
              <a:ext cx="7308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362640" y="5248440"/>
              <a:ext cx="7308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491160" y="5248440"/>
              <a:ext cx="7308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620040" y="5248440"/>
              <a:ext cx="7272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746760" y="5248440"/>
              <a:ext cx="7488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430880" y="4307040"/>
              <a:ext cx="93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430880" y="4370400"/>
              <a:ext cx="93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430880" y="4433760"/>
              <a:ext cx="9360" cy="38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430880" y="4498920"/>
              <a:ext cx="936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430880" y="4562640"/>
              <a:ext cx="93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430880" y="4626000"/>
              <a:ext cx="93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430880" y="4691160"/>
              <a:ext cx="93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430880" y="4754520"/>
              <a:ext cx="936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430880" y="4818240"/>
              <a:ext cx="93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430880" y="4883040"/>
              <a:ext cx="936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430880" y="4946760"/>
              <a:ext cx="93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430880" y="5010120"/>
              <a:ext cx="936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430880" y="5075280"/>
              <a:ext cx="93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430880" y="5138640"/>
              <a:ext cx="936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430880" y="5202360"/>
              <a:ext cx="93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430880" y="5267160"/>
              <a:ext cx="936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430880" y="5330880"/>
              <a:ext cx="93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430880" y="5394240"/>
              <a:ext cx="936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430880" y="5457960"/>
              <a:ext cx="93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430880" y="5522760"/>
              <a:ext cx="936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430880" y="5586480"/>
              <a:ext cx="93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430880" y="5649840"/>
              <a:ext cx="936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430880" y="5715000"/>
              <a:ext cx="93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430880" y="5778360"/>
              <a:ext cx="936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967440" y="5735520"/>
              <a:ext cx="972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967440" y="5672160"/>
              <a:ext cx="97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967440" y="5608800"/>
              <a:ext cx="97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967440" y="5543640"/>
              <a:ext cx="97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967440" y="5479920"/>
              <a:ext cx="972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67440" y="5416560"/>
              <a:ext cx="97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67440" y="5351400"/>
              <a:ext cx="972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67440" y="5288040"/>
              <a:ext cx="97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967440" y="5224320"/>
              <a:ext cx="972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967440" y="5159520"/>
              <a:ext cx="97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967440" y="5095800"/>
              <a:ext cx="972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967440" y="5032440"/>
              <a:ext cx="97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967440" y="4967280"/>
              <a:ext cx="97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967440" y="4903920"/>
              <a:ext cx="97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967440" y="4840200"/>
              <a:ext cx="972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967440" y="4775040"/>
              <a:ext cx="972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967440" y="4711680"/>
              <a:ext cx="97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967440" y="4648320"/>
              <a:ext cx="97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967440" y="4584600"/>
              <a:ext cx="972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967440" y="4519440"/>
              <a:ext cx="972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967440" y="4456080"/>
              <a:ext cx="972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967440" y="4392720"/>
              <a:ext cx="97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967440" y="4327560"/>
              <a:ext cx="97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67440" y="4264200"/>
              <a:ext cx="97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709640" y="406440"/>
              <a:ext cx="872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a forma 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586600" y="406440"/>
              <a:ext cx="4457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a ranura de  estator y rotor contempla una canal par la cual 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705320" y="609480"/>
              <a:ext cx="2312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u ancho  se le ha denominado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226040" y="692280"/>
              <a:ext cx="51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273200" y="609480"/>
              <a:ext cx="2021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ara la ranura de estator y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508440" y="6922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547320" y="609480"/>
              <a:ext cx="570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ara l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707120" y="814320"/>
              <a:ext cx="1108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anura de rotor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806560" y="81432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11080" y="10191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711080" y="122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711080" y="14302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711080" y="16336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711080" y="18381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11080" y="20430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711080" y="22464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711080" y="24512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711080" y="26542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711080" y="285912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98480" y="3063960"/>
              <a:ext cx="4956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stas canales son necesarias tanto en el estator como en el rotor par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706760" y="3267000"/>
              <a:ext cx="1158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ermitir que el 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868120" y="3267000"/>
              <a:ext cx="1635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ujo producido por lo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532400" y="3270240"/>
              <a:ext cx="23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A·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759200" y="3267000"/>
              <a:ext cx="2376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el  estator enlace también a lo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695600" y="3471840"/>
              <a:ext cx="523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nductores del rotor ya que si fuesen totalmente cerradas las ranuras, el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692720" y="3675240"/>
              <a:ext cx="5371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lujo se cerraría principalmente por el fierro que existiría en el lugar de la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703160" y="3882960"/>
              <a:ext cx="2701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anales y por lo tanto la eficiencia s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363920" y="3882960"/>
              <a:ext cx="2480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ía bajísima, la reactancia muy alta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805440" y="38829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711080" y="4087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711080" y="42908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711080" y="44956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711080" y="4699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1080" y="490392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711080" y="51084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711080" y="5311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711080" y="55166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711080" y="57214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711440" y="5921280"/>
              <a:ext cx="1818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Los flujos en azul y verde deben s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65080" y="592128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710720" y="6067440"/>
              <a:ext cx="192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Mínimos y sólo corresponder a fugas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669840" y="606744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710720" y="6215040"/>
              <a:ext cx="184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Para ello las ranuras deben tener e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585960" y="621504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710000" y="6361200"/>
              <a:ext cx="1966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canal, que por esa razón normalmen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706560" y="636120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711080" y="6507000"/>
              <a:ext cx="1416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se considera en los diseños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152520" y="650700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711080" y="665316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987640" y="2185920"/>
              <a:ext cx="36684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109680" y="2235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185280" y="230184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231720" y="22352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922480" y="1162080"/>
              <a:ext cx="1800" cy="63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922480" y="1801800"/>
              <a:ext cx="18432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106800" y="1893960"/>
              <a:ext cx="144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463840" y="2076480"/>
              <a:ext cx="642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922480" y="1162080"/>
              <a:ext cx="276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381480" y="1162080"/>
              <a:ext cx="1440" cy="63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3198600" y="1801800"/>
              <a:ext cx="18252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198960" y="1893960"/>
              <a:ext cx="144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3198600" y="2076480"/>
              <a:ext cx="641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3106440" y="1162080"/>
              <a:ext cx="274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463840" y="1162080"/>
              <a:ext cx="1440" cy="63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2279520" y="1801800"/>
              <a:ext cx="18432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279520" y="1893960"/>
              <a:ext cx="180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2279520" y="2076480"/>
              <a:ext cx="642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2188800" y="1162080"/>
              <a:ext cx="274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840120" y="1162080"/>
              <a:ext cx="1800" cy="63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840120" y="1801800"/>
              <a:ext cx="18432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024440" y="1893960"/>
              <a:ext cx="144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381480" y="2076480"/>
              <a:ext cx="642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840120" y="1162080"/>
              <a:ext cx="276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106800" y="2166840"/>
              <a:ext cx="144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198960" y="2166840"/>
              <a:ext cx="144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198960" y="2206800"/>
              <a:ext cx="2743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830680" y="2206800"/>
              <a:ext cx="276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558880" y="2627280"/>
              <a:ext cx="1279800" cy="268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853720" y="2676600"/>
              <a:ext cx="59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Ranura 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443400" y="2676600"/>
              <a:ext cx="148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el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999880" y="2849400"/>
              <a:ext cx="42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esta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409560" y="284940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126040" y="2627280"/>
              <a:ext cx="1276200" cy="268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62840" y="2676600"/>
              <a:ext cx="106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Ranura del ro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300360" y="267660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37320" y="1252440"/>
              <a:ext cx="36828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860800" y="1301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936400" y="13683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982840" y="1301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676840" y="1841400"/>
              <a:ext cx="1800" cy="57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676840" y="1841400"/>
              <a:ext cx="184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861160" y="1676520"/>
              <a:ext cx="1440" cy="16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310360" y="1676520"/>
              <a:ext cx="550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676840" y="2421000"/>
              <a:ext cx="459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310360" y="1841400"/>
              <a:ext cx="1440" cy="57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5126040" y="1841400"/>
              <a:ext cx="184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126040" y="1676520"/>
              <a:ext cx="1440" cy="16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5126040" y="1676520"/>
              <a:ext cx="550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4851000" y="2421000"/>
              <a:ext cx="459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502320" y="1841400"/>
              <a:ext cx="1800" cy="57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502320" y="1841400"/>
              <a:ext cx="184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686640" y="1676520"/>
              <a:ext cx="1440" cy="16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135840" y="1676520"/>
              <a:ext cx="550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502320" y="2421000"/>
              <a:ext cx="459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135840" y="1841400"/>
              <a:ext cx="1440" cy="57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5951520" y="1841400"/>
              <a:ext cx="184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951520" y="1676520"/>
              <a:ext cx="1440" cy="16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5951520" y="1676520"/>
              <a:ext cx="550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5676480" y="2421000"/>
              <a:ext cx="459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861160" y="1494000"/>
              <a:ext cx="144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951520" y="1494000"/>
              <a:ext cx="144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584680" y="1530360"/>
              <a:ext cx="276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51520" y="1533600"/>
              <a:ext cx="276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014640" y="5457960"/>
              <a:ext cx="91764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298680" y="5506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o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647880" y="55069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014640" y="4545000"/>
              <a:ext cx="917640" cy="27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247560" y="4592520"/>
              <a:ext cx="450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sta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696840" y="45925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106800" y="5002200"/>
              <a:ext cx="917640" cy="27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205440" y="5049720"/>
              <a:ext cx="720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ntrehierr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924000" y="5049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70600" y="5641920"/>
              <a:ext cx="459000" cy="36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052400" y="568476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142040" y="56991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113360" y="4449600"/>
              <a:ext cx="269640" cy="54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572000" y="4449600"/>
              <a:ext cx="276120" cy="54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030640" y="4449600"/>
              <a:ext cx="276480" cy="54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954760" y="4449600"/>
              <a:ext cx="266760" cy="54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495760" y="4449600"/>
              <a:ext cx="270000" cy="54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410160" y="4449600"/>
              <a:ext cx="270000" cy="54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932280" y="5092560"/>
              <a:ext cx="2938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932280" y="4178160"/>
              <a:ext cx="2938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581360" y="5305320"/>
              <a:ext cx="409680" cy="400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990960" y="5305320"/>
              <a:ext cx="399960" cy="400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181480" y="5305320"/>
              <a:ext cx="409680" cy="400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792760" y="5305320"/>
              <a:ext cx="409680" cy="400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410160" y="5305320"/>
              <a:ext cx="411480" cy="400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895560" y="5184720"/>
              <a:ext cx="29368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932280" y="6189840"/>
              <a:ext cx="29383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516560" y="4397400"/>
              <a:ext cx="46080" cy="82440"/>
            </a:xfrm>
            <a:custGeom>
              <a:avLst/>
              <a:gdLst/>
              <a:ahLst/>
              <a:rect l="l" t="t" r="r" b="b"/>
              <a:pathLst>
                <a:path w="29" h="52">
                  <a:moveTo>
                    <a:pt x="12" y="6"/>
                  </a:moveTo>
                  <a:lnTo>
                    <a:pt x="6" y="6"/>
                  </a:lnTo>
                  <a:lnTo>
                    <a:pt x="6" y="12"/>
                  </a:lnTo>
                  <a:lnTo>
                    <a:pt x="29" y="12"/>
                  </a:lnTo>
                  <a:lnTo>
                    <a:pt x="29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52"/>
                  </a:lnTo>
                  <a:lnTo>
                    <a:pt x="12" y="52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16560" y="4535640"/>
              <a:ext cx="19080" cy="72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516560" y="4662360"/>
              <a:ext cx="19080" cy="748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516560" y="4791240"/>
              <a:ext cx="19080" cy="72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516560" y="4919760"/>
              <a:ext cx="19080" cy="73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525920" y="5038560"/>
              <a:ext cx="7308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654440" y="5038560"/>
              <a:ext cx="7308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782960" y="5038560"/>
              <a:ext cx="7308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911840" y="5038560"/>
              <a:ext cx="7308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040360" y="5038560"/>
              <a:ext cx="7308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168880" y="5038560"/>
              <a:ext cx="7308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297400" y="5038560"/>
              <a:ext cx="7308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425920" y="5038560"/>
              <a:ext cx="7308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554800" y="5038560"/>
              <a:ext cx="7272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683320" y="5038560"/>
              <a:ext cx="7308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811840" y="5038560"/>
              <a:ext cx="7308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940360" y="5038560"/>
              <a:ext cx="7308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068880" y="5038560"/>
              <a:ext cx="7308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197760" y="5038560"/>
              <a:ext cx="7272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326280" y="5038560"/>
              <a:ext cx="7308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453360" y="5038560"/>
              <a:ext cx="7452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581880" y="5038560"/>
              <a:ext cx="7452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710400" y="5038560"/>
              <a:ext cx="7452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784920" y="4927680"/>
              <a:ext cx="17640" cy="745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784920" y="4800600"/>
              <a:ext cx="17640" cy="73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784920" y="4672080"/>
              <a:ext cx="17640" cy="73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784920" y="4545000"/>
              <a:ext cx="17640" cy="73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84920" y="4416480"/>
              <a:ext cx="17640" cy="73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673680" y="4397400"/>
              <a:ext cx="7308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545160" y="4397400"/>
              <a:ext cx="7488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416640" y="4397400"/>
              <a:ext cx="7452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288120" y="4397400"/>
              <a:ext cx="7452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159600" y="4397400"/>
              <a:ext cx="7452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031080" y="4397400"/>
              <a:ext cx="7452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904000" y="4397400"/>
              <a:ext cx="7308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75480" y="4397400"/>
              <a:ext cx="7272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646600" y="4397400"/>
              <a:ext cx="7308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518080" y="4397400"/>
              <a:ext cx="7308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389560" y="4397400"/>
              <a:ext cx="7308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61040" y="4397400"/>
              <a:ext cx="7308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132520" y="4397400"/>
              <a:ext cx="7272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003640" y="4397400"/>
              <a:ext cx="7308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875120" y="4397400"/>
              <a:ext cx="7308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746600" y="4397400"/>
              <a:ext cx="7308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618080" y="4397400"/>
              <a:ext cx="7308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462560" y="4316400"/>
              <a:ext cx="17280" cy="81000"/>
            </a:xfrm>
            <a:custGeom>
              <a:avLst/>
              <a:gdLst/>
              <a:ahLst/>
              <a:rect l="l" t="t" r="r" b="b"/>
              <a:pathLst>
                <a:path w="11" h="51">
                  <a:moveTo>
                    <a:pt x="11" y="5"/>
                  </a:moveTo>
                  <a:lnTo>
                    <a:pt x="6" y="5"/>
                  </a:lnTo>
                  <a:lnTo>
                    <a:pt x="6" y="11"/>
                  </a:lnTo>
                  <a:lnTo>
                    <a:pt x="9" y="11"/>
                  </a:lnTo>
                  <a:lnTo>
                    <a:pt x="9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1"/>
                  </a:lnTo>
                  <a:lnTo>
                    <a:pt x="11" y="51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462560" y="4452840"/>
              <a:ext cx="17280" cy="730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462560" y="4581360"/>
              <a:ext cx="17280" cy="730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462560" y="4708440"/>
              <a:ext cx="17280" cy="730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462560" y="4836960"/>
              <a:ext cx="17280" cy="730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462560" y="4964040"/>
              <a:ext cx="17280" cy="745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462560" y="5092560"/>
              <a:ext cx="17280" cy="730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462560" y="5221440"/>
              <a:ext cx="46080" cy="4572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11" y="0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6" y="29"/>
                  </a:lnTo>
                  <a:lnTo>
                    <a:pt x="29" y="29"/>
                  </a:lnTo>
                  <a:lnTo>
                    <a:pt x="29" y="17"/>
                  </a:lnTo>
                  <a:lnTo>
                    <a:pt x="6" y="17"/>
                  </a:lnTo>
                  <a:lnTo>
                    <a:pt x="6" y="23"/>
                  </a:lnTo>
                  <a:lnTo>
                    <a:pt x="11" y="2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562640" y="5248440"/>
              <a:ext cx="7452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691160" y="5248440"/>
              <a:ext cx="7452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819680" y="5248440"/>
              <a:ext cx="7308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948200" y="5248440"/>
              <a:ext cx="7308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870600" y="5187960"/>
              <a:ext cx="17640" cy="79200"/>
            </a:xfrm>
            <a:custGeom>
              <a:avLst/>
              <a:gdLst/>
              <a:ahLst/>
              <a:rect l="l" t="t" r="r" b="b"/>
              <a:pathLst>
                <a:path w="11" h="50">
                  <a:moveTo>
                    <a:pt x="3" y="38"/>
                  </a:moveTo>
                  <a:lnTo>
                    <a:pt x="3" y="50"/>
                  </a:lnTo>
                  <a:lnTo>
                    <a:pt x="5" y="50"/>
                  </a:lnTo>
                  <a:lnTo>
                    <a:pt x="11" y="50"/>
                  </a:lnTo>
                  <a:lnTo>
                    <a:pt x="11" y="44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44"/>
                  </a:lnTo>
                  <a:lnTo>
                    <a:pt x="5" y="44"/>
                  </a:lnTo>
                  <a:lnTo>
                    <a:pt x="5" y="38"/>
                  </a:lnTo>
                  <a:lnTo>
                    <a:pt x="3" y="38"/>
                  </a:lnTo>
                  <a:close/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870600" y="5059440"/>
              <a:ext cx="17640" cy="730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870600" y="4930920"/>
              <a:ext cx="17640" cy="72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870600" y="4803840"/>
              <a:ext cx="17640" cy="730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870600" y="4675320"/>
              <a:ext cx="17640" cy="72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870600" y="4546440"/>
              <a:ext cx="17640" cy="748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870600" y="4419720"/>
              <a:ext cx="17640" cy="730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845400" y="4316400"/>
              <a:ext cx="42840" cy="4752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16" y="30"/>
                  </a:moveTo>
                  <a:lnTo>
                    <a:pt x="27" y="30"/>
                  </a:lnTo>
                  <a:lnTo>
                    <a:pt x="27" y="5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21" y="11"/>
                  </a:lnTo>
                  <a:lnTo>
                    <a:pt x="21" y="5"/>
                  </a:lnTo>
                  <a:lnTo>
                    <a:pt x="16" y="5"/>
                  </a:lnTo>
                  <a:lnTo>
                    <a:pt x="16" y="30"/>
                  </a:lnTo>
                  <a:close/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716880" y="4316400"/>
              <a:ext cx="7272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588000" y="4316400"/>
              <a:ext cx="7488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459480" y="4316400"/>
              <a:ext cx="7452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330960" y="4316400"/>
              <a:ext cx="7452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202440" y="4316400"/>
              <a:ext cx="7452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073920" y="4316400"/>
              <a:ext cx="7452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946840" y="4316400"/>
              <a:ext cx="7308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818320" y="4316400"/>
              <a:ext cx="7272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689440" y="4316400"/>
              <a:ext cx="7308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560920" y="4316400"/>
              <a:ext cx="7308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432400" y="4316400"/>
              <a:ext cx="7308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303880" y="4316400"/>
              <a:ext cx="7308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175360" y="4316400"/>
              <a:ext cx="7308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46840" y="4316400"/>
              <a:ext cx="7272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917960" y="4316400"/>
              <a:ext cx="7308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789440" y="4316400"/>
              <a:ext cx="7308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660920" y="4316400"/>
              <a:ext cx="7308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532400" y="4316400"/>
              <a:ext cx="7308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430880" y="4240080"/>
              <a:ext cx="28440" cy="3996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6" y="2"/>
                  </a:moveTo>
                  <a:lnTo>
                    <a:pt x="2" y="2"/>
                  </a:lnTo>
                  <a:lnTo>
                    <a:pt x="2" y="5"/>
                  </a:lnTo>
                  <a:lnTo>
                    <a:pt x="18" y="5"/>
                  </a:lnTo>
                  <a:lnTo>
                    <a:pt x="18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5"/>
                  </a:lnTo>
                  <a:lnTo>
                    <a:pt x="6" y="25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958080" y="5799240"/>
              <a:ext cx="19080" cy="3168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0" y="14"/>
                  </a:moveTo>
                  <a:lnTo>
                    <a:pt x="0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1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667400" y="6372360"/>
              <a:ext cx="1458720" cy="268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909680" y="6424560"/>
              <a:ext cx="992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Líneas de Fluj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900400" y="64245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/>
          </p:nvPr>
        </p:nvSpPr>
        <p:spPr>
          <a:xfrm>
            <a:off x="990360" y="228600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URVAS DE MAGNETIZACION Y DE PERD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LISTA DE CONDUCTORES NORMALIZ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447840" y="75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7" name="Sin título-Duplicado-01" descr=""/>
          <p:cNvPicPr/>
          <p:nvPr/>
        </p:nvPicPr>
        <p:blipFill>
          <a:blip r:embed="rId1"/>
          <a:stretch/>
        </p:blipFill>
        <p:spPr>
          <a:xfrm>
            <a:off x="447840" y="757080"/>
            <a:ext cx="8248320" cy="53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2743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DIAGRAMAS DE FLU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PROCESO DE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447840" y="6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9" name="Sin título-Duplicado-02" descr=""/>
          <p:cNvPicPr/>
          <p:nvPr/>
        </p:nvPicPr>
        <p:blipFill>
          <a:blip r:embed="rId1"/>
          <a:stretch/>
        </p:blipFill>
        <p:spPr>
          <a:xfrm>
            <a:off x="447840" y="662040"/>
            <a:ext cx="824832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571680" y="457200"/>
            <a:ext cx="803880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/>
          </p:nvPr>
        </p:nvSpPr>
        <p:spPr>
          <a:xfrm>
            <a:off x="914040" y="28954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JEMPLOS DE BOBINADO IMBRI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" descr=""/>
          <p:cNvPicPr/>
          <p:nvPr/>
        </p:nvPicPr>
        <p:blipFill>
          <a:blip r:embed="rId1">
            <a:lum bright="2000"/>
          </a:blip>
          <a:stretch/>
        </p:blipFill>
        <p:spPr>
          <a:xfrm>
            <a:off x="-79200" y="-92160"/>
            <a:ext cx="9299520" cy="71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3" name=""/>
          <p:cNvGrpSpPr/>
          <p:nvPr/>
        </p:nvGrpSpPr>
        <p:grpSpPr>
          <a:xfrm>
            <a:off x="-4680" y="-4680"/>
            <a:ext cx="9188280" cy="6249960"/>
            <a:chOff x="-4680" y="-4680"/>
            <a:chExt cx="9188280" cy="6249960"/>
          </a:xfrm>
        </p:grpSpPr>
        <p:sp>
          <p:nvSpPr>
            <p:cNvPr id="614" name=""/>
            <p:cNvSpPr/>
            <p:nvPr/>
          </p:nvSpPr>
          <p:spPr>
            <a:xfrm>
              <a:off x="1499760" y="104760"/>
              <a:ext cx="267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 pol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428480" y="201600"/>
              <a:ext cx="425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6 ranura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19960" y="326880"/>
              <a:ext cx="252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Fase 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61160" y="326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901440" y="32868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333080" y="32868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757880" y="3286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189520" y="3286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616840" y="328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048840" y="328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489120" y="32868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919320" y="32868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345560" y="3286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775760" y="3286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204520" y="328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636520" y="328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075000" y="32868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506640" y="32868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933240" y="3286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363440" y="3286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792200" y="328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222400" y="328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662680" y="32868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28880" y="1316160"/>
              <a:ext cx="413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Ranura 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96040" y="13161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326240" y="13161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757880" y="13161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189520" y="13161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620080" y="13161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051720" y="13161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483360" y="13161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913560" y="13161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298400" y="13161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728600" y="13161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160240" y="13161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590440" y="13161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022440" y="13161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454080" y="13161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884280" y="13161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316280" y="13161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747920" y="13161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178120" y="13161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8610120" y="13161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26440" y="1442880"/>
              <a:ext cx="303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Fase  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896040" y="14428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323000" y="1442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755000" y="1442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195280" y="144288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625480" y="144288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051720" y="14428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483360" y="14428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910680" y="1442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342680" y="1442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782960" y="144288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213160" y="144288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39400" y="14428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069600" y="14428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498360" y="1442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930000" y="1442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368840" y="144288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800480" y="144288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225280" y="14428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657280" y="14428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64040" y="2820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896040" y="2820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326240" y="2820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757880" y="2820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189520" y="2820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620080" y="2820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051720" y="2820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483360" y="2820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913560" y="2820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298400" y="28209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728600" y="28209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160240" y="28209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590440" y="28209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022440" y="28209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454080" y="28209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884280" y="28209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316280" y="28209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747920" y="28209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178120" y="28209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610120" y="28209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056960" y="4807080"/>
              <a:ext cx="26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Fas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586880" y="48070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448000" y="4807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315240" y="4807080"/>
              <a:ext cx="51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8600" y="4954680"/>
              <a:ext cx="861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Especificaciones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5640" y="5059440"/>
              <a:ext cx="1497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.  2 ranuras por polo y por fas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457080" y="5070600"/>
              <a:ext cx="78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6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561480" y="5059440"/>
              <a:ext cx="1587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Velocidad  síncrona    (r.p.m.)   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298480" y="50482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351760" y="5111640"/>
              <a:ext cx="29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409720" y="5064120"/>
              <a:ext cx="45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= 120 f / 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288120" y="5070600"/>
              <a:ext cx="2580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8.   Las flechas representan el sentido de las corrientes de fase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9600" y="5226120"/>
              <a:ext cx="1044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.  6 ranuras por polo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562920" y="5226120"/>
              <a:ext cx="157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f  :   frecuencia de la red  (c.p.s.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9160" y="5375160"/>
              <a:ext cx="2604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.  Paso completo ( paso de la bobina  =  paso del polo 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556080" y="5375160"/>
              <a:ext cx="1736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  :   número  de  polos  del  estator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561080" y="5381640"/>
              <a:ext cx="1239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UNIVERSIDAD DE CHI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0240" y="5522760"/>
              <a:ext cx="291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4.  La cantidad total de ranuras dependerá del número de pol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457080" y="5532480"/>
              <a:ext cx="78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7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693240" y="5532480"/>
              <a:ext cx="2530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Es enrollado en doble capa. Por ejemplo, el lado de bobin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296480" y="5530680"/>
              <a:ext cx="1832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DEPTO. DE INGENIERIA ELECTR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8080" y="5672160"/>
              <a:ext cx="2812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.  Por ejemplo, para un motor de inducción 3¢ de velocida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694320" y="5681520"/>
              <a:ext cx="2439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de la ranura 1 de la fase a está en la parte superior de es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401880" y="5691240"/>
              <a:ext cx="300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L  67B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802640" y="5680080"/>
              <a:ext cx="683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ESQUEMA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4480" y="5821200"/>
              <a:ext cx="2997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síncrona 1.000 r.p.m., el número de polos sería 6 y el númer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689280" y="5830920"/>
              <a:ext cx="2433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ranura y el otro lado de la misma bobina se encuentra e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242760" y="5853240"/>
              <a:ext cx="686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Taller de Diseñ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530840" y="5827680"/>
              <a:ext cx="1299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ENROLLADO IMBRICAD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9880" y="5969160"/>
              <a:ext cx="2872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de ranuras del estator 36. Para un motor de 1.500 r.p.m., e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639240" y="5978520"/>
              <a:ext cx="1360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la parte inferior de la ranura 7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273360" y="6000840"/>
              <a:ext cx="178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LA/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326720" y="5977080"/>
              <a:ext cx="175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EN DOBLE CAPA PASO COMPLE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4480" y="6086520"/>
              <a:ext cx="3057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número de polos sería 4 y el número de ranuras del  estator 24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09760" y="223920"/>
              <a:ext cx="865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09760" y="223920"/>
              <a:ext cx="8650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972480" y="1446120"/>
              <a:ext cx="144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972480" y="1446120"/>
              <a:ext cx="936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110280" y="1446120"/>
              <a:ext cx="144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110280" y="1446120"/>
              <a:ext cx="936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8697960" y="1446120"/>
              <a:ext cx="144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8697960" y="1446120"/>
              <a:ext cx="936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-4680" y="-4680"/>
              <a:ext cx="19080" cy="6249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9164520" y="14400"/>
              <a:ext cx="19080" cy="623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04720" y="1436760"/>
              <a:ext cx="1800" cy="1404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04720" y="1436760"/>
              <a:ext cx="9720" cy="1404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934920" y="1446120"/>
              <a:ext cx="180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934920" y="1446120"/>
              <a:ext cx="972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366920" y="1446120"/>
              <a:ext cx="144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366920" y="1446120"/>
              <a:ext cx="936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798560" y="1446120"/>
              <a:ext cx="180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798560" y="1446120"/>
              <a:ext cx="972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228760" y="1446120"/>
              <a:ext cx="180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228760" y="1446120"/>
              <a:ext cx="972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660760" y="1446120"/>
              <a:ext cx="144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660760" y="1446120"/>
              <a:ext cx="936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090960" y="1446120"/>
              <a:ext cx="144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090960" y="1446120"/>
              <a:ext cx="1116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522600" y="1446120"/>
              <a:ext cx="180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522600" y="1446120"/>
              <a:ext cx="972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954600" y="1446120"/>
              <a:ext cx="144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954600" y="1446120"/>
              <a:ext cx="936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384800" y="1446120"/>
              <a:ext cx="144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384800" y="1446120"/>
              <a:ext cx="936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816440" y="1446120"/>
              <a:ext cx="180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816440" y="1446120"/>
              <a:ext cx="972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248440" y="1446120"/>
              <a:ext cx="144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248440" y="1446120"/>
              <a:ext cx="936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678640" y="1446120"/>
              <a:ext cx="144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678640" y="1446120"/>
              <a:ext cx="936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110280" y="5657760"/>
              <a:ext cx="1440" cy="56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110280" y="5657760"/>
              <a:ext cx="9360" cy="56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540480" y="1446120"/>
              <a:ext cx="144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540480" y="1446120"/>
              <a:ext cx="1116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972480" y="5359320"/>
              <a:ext cx="1440" cy="86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972480" y="5359320"/>
              <a:ext cx="9360" cy="86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404120" y="1446120"/>
              <a:ext cx="144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404120" y="1446120"/>
              <a:ext cx="936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834320" y="1446120"/>
              <a:ext cx="144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834320" y="1446120"/>
              <a:ext cx="936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8265960" y="1446120"/>
              <a:ext cx="180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265960" y="1446120"/>
              <a:ext cx="972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8697960" y="6113520"/>
              <a:ext cx="144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697960" y="6113520"/>
              <a:ext cx="9360" cy="112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4400" y="-4680"/>
              <a:ext cx="916920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803240" y="223920"/>
              <a:ext cx="863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803240" y="223920"/>
              <a:ext cx="8636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14440" y="1436760"/>
              <a:ext cx="8192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14440" y="1436760"/>
              <a:ext cx="81928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14440" y="2830680"/>
              <a:ext cx="8192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14440" y="2830680"/>
              <a:ext cx="819288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981840" y="5359320"/>
              <a:ext cx="2182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981840" y="5359320"/>
              <a:ext cx="218268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119640" y="5657760"/>
              <a:ext cx="3044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119640" y="5657760"/>
              <a:ext cx="304488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981840" y="6103800"/>
              <a:ext cx="2182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981840" y="6103800"/>
              <a:ext cx="218268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4400" y="6226200"/>
              <a:ext cx="916920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568440" y="463320"/>
              <a:ext cx="1230120" cy="9730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992160" y="441000"/>
              <a:ext cx="1230480" cy="995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V="1">
              <a:off x="3139920" y="441000"/>
              <a:ext cx="1238400" cy="995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>
              <a:off x="3562200" y="441000"/>
              <a:ext cx="1254240" cy="995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V="1">
              <a:off x="5703840" y="463320"/>
              <a:ext cx="1260360" cy="9730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>
              <a:off x="6173640" y="441000"/>
              <a:ext cx="1230480" cy="995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60520" y="2824200"/>
              <a:ext cx="1230120" cy="995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974880" y="2830680"/>
              <a:ext cx="1253880" cy="9889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139920" y="2838600"/>
              <a:ext cx="1230480" cy="9810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586320" y="2838600"/>
              <a:ext cx="1215720" cy="9810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718240" y="2846520"/>
              <a:ext cx="1254240" cy="9730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173640" y="2846520"/>
              <a:ext cx="1230480" cy="9730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68440" y="1436760"/>
              <a:ext cx="1440" cy="14018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984240" y="1436760"/>
              <a:ext cx="1440" cy="14018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139920" y="1436760"/>
              <a:ext cx="1800" cy="140976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562200" y="1436760"/>
              <a:ext cx="1800" cy="14018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727600" y="1436760"/>
              <a:ext cx="1800" cy="13795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173640" y="1436760"/>
              <a:ext cx="1800" cy="140976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V="1">
              <a:off x="5727600" y="2793960"/>
              <a:ext cx="1800" cy="44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>
              <a:off x="4001760" y="463680"/>
              <a:ext cx="1252440" cy="97308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4448160" y="463680"/>
              <a:ext cx="1230480" cy="97308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4865400" y="441360"/>
              <a:ext cx="1236600" cy="9954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5286240" y="463680"/>
              <a:ext cx="1254240" cy="97308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986280" y="2824200"/>
              <a:ext cx="1262160" cy="9954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433760" y="2824200"/>
              <a:ext cx="1230480" cy="9954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5760" y="2824200"/>
              <a:ext cx="1251000" cy="9954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303880" y="2824200"/>
              <a:ext cx="1244520" cy="9954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3992040" y="1436760"/>
              <a:ext cx="25560" cy="137952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4441320" y="1450800"/>
              <a:ext cx="24120" cy="13878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879800" y="1442880"/>
              <a:ext cx="1800" cy="138132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303880" y="1436760"/>
              <a:ext cx="1440" cy="140184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1439640" y="463680"/>
              <a:ext cx="1206360" cy="97308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1836720" y="463680"/>
              <a:ext cx="1233360" cy="97308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>
              <a:off x="2277720" y="463680"/>
              <a:ext cx="1236600" cy="97308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2698920" y="441360"/>
              <a:ext cx="1255680" cy="9954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422360" y="2824200"/>
              <a:ext cx="1230480" cy="9954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836720" y="2846520"/>
              <a:ext cx="1254240" cy="97308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284560" y="2824200"/>
              <a:ext cx="1230120" cy="9954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708280" y="2824200"/>
              <a:ext cx="1252440" cy="9954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447920" y="1436760"/>
              <a:ext cx="1440" cy="140184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860480" y="1450800"/>
              <a:ext cx="1800" cy="13878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284560" y="1450800"/>
              <a:ext cx="1440" cy="136548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698920" y="1436760"/>
              <a:ext cx="9360" cy="137952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671480" y="3730680"/>
              <a:ext cx="1800" cy="11142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502000" y="3689280"/>
              <a:ext cx="1440" cy="111276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354480" y="3681360"/>
              <a:ext cx="1440" cy="112068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790640" y="441360"/>
              <a:ext cx="1254240" cy="995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366920" y="463680"/>
              <a:ext cx="1230120" cy="97308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942840" y="441360"/>
              <a:ext cx="1230480" cy="9954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04720" y="441360"/>
              <a:ext cx="1254240" cy="9954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 flipV="1">
              <a:off x="504720" y="785880"/>
              <a:ext cx="806400" cy="65088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 flipV="1">
              <a:off x="472680" y="1106280"/>
              <a:ext cx="415800" cy="3301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214720" y="463680"/>
              <a:ext cx="1276200" cy="9730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666880" y="441360"/>
              <a:ext cx="1255680" cy="9954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090960" y="441360"/>
              <a:ext cx="1255680" cy="9954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530520" y="441360"/>
              <a:ext cx="1254240" cy="9954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970440" y="441360"/>
              <a:ext cx="1255680" cy="9954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392720" y="441360"/>
              <a:ext cx="1253880" cy="995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808520" y="441360"/>
              <a:ext cx="1262160" cy="995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254560" y="463680"/>
              <a:ext cx="1247760" cy="97308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678640" y="463680"/>
              <a:ext cx="1261800" cy="97308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078600" y="463680"/>
              <a:ext cx="1262160" cy="97308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558120" y="463680"/>
              <a:ext cx="1230120" cy="97308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50160" y="463680"/>
              <a:ext cx="1284120" cy="9730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396200" y="463680"/>
              <a:ext cx="1254240" cy="9730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6580080" y="441000"/>
              <a:ext cx="1254240" cy="9954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V="1">
              <a:off x="7027920" y="463320"/>
              <a:ext cx="1224000" cy="97308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7442280" y="441000"/>
              <a:ext cx="1262160" cy="9954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V="1">
              <a:off x="7891560" y="806040"/>
              <a:ext cx="806400" cy="63036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V="1">
              <a:off x="8315280" y="1114560"/>
              <a:ext cx="444600" cy="3283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>
              <a:off x="1798560" y="2809800"/>
              <a:ext cx="1260720" cy="10303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2214360" y="2809800"/>
              <a:ext cx="1268280" cy="10098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2666880" y="2824200"/>
              <a:ext cx="1239840" cy="101592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1374840" y="2846520"/>
              <a:ext cx="1239840" cy="9936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920520" y="2824200"/>
              <a:ext cx="1276200" cy="9954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>
              <a:off x="504720" y="2824200"/>
              <a:ext cx="1246320" cy="96048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472680" y="2830680"/>
              <a:ext cx="847800" cy="62532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>
              <a:off x="3090600" y="2830680"/>
              <a:ext cx="1238040" cy="98892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3514680" y="2816280"/>
              <a:ext cx="1255680" cy="100332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3931920" y="2809800"/>
              <a:ext cx="1252440" cy="9972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4377960" y="2838600"/>
              <a:ext cx="1244520" cy="968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4794120" y="2816280"/>
              <a:ext cx="1252800" cy="9907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5216400" y="2824200"/>
              <a:ext cx="1268640" cy="9954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5640120" y="2824200"/>
              <a:ext cx="1244520" cy="9954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6109920" y="2816280"/>
              <a:ext cx="1204920" cy="100332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6534000" y="2824200"/>
              <a:ext cx="1236960" cy="9954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589800" y="2846520"/>
              <a:ext cx="1238040" cy="97308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021440" y="2824200"/>
              <a:ext cx="1252440" cy="9954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459560" y="2824200"/>
              <a:ext cx="1230480" cy="9954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>
              <a:off x="6980040" y="2816280"/>
              <a:ext cx="1230120" cy="9907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>
              <a:off x="7403760" y="2824200"/>
              <a:ext cx="1230120" cy="995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7819560" y="3102120"/>
              <a:ext cx="870120" cy="70488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897680" y="2830680"/>
              <a:ext cx="806760" cy="63972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8329680" y="2838600"/>
              <a:ext cx="392040" cy="3222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888840" y="1436760"/>
              <a:ext cx="1800" cy="13795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303200" y="1436760"/>
              <a:ext cx="1800" cy="140184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727280" y="1436760"/>
              <a:ext cx="1440" cy="135072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173320" y="1436760"/>
              <a:ext cx="23760" cy="14238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614680" y="1442880"/>
              <a:ext cx="1440" cy="138132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013200" y="1436760"/>
              <a:ext cx="21960" cy="14018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459240" y="1436760"/>
              <a:ext cx="1440" cy="13795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906720" y="1436760"/>
              <a:ext cx="1800" cy="138744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329000" y="1436760"/>
              <a:ext cx="1800" cy="139392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770360" y="1436760"/>
              <a:ext cx="1800" cy="140184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191200" y="1436760"/>
              <a:ext cx="1440" cy="137952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6494400" y="1436760"/>
              <a:ext cx="7920" cy="137952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6046560" y="1436760"/>
              <a:ext cx="6120" cy="14018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580080" y="1450800"/>
              <a:ext cx="9720" cy="13734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035840" y="1436760"/>
              <a:ext cx="1440" cy="138744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894360" y="1436760"/>
              <a:ext cx="7920" cy="138744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340760" y="1459080"/>
              <a:ext cx="1440" cy="125244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764480" y="1436760"/>
              <a:ext cx="23760" cy="137952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8210520" y="1436760"/>
              <a:ext cx="1440" cy="13795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8634240" y="1436760"/>
              <a:ext cx="1800" cy="13795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451640" y="1450800"/>
              <a:ext cx="7920" cy="137988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>
              <a:off x="7897320" y="1465200"/>
              <a:ext cx="9720" cy="13590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8321760" y="1442880"/>
              <a:ext cx="1440" cy="13813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719360" y="2741760"/>
              <a:ext cx="21960" cy="104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341440" y="3716280"/>
              <a:ext cx="1800" cy="2286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324160" y="3944880"/>
              <a:ext cx="2492280" cy="18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911840" y="3689280"/>
              <a:ext cx="1440" cy="2494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816440" y="3944880"/>
              <a:ext cx="104760" cy="18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077240" y="3730680"/>
              <a:ext cx="223560" cy="146160"/>
            </a:xfrm>
            <a:custGeom>
              <a:avLst/>
              <a:gdLst/>
              <a:ahLst/>
              <a:rect l="l" t="t" r="r" b="b"/>
              <a:pathLst>
                <a:path w="141" h="92">
                  <a:moveTo>
                    <a:pt x="0" y="0"/>
                  </a:moveTo>
                  <a:lnTo>
                    <a:pt x="0" y="77"/>
                  </a:lnTo>
                  <a:lnTo>
                    <a:pt x="15" y="77"/>
                  </a:lnTo>
                  <a:lnTo>
                    <a:pt x="15" y="92"/>
                  </a:lnTo>
                  <a:lnTo>
                    <a:pt x="106" y="92"/>
                  </a:lnTo>
                  <a:lnTo>
                    <a:pt x="106" y="80"/>
                  </a:lnTo>
                  <a:lnTo>
                    <a:pt x="121" y="80"/>
                  </a:lnTo>
                  <a:lnTo>
                    <a:pt x="121" y="11"/>
                  </a:lnTo>
                  <a:lnTo>
                    <a:pt x="141" y="11"/>
                  </a:lnTo>
                </a:path>
              </a:pathLst>
            </a:custGeom>
            <a:noFill/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 flipV="1">
              <a:off x="510840" y="3155760"/>
              <a:ext cx="863640" cy="66348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flipH="1" flipV="1">
              <a:off x="511200" y="3470400"/>
              <a:ext cx="417600" cy="34272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265640" y="3745080"/>
              <a:ext cx="1440" cy="2984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265640" y="4035600"/>
              <a:ext cx="2268360" cy="14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859440" y="3745080"/>
              <a:ext cx="1800" cy="2984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534000" y="4035600"/>
              <a:ext cx="325440" cy="14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179880" y="3738600"/>
              <a:ext cx="1440" cy="57312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>
              <a:off x="3179520" y="4311720"/>
              <a:ext cx="2498760" cy="144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765760" y="3724200"/>
              <a:ext cx="1800" cy="61128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656320" y="4311720"/>
              <a:ext cx="109440" cy="144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121360" y="3724200"/>
              <a:ext cx="6120" cy="70164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>
              <a:off x="5121000" y="4417920"/>
              <a:ext cx="2274840" cy="18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715160" y="3730680"/>
              <a:ext cx="1800" cy="70956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388280" y="4411800"/>
              <a:ext cx="334800" cy="144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V="1">
              <a:off x="8265960" y="3430080"/>
              <a:ext cx="432000" cy="38916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499520" y="3730680"/>
              <a:ext cx="1440" cy="2142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499520" y="3944880"/>
              <a:ext cx="1176120" cy="18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V="1">
              <a:off x="6950160" y="3784320"/>
              <a:ext cx="46080" cy="34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8353440" y="3724200"/>
              <a:ext cx="1440" cy="59688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8346960" y="4329000"/>
              <a:ext cx="311400" cy="18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010040" y="3738600"/>
              <a:ext cx="1440" cy="97956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027320" y="4686480"/>
              <a:ext cx="2506680" cy="144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629400" y="3738600"/>
              <a:ext cx="1440" cy="95868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 flipH="1">
              <a:off x="6508440" y="4686480"/>
              <a:ext cx="112680" cy="144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975280" y="3730680"/>
              <a:ext cx="1800" cy="10494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983200" y="4786200"/>
              <a:ext cx="1828800" cy="18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8570880" y="3716280"/>
              <a:ext cx="1800" cy="107784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>
              <a:off x="7819920" y="4786200"/>
              <a:ext cx="750960" cy="18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 flipH="1">
              <a:off x="487080" y="463680"/>
              <a:ext cx="887400" cy="70164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flipH="1">
              <a:off x="487440" y="441360"/>
              <a:ext cx="441360" cy="35892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827840" y="441360"/>
              <a:ext cx="893880" cy="6732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8251920" y="441360"/>
              <a:ext cx="469800" cy="35892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 flipV="1">
              <a:off x="8251920" y="441360"/>
              <a:ext cx="21960" cy="22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1" name=""/>
            <p:cNvGrpSpPr/>
            <p:nvPr/>
          </p:nvGrpSpPr>
          <p:grpSpPr>
            <a:xfrm>
              <a:off x="465120" y="2063880"/>
              <a:ext cx="81000" cy="125280"/>
              <a:chOff x="465120" y="2063880"/>
              <a:chExt cx="81000" cy="125280"/>
            </a:xfrm>
          </p:grpSpPr>
          <p:sp>
            <p:nvSpPr>
              <p:cNvPr id="952" name=""/>
              <p:cNvSpPr/>
              <p:nvPr/>
            </p:nvSpPr>
            <p:spPr>
              <a:xfrm flipV="1">
                <a:off x="504720" y="2136600"/>
                <a:ext cx="1800" cy="5256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465120" y="2063880"/>
                <a:ext cx="81000" cy="77760"/>
              </a:xfrm>
              <a:custGeom>
                <a:avLst/>
                <a:gdLst/>
                <a:ahLst/>
                <a:rect l="l" t="t" r="r" b="b"/>
                <a:pathLst>
                  <a:path w="51" h="49">
                    <a:moveTo>
                      <a:pt x="51" y="49"/>
                    </a:moveTo>
                    <a:lnTo>
                      <a:pt x="25" y="0"/>
                    </a:lnTo>
                    <a:lnTo>
                      <a:pt x="0" y="49"/>
                    </a:lnTo>
                    <a:lnTo>
                      <a:pt x="51" y="4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4" name=""/>
            <p:cNvGrpSpPr/>
            <p:nvPr/>
          </p:nvGrpSpPr>
          <p:grpSpPr>
            <a:xfrm>
              <a:off x="896760" y="2063880"/>
              <a:ext cx="79560" cy="133200"/>
              <a:chOff x="896760" y="2063880"/>
              <a:chExt cx="79560" cy="133200"/>
            </a:xfrm>
          </p:grpSpPr>
          <p:sp>
            <p:nvSpPr>
              <p:cNvPr id="955" name=""/>
              <p:cNvSpPr/>
              <p:nvPr/>
            </p:nvSpPr>
            <p:spPr>
              <a:xfrm flipV="1">
                <a:off x="934920" y="2136600"/>
                <a:ext cx="1800" cy="604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896760" y="2063880"/>
                <a:ext cx="79560" cy="7776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50" y="49"/>
                    </a:moveTo>
                    <a:lnTo>
                      <a:pt x="24" y="0"/>
                    </a:lnTo>
                    <a:lnTo>
                      <a:pt x="0" y="49"/>
                    </a:lnTo>
                    <a:lnTo>
                      <a:pt x="50" y="4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7" name=""/>
            <p:cNvGrpSpPr/>
            <p:nvPr/>
          </p:nvGrpSpPr>
          <p:grpSpPr>
            <a:xfrm>
              <a:off x="1327320" y="2055960"/>
              <a:ext cx="80640" cy="104400"/>
              <a:chOff x="1327320" y="2055960"/>
              <a:chExt cx="80640" cy="104400"/>
            </a:xfrm>
          </p:grpSpPr>
          <p:sp>
            <p:nvSpPr>
              <p:cNvPr id="958" name=""/>
              <p:cNvSpPr/>
              <p:nvPr/>
            </p:nvSpPr>
            <p:spPr>
              <a:xfrm flipV="1">
                <a:off x="1366920" y="2128320"/>
                <a:ext cx="1440" cy="32040"/>
              </a:xfrm>
              <a:prstGeom prst="line">
                <a:avLst/>
              </a:prstGeom>
              <a:ln w="792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1327320" y="2055960"/>
                <a:ext cx="80640" cy="77760"/>
              </a:xfrm>
              <a:custGeom>
                <a:avLst/>
                <a:gdLst/>
                <a:ahLst/>
                <a:rect l="l" t="t" r="r" b="b"/>
                <a:pathLst>
                  <a:path w="51" h="49">
                    <a:moveTo>
                      <a:pt x="51" y="49"/>
                    </a:moveTo>
                    <a:lnTo>
                      <a:pt x="25" y="0"/>
                    </a:lnTo>
                    <a:lnTo>
                      <a:pt x="0" y="49"/>
                    </a:lnTo>
                    <a:lnTo>
                      <a:pt x="51" y="49"/>
                    </a:lnTo>
                    <a:close/>
                  </a:path>
                </a:pathLst>
              </a:cu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0" name=""/>
            <p:cNvGrpSpPr/>
            <p:nvPr/>
          </p:nvGrpSpPr>
          <p:grpSpPr>
            <a:xfrm>
              <a:off x="1758960" y="2063880"/>
              <a:ext cx="81000" cy="125280"/>
              <a:chOff x="1758960" y="2063880"/>
              <a:chExt cx="81000" cy="125280"/>
            </a:xfrm>
          </p:grpSpPr>
          <p:sp>
            <p:nvSpPr>
              <p:cNvPr id="961" name=""/>
              <p:cNvSpPr/>
              <p:nvPr/>
            </p:nvSpPr>
            <p:spPr>
              <a:xfrm flipV="1">
                <a:off x="1798560" y="2136600"/>
                <a:ext cx="1800" cy="52560"/>
              </a:xfrm>
              <a:prstGeom prst="line">
                <a:avLst/>
              </a:prstGeom>
              <a:ln w="792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758960" y="2063880"/>
                <a:ext cx="81000" cy="77760"/>
              </a:xfrm>
              <a:custGeom>
                <a:avLst/>
                <a:gdLst/>
                <a:ahLst/>
                <a:rect l="l" t="t" r="r" b="b"/>
                <a:pathLst>
                  <a:path w="51" h="49">
                    <a:moveTo>
                      <a:pt x="51" y="49"/>
                    </a:moveTo>
                    <a:lnTo>
                      <a:pt x="25" y="0"/>
                    </a:lnTo>
                    <a:lnTo>
                      <a:pt x="0" y="49"/>
                    </a:lnTo>
                    <a:lnTo>
                      <a:pt x="51" y="49"/>
                    </a:lnTo>
                    <a:close/>
                  </a:path>
                </a:pathLst>
              </a:cu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3" name=""/>
            <p:cNvGrpSpPr/>
            <p:nvPr/>
          </p:nvGrpSpPr>
          <p:grpSpPr>
            <a:xfrm>
              <a:off x="2190600" y="2063880"/>
              <a:ext cx="79560" cy="133200"/>
              <a:chOff x="2190600" y="2063880"/>
              <a:chExt cx="79560" cy="133200"/>
            </a:xfrm>
          </p:grpSpPr>
          <p:sp>
            <p:nvSpPr>
              <p:cNvPr id="964" name=""/>
              <p:cNvSpPr/>
              <p:nvPr/>
            </p:nvSpPr>
            <p:spPr>
              <a:xfrm flipV="1">
                <a:off x="2228760" y="2136600"/>
                <a:ext cx="1800" cy="604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2190600" y="2063880"/>
                <a:ext cx="79560" cy="7776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50" y="49"/>
                    </a:moveTo>
                    <a:lnTo>
                      <a:pt x="24" y="0"/>
                    </a:lnTo>
                    <a:lnTo>
                      <a:pt x="0" y="49"/>
                    </a:lnTo>
                    <a:lnTo>
                      <a:pt x="50" y="4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6" name=""/>
            <p:cNvGrpSpPr/>
            <p:nvPr/>
          </p:nvGrpSpPr>
          <p:grpSpPr>
            <a:xfrm>
              <a:off x="2620800" y="2063880"/>
              <a:ext cx="81000" cy="125280"/>
              <a:chOff x="2620800" y="2063880"/>
              <a:chExt cx="81000" cy="125280"/>
            </a:xfrm>
          </p:grpSpPr>
          <p:sp>
            <p:nvSpPr>
              <p:cNvPr id="967" name=""/>
              <p:cNvSpPr/>
              <p:nvPr/>
            </p:nvSpPr>
            <p:spPr>
              <a:xfrm flipV="1">
                <a:off x="2660760" y="2136600"/>
                <a:ext cx="1440" cy="5256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620800" y="2063880"/>
                <a:ext cx="81000" cy="77760"/>
              </a:xfrm>
              <a:custGeom>
                <a:avLst/>
                <a:gdLst/>
                <a:ahLst/>
                <a:rect l="l" t="t" r="r" b="b"/>
                <a:pathLst>
                  <a:path w="51" h="49">
                    <a:moveTo>
                      <a:pt x="51" y="49"/>
                    </a:moveTo>
                    <a:lnTo>
                      <a:pt x="25" y="0"/>
                    </a:lnTo>
                    <a:lnTo>
                      <a:pt x="0" y="49"/>
                    </a:lnTo>
                    <a:lnTo>
                      <a:pt x="51" y="4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9" name=""/>
            <p:cNvGrpSpPr/>
            <p:nvPr/>
          </p:nvGrpSpPr>
          <p:grpSpPr>
            <a:xfrm>
              <a:off x="3049560" y="2011320"/>
              <a:ext cx="81000" cy="135000"/>
              <a:chOff x="3049560" y="2011320"/>
              <a:chExt cx="81000" cy="135000"/>
            </a:xfrm>
          </p:grpSpPr>
          <p:sp>
            <p:nvSpPr>
              <p:cNvPr id="970" name=""/>
              <p:cNvSpPr/>
              <p:nvPr/>
            </p:nvSpPr>
            <p:spPr>
              <a:xfrm>
                <a:off x="3090960" y="2011320"/>
                <a:ext cx="1440" cy="6192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049560" y="2068560"/>
                <a:ext cx="81000" cy="77760"/>
              </a:xfrm>
              <a:custGeom>
                <a:avLst/>
                <a:gdLst/>
                <a:ahLst/>
                <a:rect l="l" t="t" r="r" b="b"/>
                <a:pathLst>
                  <a:path w="51" h="49">
                    <a:moveTo>
                      <a:pt x="0" y="0"/>
                    </a:moveTo>
                    <a:lnTo>
                      <a:pt x="26" y="49"/>
                    </a:lnTo>
                    <a:lnTo>
                      <a:pt x="5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2" name=""/>
            <p:cNvGrpSpPr/>
            <p:nvPr/>
          </p:nvGrpSpPr>
          <p:grpSpPr>
            <a:xfrm>
              <a:off x="3481560" y="2011320"/>
              <a:ext cx="80640" cy="135000"/>
              <a:chOff x="3481560" y="2011320"/>
              <a:chExt cx="80640" cy="135000"/>
            </a:xfrm>
          </p:grpSpPr>
          <p:sp>
            <p:nvSpPr>
              <p:cNvPr id="973" name=""/>
              <p:cNvSpPr/>
              <p:nvPr/>
            </p:nvSpPr>
            <p:spPr>
              <a:xfrm>
                <a:off x="3522600" y="2011320"/>
                <a:ext cx="1800" cy="6192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3481560" y="2068560"/>
                <a:ext cx="80640" cy="77760"/>
              </a:xfrm>
              <a:custGeom>
                <a:avLst/>
                <a:gdLst/>
                <a:ahLst/>
                <a:rect l="l" t="t" r="r" b="b"/>
                <a:pathLst>
                  <a:path w="51" h="49">
                    <a:moveTo>
                      <a:pt x="0" y="0"/>
                    </a:moveTo>
                    <a:lnTo>
                      <a:pt x="26" y="49"/>
                    </a:lnTo>
                    <a:lnTo>
                      <a:pt x="5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5" name=""/>
            <p:cNvGrpSpPr/>
            <p:nvPr/>
          </p:nvGrpSpPr>
          <p:grpSpPr>
            <a:xfrm>
              <a:off x="3909960" y="2019240"/>
              <a:ext cx="81000" cy="127080"/>
              <a:chOff x="3909960" y="2019240"/>
              <a:chExt cx="81000" cy="127080"/>
            </a:xfrm>
          </p:grpSpPr>
          <p:sp>
            <p:nvSpPr>
              <p:cNvPr id="976" name=""/>
              <p:cNvSpPr/>
              <p:nvPr/>
            </p:nvSpPr>
            <p:spPr>
              <a:xfrm flipH="1">
                <a:off x="3951000" y="2019240"/>
                <a:ext cx="3240" cy="54000"/>
              </a:xfrm>
              <a:prstGeom prst="line">
                <a:avLst/>
              </a:prstGeom>
              <a:ln w="792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3909960" y="2065320"/>
                <a:ext cx="81000" cy="81000"/>
              </a:xfrm>
              <a:custGeom>
                <a:avLst/>
                <a:gdLst/>
                <a:ahLst/>
                <a:rect l="l" t="t" r="r" b="b"/>
                <a:pathLst>
                  <a:path w="51" h="51">
                    <a:moveTo>
                      <a:pt x="0" y="0"/>
                    </a:moveTo>
                    <a:lnTo>
                      <a:pt x="23" y="51"/>
                    </a:lnTo>
                    <a:lnTo>
                      <a:pt x="51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8" name=""/>
            <p:cNvGrpSpPr/>
            <p:nvPr/>
          </p:nvGrpSpPr>
          <p:grpSpPr>
            <a:xfrm>
              <a:off x="4343400" y="2041560"/>
              <a:ext cx="81000" cy="104760"/>
              <a:chOff x="4343400" y="2041560"/>
              <a:chExt cx="81000" cy="104760"/>
            </a:xfrm>
          </p:grpSpPr>
          <p:sp>
            <p:nvSpPr>
              <p:cNvPr id="979" name=""/>
              <p:cNvSpPr/>
              <p:nvPr/>
            </p:nvSpPr>
            <p:spPr>
              <a:xfrm>
                <a:off x="4384800" y="2041560"/>
                <a:ext cx="1440" cy="31680"/>
              </a:xfrm>
              <a:prstGeom prst="line">
                <a:avLst/>
              </a:prstGeom>
              <a:ln w="792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4343400" y="2068560"/>
                <a:ext cx="81000" cy="77760"/>
              </a:xfrm>
              <a:custGeom>
                <a:avLst/>
                <a:gdLst/>
                <a:ahLst/>
                <a:rect l="l" t="t" r="r" b="b"/>
                <a:pathLst>
                  <a:path w="51" h="49">
                    <a:moveTo>
                      <a:pt x="0" y="0"/>
                    </a:moveTo>
                    <a:lnTo>
                      <a:pt x="26" y="49"/>
                    </a:lnTo>
                    <a:lnTo>
                      <a:pt x="5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1" name=""/>
            <p:cNvGrpSpPr/>
            <p:nvPr/>
          </p:nvGrpSpPr>
          <p:grpSpPr>
            <a:xfrm>
              <a:off x="5205240" y="2025720"/>
              <a:ext cx="81000" cy="127080"/>
              <a:chOff x="5205240" y="2025720"/>
              <a:chExt cx="81000" cy="127080"/>
            </a:xfrm>
          </p:grpSpPr>
          <p:sp>
            <p:nvSpPr>
              <p:cNvPr id="982" name=""/>
              <p:cNvSpPr/>
              <p:nvPr/>
            </p:nvSpPr>
            <p:spPr>
              <a:xfrm>
                <a:off x="5248440" y="2025720"/>
                <a:ext cx="1440" cy="5400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5205240" y="2075040"/>
                <a:ext cx="81000" cy="77760"/>
              </a:xfrm>
              <a:custGeom>
                <a:avLst/>
                <a:gdLst/>
                <a:ahLst/>
                <a:rect l="l" t="t" r="r" b="b"/>
                <a:pathLst>
                  <a:path w="51" h="49">
                    <a:moveTo>
                      <a:pt x="0" y="0"/>
                    </a:moveTo>
                    <a:lnTo>
                      <a:pt x="27" y="49"/>
                    </a:lnTo>
                    <a:lnTo>
                      <a:pt x="5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4" name=""/>
            <p:cNvGrpSpPr/>
            <p:nvPr/>
          </p:nvGrpSpPr>
          <p:grpSpPr>
            <a:xfrm>
              <a:off x="5640480" y="2063880"/>
              <a:ext cx="79200" cy="125280"/>
              <a:chOff x="5640480" y="2063880"/>
              <a:chExt cx="79200" cy="125280"/>
            </a:xfrm>
          </p:grpSpPr>
          <p:sp>
            <p:nvSpPr>
              <p:cNvPr id="985" name=""/>
              <p:cNvSpPr/>
              <p:nvPr/>
            </p:nvSpPr>
            <p:spPr>
              <a:xfrm flipV="1">
                <a:off x="5678640" y="2136600"/>
                <a:ext cx="1440" cy="5256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5640480" y="2063880"/>
                <a:ext cx="79200" cy="7776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50" y="49"/>
                    </a:moveTo>
                    <a:lnTo>
                      <a:pt x="24" y="0"/>
                    </a:lnTo>
                    <a:lnTo>
                      <a:pt x="0" y="49"/>
                    </a:lnTo>
                    <a:lnTo>
                      <a:pt x="50" y="4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7" name=""/>
            <p:cNvGrpSpPr/>
            <p:nvPr/>
          </p:nvGrpSpPr>
          <p:grpSpPr>
            <a:xfrm>
              <a:off x="6070680" y="2055960"/>
              <a:ext cx="81000" cy="104400"/>
              <a:chOff x="6070680" y="2055960"/>
              <a:chExt cx="81000" cy="104400"/>
            </a:xfrm>
          </p:grpSpPr>
          <p:sp>
            <p:nvSpPr>
              <p:cNvPr id="988" name=""/>
              <p:cNvSpPr/>
              <p:nvPr/>
            </p:nvSpPr>
            <p:spPr>
              <a:xfrm flipV="1">
                <a:off x="6110280" y="2128320"/>
                <a:ext cx="1440" cy="320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6070680" y="2055960"/>
                <a:ext cx="81000" cy="77760"/>
              </a:xfrm>
              <a:custGeom>
                <a:avLst/>
                <a:gdLst/>
                <a:ahLst/>
                <a:rect l="l" t="t" r="r" b="b"/>
                <a:pathLst>
                  <a:path w="51" h="49">
                    <a:moveTo>
                      <a:pt x="51" y="49"/>
                    </a:moveTo>
                    <a:lnTo>
                      <a:pt x="25" y="0"/>
                    </a:lnTo>
                    <a:lnTo>
                      <a:pt x="0" y="49"/>
                    </a:lnTo>
                    <a:lnTo>
                      <a:pt x="51" y="4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0" name=""/>
            <p:cNvGrpSpPr/>
            <p:nvPr/>
          </p:nvGrpSpPr>
          <p:grpSpPr>
            <a:xfrm>
              <a:off x="6502320" y="2063880"/>
              <a:ext cx="79560" cy="125280"/>
              <a:chOff x="6502320" y="2063880"/>
              <a:chExt cx="79560" cy="125280"/>
            </a:xfrm>
          </p:grpSpPr>
          <p:sp>
            <p:nvSpPr>
              <p:cNvPr id="991" name=""/>
              <p:cNvSpPr/>
              <p:nvPr/>
            </p:nvSpPr>
            <p:spPr>
              <a:xfrm flipV="1">
                <a:off x="6540480" y="2136600"/>
                <a:ext cx="1440" cy="52560"/>
              </a:xfrm>
              <a:prstGeom prst="line">
                <a:avLst/>
              </a:prstGeom>
              <a:ln w="792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6502320" y="2063880"/>
                <a:ext cx="79560" cy="7776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50" y="49"/>
                    </a:moveTo>
                    <a:lnTo>
                      <a:pt x="24" y="0"/>
                    </a:lnTo>
                    <a:lnTo>
                      <a:pt x="0" y="49"/>
                    </a:lnTo>
                    <a:lnTo>
                      <a:pt x="50" y="49"/>
                    </a:lnTo>
                    <a:close/>
                  </a:path>
                </a:pathLst>
              </a:cu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3" name=""/>
            <p:cNvGrpSpPr/>
            <p:nvPr/>
          </p:nvGrpSpPr>
          <p:grpSpPr>
            <a:xfrm>
              <a:off x="6932520" y="2055960"/>
              <a:ext cx="81000" cy="104400"/>
              <a:chOff x="6932520" y="2055960"/>
              <a:chExt cx="81000" cy="104400"/>
            </a:xfrm>
          </p:grpSpPr>
          <p:sp>
            <p:nvSpPr>
              <p:cNvPr id="994" name=""/>
              <p:cNvSpPr/>
              <p:nvPr/>
            </p:nvSpPr>
            <p:spPr>
              <a:xfrm flipV="1">
                <a:off x="6972480" y="2128320"/>
                <a:ext cx="1440" cy="32040"/>
              </a:xfrm>
              <a:prstGeom prst="line">
                <a:avLst/>
              </a:prstGeom>
              <a:ln w="792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932520" y="2055960"/>
                <a:ext cx="81000" cy="77760"/>
              </a:xfrm>
              <a:custGeom>
                <a:avLst/>
                <a:gdLst/>
                <a:ahLst/>
                <a:rect l="l" t="t" r="r" b="b"/>
                <a:pathLst>
                  <a:path w="51" h="49">
                    <a:moveTo>
                      <a:pt x="51" y="49"/>
                    </a:moveTo>
                    <a:lnTo>
                      <a:pt x="25" y="0"/>
                    </a:lnTo>
                    <a:lnTo>
                      <a:pt x="0" y="49"/>
                    </a:lnTo>
                    <a:lnTo>
                      <a:pt x="51" y="49"/>
                    </a:lnTo>
                    <a:close/>
                  </a:path>
                </a:pathLst>
              </a:cu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6" name=""/>
            <p:cNvGrpSpPr/>
            <p:nvPr/>
          </p:nvGrpSpPr>
          <p:grpSpPr>
            <a:xfrm>
              <a:off x="7364520" y="2063880"/>
              <a:ext cx="81000" cy="133200"/>
              <a:chOff x="7364520" y="2063880"/>
              <a:chExt cx="81000" cy="133200"/>
            </a:xfrm>
          </p:grpSpPr>
          <p:sp>
            <p:nvSpPr>
              <p:cNvPr id="997" name=""/>
              <p:cNvSpPr/>
              <p:nvPr/>
            </p:nvSpPr>
            <p:spPr>
              <a:xfrm flipV="1">
                <a:off x="7404120" y="2136600"/>
                <a:ext cx="1440" cy="604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7364520" y="2063880"/>
                <a:ext cx="81000" cy="77760"/>
              </a:xfrm>
              <a:custGeom>
                <a:avLst/>
                <a:gdLst/>
                <a:ahLst/>
                <a:rect l="l" t="t" r="r" b="b"/>
                <a:pathLst>
                  <a:path w="51" h="49">
                    <a:moveTo>
                      <a:pt x="51" y="49"/>
                    </a:moveTo>
                    <a:lnTo>
                      <a:pt x="25" y="0"/>
                    </a:lnTo>
                    <a:lnTo>
                      <a:pt x="0" y="49"/>
                    </a:lnTo>
                    <a:lnTo>
                      <a:pt x="51" y="4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9" name=""/>
            <p:cNvGrpSpPr/>
            <p:nvPr/>
          </p:nvGrpSpPr>
          <p:grpSpPr>
            <a:xfrm>
              <a:off x="7796160" y="2055960"/>
              <a:ext cx="79560" cy="104400"/>
              <a:chOff x="7796160" y="2055960"/>
              <a:chExt cx="79560" cy="104400"/>
            </a:xfrm>
          </p:grpSpPr>
          <p:sp>
            <p:nvSpPr>
              <p:cNvPr id="1000" name=""/>
              <p:cNvSpPr/>
              <p:nvPr/>
            </p:nvSpPr>
            <p:spPr>
              <a:xfrm flipV="1">
                <a:off x="7834320" y="2128320"/>
                <a:ext cx="1440" cy="3204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7796160" y="2055960"/>
                <a:ext cx="79560" cy="7776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50" y="49"/>
                    </a:moveTo>
                    <a:lnTo>
                      <a:pt x="24" y="0"/>
                    </a:lnTo>
                    <a:lnTo>
                      <a:pt x="0" y="49"/>
                    </a:lnTo>
                    <a:lnTo>
                      <a:pt x="50" y="4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2" name=""/>
            <p:cNvSpPr/>
            <p:nvPr/>
          </p:nvSpPr>
          <p:spPr>
            <a:xfrm>
              <a:off x="5632560" y="1436760"/>
              <a:ext cx="1440" cy="14302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340760" y="2689200"/>
              <a:ext cx="1440" cy="127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7340760" y="2793960"/>
              <a:ext cx="1440" cy="525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5" name=""/>
            <p:cNvGrpSpPr/>
            <p:nvPr/>
          </p:nvGrpSpPr>
          <p:grpSpPr>
            <a:xfrm>
              <a:off x="8593200" y="2048040"/>
              <a:ext cx="79200" cy="104760"/>
              <a:chOff x="8593200" y="2048040"/>
              <a:chExt cx="79200" cy="104760"/>
            </a:xfrm>
          </p:grpSpPr>
          <p:sp>
            <p:nvSpPr>
              <p:cNvPr id="1006" name=""/>
              <p:cNvSpPr/>
              <p:nvPr/>
            </p:nvSpPr>
            <p:spPr>
              <a:xfrm>
                <a:off x="8634240" y="2048040"/>
                <a:ext cx="1800" cy="316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8593200" y="2075040"/>
                <a:ext cx="79200" cy="7776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0" y="0"/>
                    </a:moveTo>
                    <a:lnTo>
                      <a:pt x="26" y="49"/>
                    </a:lnTo>
                    <a:lnTo>
                      <a:pt x="5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8" name=""/>
            <p:cNvSpPr/>
            <p:nvPr/>
          </p:nvSpPr>
          <p:spPr>
            <a:xfrm flipH="1">
              <a:off x="472680" y="2824200"/>
              <a:ext cx="423720" cy="3157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9" name=""/>
            <p:cNvGrpSpPr/>
            <p:nvPr/>
          </p:nvGrpSpPr>
          <p:grpSpPr>
            <a:xfrm>
              <a:off x="2598840" y="185760"/>
              <a:ext cx="81000" cy="79200"/>
              <a:chOff x="2598840" y="185760"/>
              <a:chExt cx="81000" cy="79200"/>
            </a:xfrm>
          </p:grpSpPr>
          <p:sp>
            <p:nvSpPr>
              <p:cNvPr id="1010" name=""/>
              <p:cNvSpPr/>
              <p:nvPr/>
            </p:nvSpPr>
            <p:spPr>
              <a:xfrm>
                <a:off x="2678040" y="223920"/>
                <a:ext cx="18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2598840" y="185760"/>
                <a:ext cx="79200" cy="7920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0" y="50"/>
                    </a:moveTo>
                    <a:lnTo>
                      <a:pt x="50" y="24"/>
                    </a:lnTo>
                    <a:lnTo>
                      <a:pt x="0" y="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2" name=""/>
            <p:cNvGrpSpPr/>
            <p:nvPr/>
          </p:nvGrpSpPr>
          <p:grpSpPr>
            <a:xfrm>
              <a:off x="511200" y="182520"/>
              <a:ext cx="77760" cy="81000"/>
              <a:chOff x="511200" y="182520"/>
              <a:chExt cx="77760" cy="81000"/>
            </a:xfrm>
          </p:grpSpPr>
          <p:sp>
            <p:nvSpPr>
              <p:cNvPr id="1013" name=""/>
              <p:cNvSpPr/>
              <p:nvPr/>
            </p:nvSpPr>
            <p:spPr>
              <a:xfrm>
                <a:off x="511200" y="223920"/>
                <a:ext cx="14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511200" y="182520"/>
                <a:ext cx="77760" cy="81000"/>
              </a:xfrm>
              <a:custGeom>
                <a:avLst/>
                <a:gdLst/>
                <a:ahLst/>
                <a:rect l="l" t="t" r="r" b="b"/>
                <a:pathLst>
                  <a:path w="49" h="51">
                    <a:moveTo>
                      <a:pt x="49" y="0"/>
                    </a:moveTo>
                    <a:lnTo>
                      <a:pt x="0" y="26"/>
                    </a:lnTo>
                    <a:lnTo>
                      <a:pt x="49" y="51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5" name=""/>
            <p:cNvSpPr/>
            <p:nvPr/>
          </p:nvSpPr>
          <p:spPr>
            <a:xfrm>
              <a:off x="7939080" y="3724200"/>
              <a:ext cx="223920" cy="146160"/>
            </a:xfrm>
            <a:custGeom>
              <a:avLst/>
              <a:gdLst/>
              <a:ahLst/>
              <a:rect l="l" t="t" r="r" b="b"/>
              <a:pathLst>
                <a:path w="141" h="92">
                  <a:moveTo>
                    <a:pt x="0" y="0"/>
                  </a:moveTo>
                  <a:lnTo>
                    <a:pt x="0" y="76"/>
                  </a:lnTo>
                  <a:lnTo>
                    <a:pt x="16" y="76"/>
                  </a:lnTo>
                  <a:lnTo>
                    <a:pt x="16" y="92"/>
                  </a:lnTo>
                  <a:lnTo>
                    <a:pt x="106" y="92"/>
                  </a:lnTo>
                  <a:lnTo>
                    <a:pt x="106" y="79"/>
                  </a:lnTo>
                  <a:lnTo>
                    <a:pt x="121" y="79"/>
                  </a:lnTo>
                  <a:lnTo>
                    <a:pt x="121" y="10"/>
                  </a:lnTo>
                  <a:lnTo>
                    <a:pt x="141" y="10"/>
                  </a:lnTo>
                </a:path>
              </a:pathLst>
            </a:custGeom>
            <a:noFill/>
            <a:ln w="792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221520" y="3724200"/>
              <a:ext cx="225360" cy="146160"/>
            </a:xfrm>
            <a:custGeom>
              <a:avLst/>
              <a:gdLst/>
              <a:ahLst/>
              <a:rect l="l" t="t" r="r" b="b"/>
              <a:pathLst>
                <a:path w="142" h="92">
                  <a:moveTo>
                    <a:pt x="0" y="0"/>
                  </a:moveTo>
                  <a:lnTo>
                    <a:pt x="0" y="76"/>
                  </a:lnTo>
                  <a:lnTo>
                    <a:pt x="16" y="76"/>
                  </a:lnTo>
                  <a:lnTo>
                    <a:pt x="16" y="92"/>
                  </a:lnTo>
                  <a:lnTo>
                    <a:pt x="106" y="92"/>
                  </a:lnTo>
                  <a:lnTo>
                    <a:pt x="106" y="79"/>
                  </a:lnTo>
                  <a:lnTo>
                    <a:pt x="122" y="79"/>
                  </a:lnTo>
                  <a:lnTo>
                    <a:pt x="122" y="10"/>
                  </a:lnTo>
                  <a:lnTo>
                    <a:pt x="142" y="10"/>
                  </a:lnTo>
                </a:path>
              </a:pathLst>
            </a:custGeom>
            <a:noFill/>
            <a:ln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342040" y="3716280"/>
              <a:ext cx="225360" cy="146160"/>
            </a:xfrm>
            <a:custGeom>
              <a:avLst/>
              <a:gdLst/>
              <a:ahLst/>
              <a:rect l="l" t="t" r="r" b="b"/>
              <a:pathLst>
                <a:path w="142" h="92">
                  <a:moveTo>
                    <a:pt x="0" y="0"/>
                  </a:moveTo>
                  <a:lnTo>
                    <a:pt x="0" y="77"/>
                  </a:lnTo>
                  <a:lnTo>
                    <a:pt x="16" y="77"/>
                  </a:lnTo>
                  <a:lnTo>
                    <a:pt x="16" y="92"/>
                  </a:lnTo>
                  <a:lnTo>
                    <a:pt x="106" y="92"/>
                  </a:lnTo>
                  <a:lnTo>
                    <a:pt x="106" y="80"/>
                  </a:lnTo>
                  <a:lnTo>
                    <a:pt x="122" y="80"/>
                  </a:lnTo>
                  <a:lnTo>
                    <a:pt x="122" y="11"/>
                  </a:lnTo>
                  <a:lnTo>
                    <a:pt x="142" y="11"/>
                  </a:lnTo>
                </a:path>
              </a:pathLst>
            </a:custGeom>
            <a:noFill/>
            <a:ln w="792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489560" y="3724200"/>
              <a:ext cx="223560" cy="146160"/>
            </a:xfrm>
            <a:custGeom>
              <a:avLst/>
              <a:gdLst/>
              <a:ahLst/>
              <a:rect l="l" t="t" r="r" b="b"/>
              <a:pathLst>
                <a:path w="141" h="92">
                  <a:moveTo>
                    <a:pt x="0" y="0"/>
                  </a:moveTo>
                  <a:lnTo>
                    <a:pt x="0" y="76"/>
                  </a:lnTo>
                  <a:lnTo>
                    <a:pt x="16" y="76"/>
                  </a:lnTo>
                  <a:lnTo>
                    <a:pt x="16" y="92"/>
                  </a:lnTo>
                  <a:lnTo>
                    <a:pt x="106" y="92"/>
                  </a:lnTo>
                  <a:lnTo>
                    <a:pt x="106" y="79"/>
                  </a:lnTo>
                  <a:lnTo>
                    <a:pt x="122" y="79"/>
                  </a:lnTo>
                  <a:lnTo>
                    <a:pt x="122" y="10"/>
                  </a:lnTo>
                  <a:lnTo>
                    <a:pt x="141" y="10"/>
                  </a:lnTo>
                </a:path>
              </a:pathLst>
            </a:custGeom>
            <a:noFill/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3635280" y="3708360"/>
              <a:ext cx="223920" cy="147600"/>
            </a:xfrm>
            <a:custGeom>
              <a:avLst/>
              <a:gdLst/>
              <a:ahLst/>
              <a:rect l="l" t="t" r="r" b="b"/>
              <a:pathLst>
                <a:path w="141" h="93">
                  <a:moveTo>
                    <a:pt x="0" y="0"/>
                  </a:moveTo>
                  <a:lnTo>
                    <a:pt x="0" y="77"/>
                  </a:lnTo>
                  <a:lnTo>
                    <a:pt x="15" y="77"/>
                  </a:lnTo>
                  <a:lnTo>
                    <a:pt x="15" y="93"/>
                  </a:lnTo>
                  <a:lnTo>
                    <a:pt x="106" y="93"/>
                  </a:lnTo>
                  <a:lnTo>
                    <a:pt x="106" y="80"/>
                  </a:lnTo>
                  <a:lnTo>
                    <a:pt x="121" y="80"/>
                  </a:lnTo>
                  <a:lnTo>
                    <a:pt x="121" y="11"/>
                  </a:lnTo>
                  <a:lnTo>
                    <a:pt x="141" y="11"/>
                  </a:lnTo>
                </a:path>
              </a:pathLst>
            </a:custGeom>
            <a:noFill/>
            <a:ln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789280" y="3730680"/>
              <a:ext cx="223920" cy="146160"/>
            </a:xfrm>
            <a:custGeom>
              <a:avLst/>
              <a:gdLst/>
              <a:ahLst/>
              <a:rect l="l" t="t" r="r" b="b"/>
              <a:pathLst>
                <a:path w="141" h="92">
                  <a:moveTo>
                    <a:pt x="0" y="0"/>
                  </a:moveTo>
                  <a:lnTo>
                    <a:pt x="0" y="77"/>
                  </a:lnTo>
                  <a:lnTo>
                    <a:pt x="15" y="77"/>
                  </a:lnTo>
                  <a:lnTo>
                    <a:pt x="15" y="92"/>
                  </a:lnTo>
                  <a:lnTo>
                    <a:pt x="106" y="92"/>
                  </a:lnTo>
                  <a:lnTo>
                    <a:pt x="106" y="80"/>
                  </a:lnTo>
                  <a:lnTo>
                    <a:pt x="121" y="80"/>
                  </a:lnTo>
                  <a:lnTo>
                    <a:pt x="121" y="11"/>
                  </a:lnTo>
                  <a:lnTo>
                    <a:pt x="141" y="11"/>
                  </a:lnTo>
                </a:path>
              </a:pathLst>
            </a:custGeom>
            <a:noFill/>
            <a:ln w="792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917720" y="3730680"/>
              <a:ext cx="223920" cy="146160"/>
            </a:xfrm>
            <a:custGeom>
              <a:avLst/>
              <a:gdLst/>
              <a:ahLst/>
              <a:rect l="l" t="t" r="r" b="b"/>
              <a:pathLst>
                <a:path w="141" h="92">
                  <a:moveTo>
                    <a:pt x="0" y="0"/>
                  </a:moveTo>
                  <a:lnTo>
                    <a:pt x="0" y="77"/>
                  </a:lnTo>
                  <a:lnTo>
                    <a:pt x="15" y="77"/>
                  </a:lnTo>
                  <a:lnTo>
                    <a:pt x="15" y="92"/>
                  </a:lnTo>
                  <a:lnTo>
                    <a:pt x="106" y="92"/>
                  </a:lnTo>
                  <a:lnTo>
                    <a:pt x="106" y="80"/>
                  </a:lnTo>
                  <a:lnTo>
                    <a:pt x="121" y="80"/>
                  </a:lnTo>
                  <a:lnTo>
                    <a:pt x="121" y="11"/>
                  </a:lnTo>
                  <a:lnTo>
                    <a:pt x="141" y="11"/>
                  </a:lnTo>
                </a:path>
              </a:pathLst>
            </a:custGeom>
            <a:noFill/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047600" y="3724200"/>
              <a:ext cx="223920" cy="146160"/>
            </a:xfrm>
            <a:custGeom>
              <a:avLst/>
              <a:gdLst/>
              <a:ahLst/>
              <a:rect l="l" t="t" r="r" b="b"/>
              <a:pathLst>
                <a:path w="141" h="92">
                  <a:moveTo>
                    <a:pt x="0" y="0"/>
                  </a:moveTo>
                  <a:lnTo>
                    <a:pt x="0" y="76"/>
                  </a:lnTo>
                  <a:lnTo>
                    <a:pt x="15" y="76"/>
                  </a:lnTo>
                  <a:lnTo>
                    <a:pt x="15" y="92"/>
                  </a:lnTo>
                  <a:lnTo>
                    <a:pt x="106" y="92"/>
                  </a:lnTo>
                  <a:lnTo>
                    <a:pt x="106" y="79"/>
                  </a:lnTo>
                  <a:lnTo>
                    <a:pt x="121" y="79"/>
                  </a:lnTo>
                  <a:lnTo>
                    <a:pt x="121" y="10"/>
                  </a:lnTo>
                  <a:lnTo>
                    <a:pt x="141" y="10"/>
                  </a:lnTo>
                </a:path>
              </a:pathLst>
            </a:custGeom>
            <a:noFill/>
            <a:ln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4775040" y="2011320"/>
              <a:ext cx="79560" cy="127080"/>
              <a:chOff x="4775040" y="2011320"/>
              <a:chExt cx="79560" cy="127080"/>
            </a:xfrm>
          </p:grpSpPr>
          <p:sp>
            <p:nvSpPr>
              <p:cNvPr id="1024" name=""/>
              <p:cNvSpPr/>
              <p:nvPr/>
            </p:nvSpPr>
            <p:spPr>
              <a:xfrm>
                <a:off x="4816440" y="2011320"/>
                <a:ext cx="1800" cy="5400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775040" y="2060640"/>
                <a:ext cx="79560" cy="7776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0" y="0"/>
                    </a:moveTo>
                    <a:lnTo>
                      <a:pt x="26" y="49"/>
                    </a:lnTo>
                    <a:lnTo>
                      <a:pt x="5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6" name=""/>
            <p:cNvGrpSpPr/>
            <p:nvPr/>
          </p:nvGrpSpPr>
          <p:grpSpPr>
            <a:xfrm>
              <a:off x="8224920" y="2048040"/>
              <a:ext cx="79200" cy="104760"/>
              <a:chOff x="8224920" y="2048040"/>
              <a:chExt cx="79200" cy="104760"/>
            </a:xfrm>
          </p:grpSpPr>
          <p:sp>
            <p:nvSpPr>
              <p:cNvPr id="1027" name=""/>
              <p:cNvSpPr/>
              <p:nvPr/>
            </p:nvSpPr>
            <p:spPr>
              <a:xfrm>
                <a:off x="8265960" y="2048040"/>
                <a:ext cx="1800" cy="316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8224920" y="2075040"/>
                <a:ext cx="79200" cy="7776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0" y="0"/>
                    </a:moveTo>
                    <a:lnTo>
                      <a:pt x="26" y="49"/>
                    </a:lnTo>
                    <a:lnTo>
                      <a:pt x="5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/>
          </p:nvPr>
        </p:nvSpPr>
        <p:spPr>
          <a:xfrm>
            <a:off x="914040" y="28954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OBINADO DEL EST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0" name=""/>
          <p:cNvGrpSpPr/>
          <p:nvPr/>
        </p:nvGrpSpPr>
        <p:grpSpPr>
          <a:xfrm>
            <a:off x="1124280" y="1851120"/>
            <a:ext cx="3503160" cy="2415960"/>
            <a:chOff x="1124280" y="1851120"/>
            <a:chExt cx="3503160" cy="2415960"/>
          </a:xfrm>
        </p:grpSpPr>
        <p:grpSp>
          <p:nvGrpSpPr>
            <p:cNvPr id="1031" name=""/>
            <p:cNvGrpSpPr/>
            <p:nvPr/>
          </p:nvGrpSpPr>
          <p:grpSpPr>
            <a:xfrm>
              <a:off x="1124280" y="1935000"/>
              <a:ext cx="873000" cy="2332080"/>
              <a:chOff x="1124280" y="1935000"/>
              <a:chExt cx="873000" cy="2332080"/>
            </a:xfrm>
          </p:grpSpPr>
          <p:sp>
            <p:nvSpPr>
              <p:cNvPr id="1032" name=""/>
              <p:cNvSpPr/>
              <p:nvPr/>
            </p:nvSpPr>
            <p:spPr>
              <a:xfrm rot="16132800">
                <a:off x="548280" y="2538360"/>
                <a:ext cx="1920600" cy="731520"/>
              </a:xfrm>
              <a:prstGeom prst="hexagon">
                <a:avLst>
                  <a:gd name="adj" fmla="val 65637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rot="16132800">
                <a:off x="604800" y="2536920"/>
                <a:ext cx="1920600" cy="731520"/>
              </a:xfrm>
              <a:prstGeom prst="hexagon">
                <a:avLst>
                  <a:gd name="adj" fmla="val 65637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rot="16132800">
                <a:off x="584280" y="2537640"/>
                <a:ext cx="1920600" cy="731520"/>
              </a:xfrm>
              <a:prstGeom prst="hexagon">
                <a:avLst>
                  <a:gd name="adj" fmla="val 65637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 rot="16132800">
                <a:off x="631440" y="2536920"/>
                <a:ext cx="1920600" cy="731520"/>
              </a:xfrm>
              <a:prstGeom prst="hexagon">
                <a:avLst>
                  <a:gd name="adj" fmla="val 65637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rot="16132800">
                <a:off x="652320" y="2536560"/>
                <a:ext cx="1920600" cy="731520"/>
              </a:xfrm>
              <a:prstGeom prst="hexagon">
                <a:avLst>
                  <a:gd name="adj" fmla="val 65637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1361160" y="3674520"/>
                <a:ext cx="0" cy="54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1789920" y="3655440"/>
                <a:ext cx="0" cy="54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1761480" y="4192920"/>
                <a:ext cx="5364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1335960" y="421308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1" name=""/>
            <p:cNvGrpSpPr/>
            <p:nvPr/>
          </p:nvGrpSpPr>
          <p:grpSpPr>
            <a:xfrm>
              <a:off x="2571840" y="1851120"/>
              <a:ext cx="2055600" cy="2401200"/>
              <a:chOff x="2571840" y="1851120"/>
              <a:chExt cx="2055600" cy="2401200"/>
            </a:xfrm>
          </p:grpSpPr>
          <p:grpSp>
            <p:nvGrpSpPr>
              <p:cNvPr id="1042" name=""/>
              <p:cNvGrpSpPr/>
              <p:nvPr/>
            </p:nvGrpSpPr>
            <p:grpSpPr>
              <a:xfrm>
                <a:off x="2880360" y="1935000"/>
                <a:ext cx="1747080" cy="2317320"/>
                <a:chOff x="2880360" y="1935000"/>
                <a:chExt cx="1747080" cy="2317320"/>
              </a:xfrm>
            </p:grpSpPr>
            <p:sp>
              <p:nvSpPr>
                <p:cNvPr id="1043" name=""/>
                <p:cNvSpPr/>
                <p:nvPr/>
              </p:nvSpPr>
              <p:spPr>
                <a:xfrm rot="16132800">
                  <a:off x="2477880" y="2536560"/>
                  <a:ext cx="1920600" cy="731520"/>
                </a:xfrm>
                <a:prstGeom prst="hexagon">
                  <a:avLst>
                    <a:gd name="adj" fmla="val 65637"/>
                    <a:gd name="vf" fmla="val 115470"/>
                  </a:avLst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3255120" y="4179240"/>
                  <a:ext cx="53640" cy="54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3586320" y="4198320"/>
                  <a:ext cx="54000" cy="54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3283920" y="3661200"/>
                  <a:ext cx="0" cy="54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3611880" y="3651480"/>
                  <a:ext cx="0" cy="54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2880360" y="2418840"/>
                  <a:ext cx="1097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2908800" y="3371400"/>
                  <a:ext cx="1097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3895920" y="1942560"/>
                  <a:ext cx="73152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Cabezas de bobina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3895920" y="2674080"/>
                  <a:ext cx="73152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Lados de bobina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3617640" y="3781080"/>
                  <a:ext cx="8265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Terminale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3" name=""/>
              <p:cNvSpPr/>
              <p:nvPr/>
            </p:nvSpPr>
            <p:spPr>
              <a:xfrm>
                <a:off x="2697480" y="2399760"/>
                <a:ext cx="0" cy="36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2697480" y="3020760"/>
                <a:ext cx="0" cy="36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3063240" y="2856960"/>
                <a:ext cx="182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3611880" y="2856960"/>
                <a:ext cx="182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019320" y="2043360"/>
                <a:ext cx="182880" cy="9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2571840" y="2750400"/>
                <a:ext cx="36576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3255480" y="2675880"/>
                <a:ext cx="36576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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2760480" y="1851120"/>
                <a:ext cx="36576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s-E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c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1" name=""/>
          <p:cNvGrpSpPr/>
          <p:nvPr/>
        </p:nvGrpSpPr>
        <p:grpSpPr>
          <a:xfrm>
            <a:off x="6134040" y="2537280"/>
            <a:ext cx="2019240" cy="1177200"/>
            <a:chOff x="6134040" y="2537280"/>
            <a:chExt cx="2019240" cy="1177200"/>
          </a:xfrm>
        </p:grpSpPr>
        <p:sp>
          <p:nvSpPr>
            <p:cNvPr id="1062" name=""/>
            <p:cNvSpPr/>
            <p:nvPr/>
          </p:nvSpPr>
          <p:spPr>
            <a:xfrm rot="5400000">
              <a:off x="6777720" y="2939040"/>
              <a:ext cx="639720" cy="365040"/>
            </a:xfrm>
            <a:custGeom>
              <a:avLst/>
              <a:gdLst>
                <a:gd name="textAreaLeft" fmla="*/ 0 w 639720"/>
                <a:gd name="textAreaRight" fmla="*/ 448920 w 639720"/>
                <a:gd name="textAreaTop" fmla="*/ 15120 h 365040"/>
                <a:gd name="textAreaBottom" fmla="*/ 349920 h 36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7199640" y="2711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559560" y="2720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7199640" y="2711520"/>
              <a:ext cx="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7016760" y="2720880"/>
              <a:ext cx="0" cy="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199640" y="2801880"/>
              <a:ext cx="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924960" y="2801880"/>
              <a:ext cx="9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9" name=""/>
            <p:cNvGrpSpPr/>
            <p:nvPr/>
          </p:nvGrpSpPr>
          <p:grpSpPr>
            <a:xfrm>
              <a:off x="6134040" y="2537280"/>
              <a:ext cx="1035720" cy="1177200"/>
              <a:chOff x="6134040" y="2537280"/>
              <a:chExt cx="1035720" cy="1177200"/>
            </a:xfrm>
          </p:grpSpPr>
          <p:sp>
            <p:nvSpPr>
              <p:cNvPr id="1070" name=""/>
              <p:cNvSpPr/>
              <p:nvPr/>
            </p:nvSpPr>
            <p:spPr>
              <a:xfrm rot="1850400">
                <a:off x="6298920" y="264780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rot="1850400">
                <a:off x="6305400" y="271800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 rot="1850400">
                <a:off x="6297480" y="269100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 rot="1850400">
                <a:off x="6325200" y="275184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 rot="1850400">
                <a:off x="6297840" y="266040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rot="1850400">
                <a:off x="6322320" y="272376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 rot="1850400">
                <a:off x="6327000" y="277128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 rot="1850400">
                <a:off x="6348240" y="278388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8" name=""/>
            <p:cNvGrpSpPr/>
            <p:nvPr/>
          </p:nvGrpSpPr>
          <p:grpSpPr>
            <a:xfrm>
              <a:off x="7098840" y="2617200"/>
              <a:ext cx="1054440" cy="1044360"/>
              <a:chOff x="7098840" y="2617200"/>
              <a:chExt cx="1054440" cy="1044360"/>
            </a:xfrm>
          </p:grpSpPr>
          <p:sp>
            <p:nvSpPr>
              <p:cNvPr id="1079" name=""/>
              <p:cNvSpPr/>
              <p:nvPr/>
            </p:nvSpPr>
            <p:spPr>
              <a:xfrm flipH="1" rot="17453400">
                <a:off x="7269480" y="266076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 flipH="1" rot="17453400">
                <a:off x="7307640" y="272016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 flipH="1" rot="17453400">
                <a:off x="7297200" y="269388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 flipH="1" rot="17453400">
                <a:off x="7313040" y="275868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 flipH="1" rot="17453400">
                <a:off x="7277760" y="267012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 flipH="1" rot="17453400">
                <a:off x="7297920" y="273492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 flipH="1" rot="17453400">
                <a:off x="7323480" y="277524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 flipH="1" rot="17453400">
                <a:off x="7314840" y="279828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7" name=""/>
          <p:cNvSpPr/>
          <p:nvPr/>
        </p:nvSpPr>
        <p:spPr>
          <a:xfrm>
            <a:off x="5791320" y="411480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binado en doble c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1905120" y="47401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bin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"/>
          <p:cNvSpPr/>
          <p:nvPr/>
        </p:nvSpPr>
        <p:spPr>
          <a:xfrm>
            <a:off x="1766880" y="164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0" name="sgtf315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09784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"/>
          <p:cNvSpPr/>
          <p:nvPr/>
        </p:nvSpPr>
        <p:spPr>
          <a:xfrm>
            <a:off x="177156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2" name="sgt4054" descr=""/>
          <p:cNvPicPr/>
          <p:nvPr/>
        </p:nvPicPr>
        <p:blipFill>
          <a:blip r:embed="rId1"/>
          <a:stretch/>
        </p:blipFill>
        <p:spPr>
          <a:xfrm>
            <a:off x="677880" y="1295280"/>
            <a:ext cx="7780320" cy="51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"/>
          <p:cNvSpPr/>
          <p:nvPr/>
        </p:nvSpPr>
        <p:spPr>
          <a:xfrm>
            <a:off x="1766880" y="13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4" name="sgt71f5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015040" cy="58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2872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06360" y="282600"/>
          <a:ext cx="8532720" cy="634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6360" y="282600"/>
                    <a:ext cx="8532720" cy="634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"/>
          <p:cNvSpPr/>
          <p:nvPr/>
        </p:nvSpPr>
        <p:spPr>
          <a:xfrm>
            <a:off x="1766880" y="140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6" name="sgt9292" descr=""/>
          <p:cNvPicPr/>
          <p:nvPr/>
        </p:nvPicPr>
        <p:blipFill>
          <a:blip r:embed="rId1"/>
          <a:stretch/>
        </p:blipFill>
        <p:spPr>
          <a:xfrm>
            <a:off x="519120" y="528480"/>
            <a:ext cx="8015400" cy="57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"/>
          <p:cNvSpPr/>
          <p:nvPr/>
        </p:nvSpPr>
        <p:spPr>
          <a:xfrm>
            <a:off x="1900080" y="16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8" name="sgtb353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427880" cy="5084640"/>
          </a:xfrm>
          <a:prstGeom prst="rect">
            <a:avLst/>
          </a:prstGeom>
          <a:ln w="0">
            <a:noFill/>
          </a:ln>
        </p:spPr>
      </p:pic>
      <p:sp>
        <p:nvSpPr>
          <p:cNvPr id="1099" name=""/>
          <p:cNvSpPr/>
          <p:nvPr/>
        </p:nvSpPr>
        <p:spPr>
          <a:xfrm>
            <a:off x="838080" y="776160"/>
            <a:ext cx="403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OBINADO DE PASO COR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/>
          </p:nvPr>
        </p:nvSpPr>
        <p:spPr>
          <a:xfrm>
            <a:off x="914040" y="28954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ETODO DE CAL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1" name=""/>
          <p:cNvGrpSpPr/>
          <p:nvPr/>
        </p:nvGrpSpPr>
        <p:grpSpPr>
          <a:xfrm>
            <a:off x="-308880" y="31680"/>
            <a:ext cx="9445320" cy="6784920"/>
            <a:chOff x="-308880" y="31680"/>
            <a:chExt cx="9445320" cy="6784920"/>
          </a:xfrm>
        </p:grpSpPr>
        <p:sp>
          <p:nvSpPr>
            <p:cNvPr id="1102" name=""/>
            <p:cNvSpPr/>
            <p:nvPr/>
          </p:nvSpPr>
          <p:spPr>
            <a:xfrm>
              <a:off x="7101000" y="1065240"/>
              <a:ext cx="682560" cy="270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408880" y="1065240"/>
              <a:ext cx="636840" cy="270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101000" y="3024360"/>
              <a:ext cx="682560" cy="4921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8408880" y="3024360"/>
              <a:ext cx="636840" cy="4921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101000" y="4503600"/>
              <a:ext cx="682560" cy="268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8408880" y="4503600"/>
              <a:ext cx="636840" cy="268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101000" y="5302080"/>
              <a:ext cx="682560" cy="270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408880" y="5302080"/>
              <a:ext cx="636840" cy="270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7101000" y="6102360"/>
              <a:ext cx="682560" cy="225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408880" y="6102360"/>
              <a:ext cx="636840" cy="225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-23760" y="31680"/>
              <a:ext cx="1495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UNIVERSIDAD DE CHI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-203760" y="214200"/>
              <a:ext cx="2810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DEPARTAMENTO DE INGENIERIA ELECTRIC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-308880" y="1096920"/>
              <a:ext cx="2868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SPECIFICACIONES DEL MO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6399720" y="10922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479640" y="118116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6429240" y="1092240"/>
              <a:ext cx="617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[H.P.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363440" y="11034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955640" y="110340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8578080" y="110340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2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450480" y="13590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520680" y="1447920"/>
              <a:ext cx="141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f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567480" y="1359000"/>
              <a:ext cx="389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[V.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7314840" y="13701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7979760" y="13701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8602200" y="13701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6334200" y="1609560"/>
              <a:ext cx="700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Nº fas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410600" y="1616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8075520" y="1616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8699400" y="1616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6406560" y="1833480"/>
              <a:ext cx="547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   [Hz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363440" y="1838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8028720" y="1838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8652600" y="1838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6499080" y="2052720"/>
              <a:ext cx="30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740640" y="204156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337520" y="206208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002800" y="206208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8626680" y="206208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6631200" y="22669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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337520" y="228456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8002800" y="228456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8626680" y="228456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413760" y="251604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6491160" y="2606760"/>
              <a:ext cx="4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426720" y="2516040"/>
              <a:ext cx="607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[N m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7241760" y="252900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4.9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7907040" y="252900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9.9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529120" y="252900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9.9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262840" y="27828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313600" y="2873520"/>
              <a:ext cx="249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par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417280" y="2782800"/>
              <a:ext cx="581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= 1,5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6423120" y="2789280"/>
              <a:ext cx="515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[N· m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7192800" y="279396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12.4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7907040" y="279396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4.9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8529120" y="279396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9.9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359760" y="304956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433560" y="31399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356880" y="3049560"/>
              <a:ext cx="758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[r.p.m.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7265880" y="30607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5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7931160" y="30607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5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8555040" y="30607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5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6630480" y="3301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7290360" y="330660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955640" y="330660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8578080" y="330660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6247080" y="3524400"/>
              <a:ext cx="866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n   [r.p.m.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7265880" y="35305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42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7931160" y="35305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42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8555040" y="35305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42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531040" y="380196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160320" y="3801960"/>
              <a:ext cx="1044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[Nºde polos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410600" y="380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8075520" y="380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8699400" y="380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-155880" y="4025880"/>
              <a:ext cx="1987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SEÑO DEL EST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249480" y="42973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22640" y="42624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04640" y="4352760"/>
              <a:ext cx="38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stato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664560" y="42624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[A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542400" y="42624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566520" y="43527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3466080" y="4262400"/>
              <a:ext cx="918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[A] = 746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193640" y="435276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207320" y="4262400"/>
              <a:ext cx="268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/3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415040" y="425124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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444920" y="4262400"/>
              <a:ext cx="30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686480" y="425124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908760" y="4268880"/>
              <a:ext cx="24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[A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7402320" y="427500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.9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8051400" y="427500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3.9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8670600" y="427500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6.7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49480" y="4564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10040" y="45291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93200" y="461952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p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76480" y="4529160"/>
              <a:ext cx="178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Nº ranuras/polo fa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529800" y="45291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610800" y="461952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p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7682040" y="45403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8332920" y="45403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8951760" y="45403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49480" y="4830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10040" y="47959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97880" y="488628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323640" y="4795920"/>
              <a:ext cx="1374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Nº ranuras/pol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529800" y="47959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615480" y="488628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620520" y="4795920"/>
              <a:ext cx="333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= 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3871440" y="488628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p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801600" y="4795920"/>
              <a:ext cx="910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·  Nº fas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7603200" y="48070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8252640" y="48070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8871840" y="48070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49480" y="50976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10040" y="50626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97880" y="5151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80440" y="5062680"/>
              <a:ext cx="1593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Nº ranuras est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529800" y="50626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3615480" y="5151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3617640" y="5062680"/>
              <a:ext cx="333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= 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862080" y="5151600"/>
              <a:ext cx="14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p·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3957840" y="50626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603200" y="5073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8252640" y="5073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8871840" y="5073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49480" y="53640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22280" y="5316480"/>
              <a:ext cx="9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80240" y="54180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88280" y="5329080"/>
              <a:ext cx="201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paso de la ranura [mm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3540240" y="5316480"/>
              <a:ext cx="9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3599640" y="54180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751800" y="5334120"/>
              <a:ext cx="43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[mm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481160" y="534024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8252640" y="53402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8871840" y="53402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249480" y="56293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20120" y="558324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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07240" y="568476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58360" y="56847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06000" y="5594400"/>
              <a:ext cx="163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paso del polo [mm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538080" y="55864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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3623400" y="56912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3575520" y="5586480"/>
              <a:ext cx="419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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3880440" y="5691240"/>
              <a:ext cx="51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3884760" y="5586480"/>
              <a:ext cx="221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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048920" y="56912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751800" y="5600880"/>
              <a:ext cx="43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[mm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7402320" y="560700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87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8172000" y="56070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5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8791200" y="56070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5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49480" y="5896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-53280" y="5867280"/>
              <a:ext cx="2788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D  Diámetro del entrehierro [mm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3493800" y="5861160"/>
              <a:ext cx="333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 =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3753720" y="58500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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3836160" y="5951520"/>
              <a:ext cx="102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898800" y="586116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021200" y="5850000"/>
              <a:ext cx="9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751800" y="5867280"/>
              <a:ext cx="43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[mm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7321320" y="587376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38.7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7970760" y="587376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98.6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8589960" y="587376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98.6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49480" y="6141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-105120" y="6113520"/>
              <a:ext cx="3085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  Carga específica del estator [A/m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3532320" y="61135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739560" y="611352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[A/m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7321320" y="611964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,9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7970760" y="611964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7,5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8589960" y="611964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7,5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249480" y="6365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-107640" y="6335640"/>
              <a:ext cx="3126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  Nº conductores estator por ranu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3529800" y="63356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7603200" y="63421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8252640" y="63421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8871840" y="63421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212040" y="6608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-94320" y="6580080"/>
              <a:ext cx="3039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Z   Nº conductores en serie por fa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444120" y="6573960"/>
              <a:ext cx="619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Z = C 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928320" y="666432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p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993840" y="6573960"/>
              <a:ext cx="159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7522560" y="658512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24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8172000" y="658512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25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8791200" y="658512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22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117160" y="387360"/>
              <a:ext cx="5014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TALLER DE DISEÑO EN SISTEMAS DE POTENCIA I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3692520" y="642960"/>
              <a:ext cx="2789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( Semestre de Primavera de 2009 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1602720" y="853920"/>
              <a:ext cx="6110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DISEÑO DE UN MOTOR DE INDUCCION ROTOR DE JAULA DE ARDILL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133200" y="1060560"/>
              <a:ext cx="1800" cy="27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33200" y="1060560"/>
              <a:ext cx="9720" cy="277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133200" y="2490840"/>
              <a:ext cx="1800" cy="1528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133200" y="2490840"/>
              <a:ext cx="9720" cy="1528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33200" y="4230720"/>
              <a:ext cx="1800" cy="2585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33200" y="4230720"/>
              <a:ext cx="9720" cy="2585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188040" y="1071720"/>
              <a:ext cx="1800" cy="2947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188040" y="1071720"/>
              <a:ext cx="9720" cy="2947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7097760" y="1071720"/>
              <a:ext cx="1440" cy="5744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7097760" y="1071720"/>
              <a:ext cx="9360" cy="5744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7754760" y="1071720"/>
              <a:ext cx="1800" cy="5744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7754760" y="1071720"/>
              <a:ext cx="9720" cy="5744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7763040" y="1071720"/>
              <a:ext cx="1440" cy="5744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763040" y="1071720"/>
              <a:ext cx="9360" cy="5744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7770960" y="1071720"/>
              <a:ext cx="1440" cy="5744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7770960" y="1071720"/>
              <a:ext cx="9360" cy="5744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2" name=""/>
          <p:cNvSpPr/>
          <p:nvPr/>
        </p:nvSpPr>
        <p:spPr>
          <a:xfrm>
            <a:off x="7777080" y="1071720"/>
            <a:ext cx="1800" cy="574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7777080" y="1071720"/>
            <a:ext cx="9720" cy="574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8404200" y="1071720"/>
            <a:ext cx="1440" cy="574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8404200" y="1071720"/>
            <a:ext cx="9720" cy="574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9023400" y="1071720"/>
            <a:ext cx="1440" cy="574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9023400" y="1071720"/>
            <a:ext cx="9360" cy="574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9031320" y="1071720"/>
            <a:ext cx="1440" cy="574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9031320" y="1071720"/>
            <a:ext cx="9360" cy="574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9039240" y="1071720"/>
            <a:ext cx="1440" cy="574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9039240" y="1071720"/>
            <a:ext cx="9360" cy="574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4911840" y="2484360"/>
            <a:ext cx="1440" cy="1535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4911840" y="2484360"/>
            <a:ext cx="9360" cy="153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78000" y="4243320"/>
            <a:ext cx="1440" cy="2573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78000" y="4243320"/>
            <a:ext cx="9360" cy="257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142920" y="1060560"/>
            <a:ext cx="8905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142920" y="1060560"/>
            <a:ext cx="8907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142920" y="1327320"/>
            <a:ext cx="8905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142920" y="1327320"/>
            <a:ext cx="890748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6197760" y="1592280"/>
            <a:ext cx="90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197760" y="1592280"/>
            <a:ext cx="9093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197760" y="1816200"/>
            <a:ext cx="90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6197760" y="1816200"/>
            <a:ext cx="9093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197760" y="2038320"/>
            <a:ext cx="90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197760" y="2038320"/>
            <a:ext cx="9093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197760" y="2262240"/>
            <a:ext cx="90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6197760" y="2262240"/>
            <a:ext cx="9093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921200" y="2484360"/>
            <a:ext cx="218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921200" y="2484360"/>
            <a:ext cx="218592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142920" y="4008600"/>
            <a:ext cx="8905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142920" y="4008600"/>
            <a:ext cx="890748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142920" y="4230720"/>
            <a:ext cx="8905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142920" y="4230720"/>
            <a:ext cx="8907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4" name="" descr=""/>
          <p:cNvPicPr/>
          <p:nvPr/>
        </p:nvPicPr>
        <p:blipFill>
          <a:blip r:embed="rId1"/>
          <a:stretch/>
        </p:blipFill>
        <p:spPr>
          <a:xfrm>
            <a:off x="133200" y="57240"/>
            <a:ext cx="891540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5" name="" descr=""/>
          <p:cNvPicPr/>
          <p:nvPr/>
        </p:nvPicPr>
        <p:blipFill>
          <a:blip r:embed="rId1"/>
          <a:stretch/>
        </p:blipFill>
        <p:spPr>
          <a:xfrm>
            <a:off x="19080" y="11160"/>
            <a:ext cx="9144000" cy="68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6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839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7" name="" descr=""/>
          <p:cNvPicPr/>
          <p:nvPr/>
        </p:nvPicPr>
        <p:blipFill>
          <a:blip r:embed="rId1"/>
          <a:stretch/>
        </p:blipFill>
        <p:spPr>
          <a:xfrm>
            <a:off x="28440" y="76320"/>
            <a:ext cx="911556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8" name="" descr=""/>
          <p:cNvPicPr/>
          <p:nvPr/>
        </p:nvPicPr>
        <p:blipFill>
          <a:blip r:embed="rId1"/>
          <a:stretch/>
        </p:blipFill>
        <p:spPr>
          <a:xfrm>
            <a:off x="28440" y="685800"/>
            <a:ext cx="91155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9" name="" descr=""/>
          <p:cNvPicPr/>
          <p:nvPr/>
        </p:nvPicPr>
        <p:blipFill>
          <a:blip r:embed="rId1"/>
          <a:stretch/>
        </p:blipFill>
        <p:spPr>
          <a:xfrm>
            <a:off x="190440" y="49320"/>
            <a:ext cx="8839440" cy="67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81280" y="133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49280" y="306360"/>
          <a:ext cx="8237520" cy="617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280" y="306360"/>
                    <a:ext cx="8237520" cy="617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0" name="" descr=""/>
          <p:cNvPicPr/>
          <p:nvPr/>
        </p:nvPicPr>
        <p:blipFill>
          <a:blip r:embed="rId1"/>
          <a:stretch/>
        </p:blipFill>
        <p:spPr>
          <a:xfrm>
            <a:off x="61920" y="152280"/>
            <a:ext cx="91202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1" name="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9037440" cy="678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2" name="motor%20final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5257800" cy="2613240"/>
          </a:xfrm>
          <a:prstGeom prst="rect">
            <a:avLst/>
          </a:prstGeom>
          <a:ln w="0">
            <a:noFill/>
          </a:ln>
        </p:spPr>
      </p:pic>
      <p:sp>
        <p:nvSpPr>
          <p:cNvPr id="1343" name=""/>
          <p:cNvSpPr/>
          <p:nvPr/>
        </p:nvSpPr>
        <p:spPr>
          <a:xfrm>
            <a:off x="3962520" y="5486400"/>
            <a:ext cx="1676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2437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PROCESO ESQUEMA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DE FABRIC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DE MOTORES DE INDU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22876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ha" descr=""/>
          <p:cNvPicPr/>
          <p:nvPr/>
        </p:nvPicPr>
        <p:blipFill>
          <a:blip r:embed="rId1"/>
          <a:stretch/>
        </p:blipFill>
        <p:spPr>
          <a:xfrm>
            <a:off x="609480" y="2682720"/>
            <a:ext cx="7809120" cy="1889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0048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7656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3384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2876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0048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circulitos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609480" y="609480"/>
            <a:ext cx="8001000" cy="1684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97656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circulo2" descr=""/>
          <p:cNvPicPr/>
          <p:nvPr/>
        </p:nvPicPr>
        <p:blipFill>
          <a:blip r:embed="rId2"/>
          <a:stretch/>
        </p:blipFill>
        <p:spPr>
          <a:xfrm>
            <a:off x="3581280" y="2554200"/>
            <a:ext cx="1981440" cy="1949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73384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motor2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1600200" y="4600440"/>
            <a:ext cx="5305320" cy="19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76704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motor3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776680" y="457200"/>
            <a:ext cx="4309920" cy="3086280"/>
          </a:xfrm>
          <a:prstGeom prst="rect">
            <a:avLst/>
          </a:prstGeom>
          <a:ln w="0">
            <a:noFill/>
          </a:ln>
        </p:spPr>
      </p:pic>
      <p:pic>
        <p:nvPicPr>
          <p:cNvPr id="69" name="motor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1676520" y="4089240"/>
            <a:ext cx="5881680" cy="1854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28920" y="25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76704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7652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2120" y="685800"/>
            <a:ext cx="6724440" cy="2840040"/>
          </a:xfrm>
          <a:prstGeom prst="rect">
            <a:avLst/>
          </a:prstGeom>
          <a:ln w="0">
            <a:noFill/>
          </a:ln>
        </p:spPr>
      </p:pic>
      <p:pic>
        <p:nvPicPr>
          <p:cNvPr id="74" name="ali6" descr=""/>
          <p:cNvPicPr/>
          <p:nvPr/>
        </p:nvPicPr>
        <p:blipFill>
          <a:blip r:embed="rId2"/>
          <a:srcRect l="0" t="17640" r="0" b="29095"/>
          <a:stretch/>
        </p:blipFill>
        <p:spPr>
          <a:xfrm>
            <a:off x="685800" y="4299120"/>
            <a:ext cx="7543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9T01:55:53Z</dcterms:created>
  <dc:creator>Lucero Baeza</dc:creator>
  <dc:description/>
  <dc:language>en-US</dc:language>
  <cp:lastModifiedBy>alucero</cp:lastModifiedBy>
  <dcterms:modified xsi:type="dcterms:W3CDTF">2010-08-09T23:09:16Z</dcterms:modified>
  <cp:revision>25</cp:revision>
  <dc:subject/>
  <dc:title>Presentación de PowerPoint</dc:title>
</cp:coreProperties>
</file>