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E3A12-D363-4F72-ADFA-5CA048144A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281F2-319A-4B6A-85A5-2F5D3B692B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2A5BA-655C-4443-BA5D-AFE7686C09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224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356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128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224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356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32525-D009-43B5-8E65-D2939E98F9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8A033-6A5F-40B8-9287-57C4A60B5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F481F-FEB6-4270-A1DE-713A61F5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8E790-FC75-4E3B-8358-5FBD018B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F1F5B-3B1F-4AC6-9547-0DD9E5A1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95E87-79DC-4C8D-8489-9E3319FE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6D0D1-7787-4A15-B233-E40EEB36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7DC59-B506-494E-AC49-926B06A9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6CBED-D9F3-4226-9EE7-4485EA4D2B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A6A71-D0BF-45CA-A250-83EBB7A2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0D5EB-93C8-4FD2-A08D-584FF581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1EF9FA-1D48-4360-A01A-CEB9248B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A123D-D1B2-4C71-BB44-F6D4D363F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224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356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1128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224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356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7C44C-9695-4077-9DD7-F21DDD2F4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54581-FFE7-4DFD-BDDB-D253D4F4FA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A3A4D-9B30-44D4-905E-68D6C97CF3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D721F-EE1C-4042-A048-3A2F59FE65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69280-287C-4C2A-AD45-D248A35E52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592ED-EFC0-4566-BD0D-EF636E893F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74FFC-C6BA-4AEB-8D96-E333104B92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6FEC1-41B1-41AC-917C-8A36846F85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165276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Line 15"/>
          <p:cNvSpPr/>
          <p:nvPr/>
        </p:nvSpPr>
        <p:spPr>
          <a:xfrm>
            <a:off x="609480" y="1523880"/>
            <a:ext cx="0" cy="44197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Line 16"/>
          <p:cNvSpPr/>
          <p:nvPr/>
        </p:nvSpPr>
        <p:spPr>
          <a:xfrm>
            <a:off x="609480" y="5943600"/>
            <a:ext cx="815364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3482640" y="6237000"/>
            <a:ext cx="56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" name="Picture 22" descr="pic1"/>
          <p:cNvPicPr/>
          <p:nvPr/>
        </p:nvPicPr>
        <p:blipFill>
          <a:blip r:embed="rId2"/>
          <a:stretch/>
        </p:blipFill>
        <p:spPr>
          <a:xfrm>
            <a:off x="539640" y="6093000"/>
            <a:ext cx="1933560" cy="59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97BD-23C5-4CF5-82C1-B92BB2E930E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0.xml"/><Relationship Id="rId3" Type="http://schemas.openxmlformats.org/officeDocument/2006/relationships/slide" Target="slide12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32000" y="3141360"/>
            <a:ext cx="640080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TRABAJO EN EQUIPO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Habilidades Complementaria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Experiencia Técnica o Funcional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Habilidades en Resolución de Problemas y Tomas de Decisión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Habilidades interpersonales: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rítica constructiva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omunicación efectiva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Solución de conflictos constructiva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Objetividad de análisi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Apoyo a intereses y logros de los otro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Asumir riesgos y responsabilidade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Planteamiento razonable de duda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Los equipos mismos impulsan el desarrollo de habilidades en sus integrantes. Desarrollo de la capacidad de aprendizaje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Preguntas relativas a las habilidades complementaria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1280" y="153000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¿Están presentes entre los miembros al menos estas tres categorías de habilidades reales o potenciales?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Funcionales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Técnicas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De resolución de problemas y toma de decisiones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Interpersonales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¿Tiene cada miembro el potencial suficiente en cada una de las tres categorías, para progresar en sus habilidades hasta el nivel requerido por el propósito y los objetivos del equipo?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¿Existen carencias o baja presencia en alguna de las habilidades críticas para el rendimiento del equipo?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¿Están los miembros individual o colectivamente dispuestos a emplear tiempo para ayudarse a si mismos y a los demás en el aprendizaje y desarrollo de habilidades?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¿Pueden introducirse habilidades nuevas o suplementarias a medida que sea necesario?.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8604360" y="5589720"/>
            <a:ext cx="144360" cy="215640"/>
          </a:xfrm>
          <a:custGeom>
            <a:avLst/>
            <a:gdLst>
              <a:gd name="textAreaLeft" fmla="*/ 9360 w 144360"/>
              <a:gd name="textAreaRight" fmla="*/ 135000 w 144360"/>
              <a:gd name="textAreaTop" fmla="*/ 9360 h 215640"/>
              <a:gd name="textAreaBottom" fmla="*/ 206280 h 215640"/>
            </a:gdLst>
            <a:ahLst/>
            <a:rect l="textAreaLeft" t="textAreaTop" r="textAreaRight" b="textAreaBottom"/>
            <a:pathLst>
              <a:path w="21600" h="32239">
                <a:moveTo>
                  <a:pt x="0" y="0"/>
                </a:moveTo>
                <a:lnTo>
                  <a:pt x="21600" y="0"/>
                </a:lnTo>
                <a:lnTo>
                  <a:pt x="21600" y="32239"/>
                </a:lnTo>
                <a:lnTo>
                  <a:pt x="0" y="32239"/>
                </a:lnTo>
                <a:close/>
              </a:path>
              <a:path fill="lightenLess" w="21600" h="322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239">
                <a:moveTo>
                  <a:pt x="21600" y="0"/>
                </a:moveTo>
                <a:lnTo>
                  <a:pt x="21600" y="32239"/>
                </a:lnTo>
                <a:lnTo>
                  <a:pt x="20200" y="30839"/>
                </a:lnTo>
                <a:lnTo>
                  <a:pt x="20200" y="1400"/>
                </a:lnTo>
                <a:close/>
              </a:path>
              <a:path fill="darkenLess" w="21600" h="32239">
                <a:moveTo>
                  <a:pt x="21600" y="32239"/>
                </a:moveTo>
                <a:lnTo>
                  <a:pt x="0" y="32239"/>
                </a:lnTo>
                <a:lnTo>
                  <a:pt x="1400" y="30839"/>
                </a:lnTo>
                <a:lnTo>
                  <a:pt x="20200" y="30839"/>
                </a:lnTo>
                <a:close/>
              </a:path>
              <a:path fill="lighten" w="21600" h="32239">
                <a:moveTo>
                  <a:pt x="0" y="32239"/>
                </a:moveTo>
                <a:lnTo>
                  <a:pt x="0" y="0"/>
                </a:lnTo>
                <a:lnTo>
                  <a:pt x="1400" y="1400"/>
                </a:lnTo>
                <a:lnTo>
                  <a:pt x="1400" y="30839"/>
                </a:lnTo>
                <a:close/>
              </a:path>
              <a:path fill="darken" w="21600" h="32239">
                <a:moveTo>
                  <a:pt x="3794" y="16119"/>
                </a:moveTo>
                <a:lnTo>
                  <a:pt x="17806" y="9113"/>
                </a:lnTo>
                <a:lnTo>
                  <a:pt x="17806" y="23126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Compromiso con un Objetivo Comú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1280" y="160128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Relación del objetivo particular del grupo con el objetivo general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El propósito del equipo debe derivar de la meta general, pero en este deben participar activamente cada uno de los integrantes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Lo anterior genera orgullo, pertenencia y responsabilidad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El propósito del grupo debe ser alcanzable y tener significado real para cada uno de sus integrantes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Este propósito debe poder traducirse en objetivos específicos y acciones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El propósito debe ser permanentemente observado y cuidado en su alcance, realizabilidad, concreción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El propósito genera identidad en los integrantes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Largas reuniones son señal de objetivos difusos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Preguntas relativas al Propósito y Significad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1280" y="16729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Constituye una aspiración amplia y profunda, más que objetivos de corto plazo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Se trata de un propósito de equipo, en oposición a un propósito organizativo más amplio o individual (del líder por ejemplo)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Lo entienden todos los miembros de la misma manera? ¿Lo hacen sin derivar en abstracciones ambiguas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Lo defienden los miembros con energía ante terceros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Se refieren a el frecuentemente los miembros y exploran sus implicaciones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Contiene temas que tengan un significado particular y fácil de recordar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Sienten los miembros que es importante, si no excitante? 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8532720" y="55897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Metas de Rendimient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Deben formar parte de los Objetivos General y Específicos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Deben ser mensurables y claramente especificadas en términos de tiempo, resultados, responsables, evolución, etc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El impacto en el resultado final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Deben ser revisados y ajustados periódicamente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Las metas deben ser tales que permitan alcanzarlas a través de éxitos parciales (acrecienta el compromiso)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Es saludable mantener un nivel controlado de tensión y temor al fracaso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Los objetivos específicos movilizan, el gran objetivo motiva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Preguntas relativas a Objetivo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Se trata de objetivos del equipo, frente a objetivos organizativos más amplios o individuales (del líder)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Son claros simples y medibles? Si no son medibles, ¿se puede determinar el nivel alcanzado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Son realistas y ambiciosos? ¿Permiten pequeñas victorias a medida que se avanza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Requieren un conjunto concreto de productos de trabajo del equipo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Tienen claro todos los integrantes la importancia relativa y las prioridades?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Están de acuerdo todos los miembros con los objetivos, su importancia relativa y la forma de medirlos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Todos los miembros articulan los objetivos de la misma forma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8532720" y="558972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Enfoqu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Se trata de establecer la forma del trabajo conjunto para alcanzar el propósito común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Al igual que en la construcción de las metas específicas, la forma de efectuar el trabajo conjunto debe ser colectiva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ada miembro del equipo debería realizar “dosis equivalentes” de trabajo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Este enfoque debe considerar las diferencias individuales y mediciones de avance y rendimiento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El “Comité de Medición de Avances” no será parte del equipo sis sus integrantes no están también involucrados en tareas específica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De gran importancia es establecer los roles de motivación, aspectos éticos, revisión de avances, corrección de rumbo, los que no necesariamente deben recaer en un solo líder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Las aptitudes individuales no son normalmente visibles al inicio de la vida del equipo sino van surgiendo como fruto de las sucesivas revisiones de enfoque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Preguntas relativas al Enfoqu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1280" y="153000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Es el enfoque concreto, claro, se entiende realmente y tiene el acuerdo de todos? ¿Contribuirá a alcanzar los objetivos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Capitalizará y mejorará las habilidades de todos los miembros? ¿Es coherente con otras necesidades de los miembros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Impone que todos los miembros contribuyan con cantidades equivalentes de trabajo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Proporciona oportunidades de interacción abierta, resolución de problemas, resolución de problemas basados en hechos y evaluación en función de resultados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Articulan todos los miembros el enfoque de la misma forma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Posibilita la modificación y las mejoras a través del tiempo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Se buscan nuevos datos y perspectivas sistemáticamente y se considera el aporte de los nuevos miembros y/o patrocinadores? 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8532720" y="5516640"/>
            <a:ext cx="216000" cy="2174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7440"/>
              <a:gd name="textAreaBottom" fmla="*/ 203760 h 217440"/>
            </a:gdLst>
            <a:ahLst/>
            <a:rect l="textAreaLeft" t="textAreaTop" r="textAreaRight" b="textAreaBottom"/>
            <a:pathLst>
              <a:path w="21600" h="21744">
                <a:moveTo>
                  <a:pt x="0" y="0"/>
                </a:moveTo>
                <a:lnTo>
                  <a:pt x="21600" y="0"/>
                </a:lnTo>
                <a:lnTo>
                  <a:pt x="21600" y="21744"/>
                </a:lnTo>
                <a:lnTo>
                  <a:pt x="0" y="21744"/>
                </a:lnTo>
                <a:close/>
              </a:path>
              <a:path fill="lightenLess" w="21600" h="217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44">
                <a:moveTo>
                  <a:pt x="21600" y="0"/>
                </a:moveTo>
                <a:lnTo>
                  <a:pt x="21600" y="21744"/>
                </a:lnTo>
                <a:lnTo>
                  <a:pt x="20200" y="20344"/>
                </a:lnTo>
                <a:lnTo>
                  <a:pt x="20200" y="1400"/>
                </a:lnTo>
                <a:close/>
              </a:path>
              <a:path fill="darkenLess" w="21600" h="21744">
                <a:moveTo>
                  <a:pt x="21600" y="21744"/>
                </a:moveTo>
                <a:lnTo>
                  <a:pt x="0" y="21744"/>
                </a:lnTo>
                <a:lnTo>
                  <a:pt x="1400" y="20344"/>
                </a:lnTo>
                <a:lnTo>
                  <a:pt x="20200" y="20344"/>
                </a:lnTo>
                <a:close/>
              </a:path>
              <a:path fill="lighten" w="21600" h="21744">
                <a:moveTo>
                  <a:pt x="0" y="217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44"/>
                </a:lnTo>
                <a:close/>
              </a:path>
              <a:path fill="darken" w="21600" h="21744">
                <a:moveTo>
                  <a:pt x="3794" y="10872"/>
                </a:moveTo>
                <a:lnTo>
                  <a:pt x="17806" y="3865"/>
                </a:lnTo>
                <a:lnTo>
                  <a:pt x="17806" y="17878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Responsabilidad Mutu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aracteriza el trabajo en equipo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Representan la promesa sincera de cada miembro para si mismo y los otros, sobre los factores Compromiso y Confianza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onsiderarse personalmente responsable de los objetivos del equipo, hace a sus miembros acreedores a expresar sus particulares puntos de vista sobre el desempeño del equipo y ser escuchados en forma honrada y constructiva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El seguimiento de estas promesas preserva la confianza básica para que el equipo se constituya como tal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La construcción de la confianza es uno de los aspectos más delicados en la formación del equipo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La confianza real surgirá como fruto del desarrollo del propósito del equipo y del trabajo conjunto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La responsabilidad pone una prueba “acida” a la calidad del propósito y enfoque del equipo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Preguntas relativas a la Responsabilidad Mutu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160128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Se sienten todos, individual y colectivamente, responsables del propósito del equipo, los objetivos, el enfoque y los productos de trabajo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Se puede medir el progreso ante objetivos específicos, y se lleva a cabo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Se sienten todos los miembros responsables de todas las mediciones y sus resultados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Tienen claro todos los miembros sus responsabilidades individuales y las compartidas?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¿Existe un sentimiento de que “solo el equipo puede fallar? 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8459640" y="53737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4358"/>
                </a:moveTo>
                <a:lnTo>
                  <a:pt x="17806" y="7352"/>
                </a:lnTo>
                <a:lnTo>
                  <a:pt x="17806" y="21365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Discusió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¿Qué constituye un Equipo?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Conclusiones</a:t>
            </a: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¿Tiene el grupo un tamaño suficientemente reducido?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¿Tienen sus integrantes las suficientes habilidades complementarias?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¿Tiene el grupo un propósito amplio y con significado al que todos los miembros aspiran?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¿Existe un conjunto específico de objetivos de rendimiento acordados por todos?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¿Se entiende y comparte el enfoque de trabajo?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¿Existe una responsabilidad individual y mutuamente compartida sobre los resultados del grupo?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1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9" name="Picture 4" descr="castellers4"/>
          <p:cNvPicPr/>
          <p:nvPr/>
        </p:nvPicPr>
        <p:blipFill>
          <a:blip r:embed="rId1"/>
          <a:stretch/>
        </p:blipFill>
        <p:spPr>
          <a:xfrm>
            <a:off x="2190600" y="0"/>
            <a:ext cx="476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6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¿Qué escena representa mejor el trabajo en Equipo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1" name="Picture 9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3319560" cy="2133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200442291-003"/>
          <p:cNvPicPr/>
          <p:nvPr/>
        </p:nvPicPr>
        <p:blipFill>
          <a:blip r:embed="rId2"/>
          <a:stretch/>
        </p:blipFill>
        <p:spPr>
          <a:xfrm>
            <a:off x="4356000" y="3716280"/>
            <a:ext cx="2843280" cy="2133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53373368"/>
          <p:cNvPicPr/>
          <p:nvPr/>
        </p:nvPicPr>
        <p:blipFill>
          <a:blip r:embed="rId3"/>
          <a:stretch/>
        </p:blipFill>
        <p:spPr>
          <a:xfrm>
            <a:off x="755640" y="3699000"/>
            <a:ext cx="2124000" cy="2133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eq1"/>
          <p:cNvPicPr/>
          <p:nvPr/>
        </p:nvPicPr>
        <p:blipFill>
          <a:blip r:embed="rId4"/>
          <a:stretch/>
        </p:blipFill>
        <p:spPr>
          <a:xfrm>
            <a:off x="2916360" y="3699000"/>
            <a:ext cx="1411200" cy="2133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5977-000652"/>
          <p:cNvPicPr/>
          <p:nvPr/>
        </p:nvPicPr>
        <p:blipFill>
          <a:blip r:embed="rId5"/>
          <a:stretch/>
        </p:blipFill>
        <p:spPr>
          <a:xfrm>
            <a:off x="7315200" y="3716280"/>
            <a:ext cx="1649520" cy="2160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castellers4"/>
          <p:cNvPicPr/>
          <p:nvPr/>
        </p:nvPicPr>
        <p:blipFill>
          <a:blip r:embed="rId6"/>
          <a:stretch/>
        </p:blipFill>
        <p:spPr>
          <a:xfrm>
            <a:off x="4214880" y="1413000"/>
            <a:ext cx="1581120" cy="2160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5" descr="56980768"/>
          <p:cNvPicPr/>
          <p:nvPr/>
        </p:nvPicPr>
        <p:blipFill>
          <a:blip r:embed="rId7"/>
          <a:stretch/>
        </p:blipFill>
        <p:spPr>
          <a:xfrm>
            <a:off x="5862600" y="1452600"/>
            <a:ext cx="310212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And the Winner Is…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00" name="Picture 4" descr="castellers4"/>
          <p:cNvPicPr/>
          <p:nvPr/>
        </p:nvPicPr>
        <p:blipFill>
          <a:blip r:embed="rId1"/>
          <a:stretch/>
        </p:blipFill>
        <p:spPr>
          <a:xfrm>
            <a:off x="2651040" y="1413000"/>
            <a:ext cx="364968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4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Componentes Esenciales de un Equip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62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 Narrow"/>
              </a:rPr>
              <a:t>     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pic>
        <p:nvPicPr>
          <p:cNvPr id="104" name="Picture 27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408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Definición de Equip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“</a:t>
            </a: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Un equipo es un </a:t>
            </a:r>
            <a:r>
              <a:rPr b="1" lang="es-MX" sz="2800" spc="-1" strike="noStrike">
                <a:solidFill>
                  <a:srgbClr val="333399"/>
                </a:solidFill>
                <a:latin typeface="Arial Narrow"/>
              </a:rPr>
              <a:t>número restringido de personas</a:t>
            </a: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 con </a:t>
            </a:r>
            <a:r>
              <a:rPr b="1" lang="es-MX" sz="2800" spc="-1" strike="noStrike">
                <a:solidFill>
                  <a:srgbClr val="333399"/>
                </a:solidFill>
                <a:latin typeface="Arial Narrow"/>
              </a:rPr>
              <a:t>habilidades complementarias</a:t>
            </a: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, comprometido con un </a:t>
            </a:r>
            <a:r>
              <a:rPr b="1" lang="es-MX" sz="2800" spc="-1" strike="noStrike">
                <a:solidFill>
                  <a:srgbClr val="333399"/>
                </a:solidFill>
                <a:latin typeface="Arial Narrow"/>
              </a:rPr>
              <a:t>propósito común, objetivos de rendimiento</a:t>
            </a: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 y </a:t>
            </a:r>
            <a:r>
              <a:rPr b="1" lang="es-MX" sz="2800" spc="-1" strike="noStrike">
                <a:solidFill>
                  <a:srgbClr val="333399"/>
                </a:solidFill>
                <a:latin typeface="Arial Narrow"/>
              </a:rPr>
              <a:t>enfoque</a:t>
            </a: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, del que se consideran </a:t>
            </a:r>
            <a:r>
              <a:rPr b="1" lang="es-MX" sz="2800" spc="-1" strike="noStrike">
                <a:solidFill>
                  <a:srgbClr val="333399"/>
                </a:solidFill>
                <a:latin typeface="Arial Narrow"/>
              </a:rPr>
              <a:t>mutuamente responsables</a:t>
            </a: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.”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08" name="AutoShape 4">
            <a:hlinkClick r:id="rId1" action="ppaction://hlinksldjump"/>
          </p:cNvPr>
          <p:cNvSpPr/>
          <p:nvPr/>
        </p:nvSpPr>
        <p:spPr>
          <a:xfrm>
            <a:off x="3276720" y="2637000"/>
            <a:ext cx="4464000" cy="215640"/>
          </a:xfrm>
          <a:custGeom>
            <a:avLst/>
            <a:gdLst>
              <a:gd name="textAreaLeft" fmla="*/ 13680 w 4464000"/>
              <a:gd name="textAreaRight" fmla="*/ 4450320 w 4464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46436" h="21600">
                <a:moveTo>
                  <a:pt x="0" y="0"/>
                </a:moveTo>
                <a:lnTo>
                  <a:pt x="446436" y="0"/>
                </a:lnTo>
                <a:lnTo>
                  <a:pt x="446436" y="21600"/>
                </a:lnTo>
                <a:lnTo>
                  <a:pt x="0" y="21600"/>
                </a:lnTo>
                <a:close/>
              </a:path>
              <a:path fill="lightenLess" w="446436" h="21600">
                <a:moveTo>
                  <a:pt x="0" y="0"/>
                </a:moveTo>
                <a:lnTo>
                  <a:pt x="446436" y="0"/>
                </a:lnTo>
                <a:lnTo>
                  <a:pt x="445036" y="1400"/>
                </a:lnTo>
                <a:lnTo>
                  <a:pt x="1400" y="1400"/>
                </a:lnTo>
                <a:close/>
              </a:path>
              <a:path fill="darken" w="446436" h="21600">
                <a:moveTo>
                  <a:pt x="446436" y="0"/>
                </a:moveTo>
                <a:lnTo>
                  <a:pt x="446436" y="21600"/>
                </a:lnTo>
                <a:lnTo>
                  <a:pt x="445036" y="20200"/>
                </a:lnTo>
                <a:lnTo>
                  <a:pt x="445036" y="1400"/>
                </a:lnTo>
                <a:close/>
              </a:path>
              <a:path fill="darkenLess" w="446436" h="21600">
                <a:moveTo>
                  <a:pt x="446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036" y="20200"/>
                </a:lnTo>
                <a:close/>
              </a:path>
              <a:path fill="lighten" w="446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AutoShape 5">
            <a:hlinkClick r:id="rId2" action="ppaction://hlinksldjump"/>
          </p:cNvPr>
          <p:cNvSpPr/>
          <p:nvPr/>
        </p:nvSpPr>
        <p:spPr>
          <a:xfrm>
            <a:off x="1258920" y="2997360"/>
            <a:ext cx="4176720" cy="287280"/>
          </a:xfrm>
          <a:custGeom>
            <a:avLst/>
            <a:gdLst>
              <a:gd name="textAreaLeft" fmla="*/ 18360 w 4176720"/>
              <a:gd name="textAreaRight" fmla="*/ 4158360 w 4176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13673" h="21600">
                <a:moveTo>
                  <a:pt x="0" y="0"/>
                </a:moveTo>
                <a:lnTo>
                  <a:pt x="313673" y="0"/>
                </a:lnTo>
                <a:lnTo>
                  <a:pt x="313673" y="21600"/>
                </a:lnTo>
                <a:lnTo>
                  <a:pt x="0" y="21600"/>
                </a:lnTo>
                <a:close/>
              </a:path>
              <a:path fill="lightenLess" w="313673" h="21600">
                <a:moveTo>
                  <a:pt x="0" y="0"/>
                </a:moveTo>
                <a:lnTo>
                  <a:pt x="313673" y="0"/>
                </a:lnTo>
                <a:lnTo>
                  <a:pt x="312273" y="1400"/>
                </a:lnTo>
                <a:lnTo>
                  <a:pt x="1400" y="1400"/>
                </a:lnTo>
                <a:close/>
              </a:path>
              <a:path fill="darken" w="313673" h="21600">
                <a:moveTo>
                  <a:pt x="313673" y="0"/>
                </a:moveTo>
                <a:lnTo>
                  <a:pt x="313673" y="21600"/>
                </a:lnTo>
                <a:lnTo>
                  <a:pt x="312273" y="20200"/>
                </a:lnTo>
                <a:lnTo>
                  <a:pt x="312273" y="1400"/>
                </a:lnTo>
                <a:close/>
              </a:path>
              <a:path fill="darkenLess" w="313673" h="21600">
                <a:moveTo>
                  <a:pt x="313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273" y="20200"/>
                </a:lnTo>
                <a:close/>
              </a:path>
              <a:path fill="lighten" w="313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AutoShape 6">
            <a:hlinkClick r:id="rId3" action="ppaction://hlinksldjump"/>
          </p:cNvPr>
          <p:cNvSpPr/>
          <p:nvPr/>
        </p:nvSpPr>
        <p:spPr>
          <a:xfrm>
            <a:off x="1116000" y="3500280"/>
            <a:ext cx="2376360" cy="216000"/>
          </a:xfrm>
          <a:custGeom>
            <a:avLst/>
            <a:gdLst>
              <a:gd name="textAreaLeft" fmla="*/ 13680 w 2376360"/>
              <a:gd name="textAreaRight" fmla="*/ 2362680 w 23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37277" h="21600">
                <a:moveTo>
                  <a:pt x="0" y="0"/>
                </a:moveTo>
                <a:lnTo>
                  <a:pt x="237277" y="0"/>
                </a:lnTo>
                <a:lnTo>
                  <a:pt x="237277" y="21600"/>
                </a:lnTo>
                <a:lnTo>
                  <a:pt x="0" y="21600"/>
                </a:lnTo>
                <a:close/>
              </a:path>
              <a:path fill="lightenLess" w="237277" h="21600">
                <a:moveTo>
                  <a:pt x="0" y="0"/>
                </a:moveTo>
                <a:lnTo>
                  <a:pt x="237277" y="0"/>
                </a:lnTo>
                <a:lnTo>
                  <a:pt x="235877" y="1400"/>
                </a:lnTo>
                <a:lnTo>
                  <a:pt x="1400" y="1400"/>
                </a:lnTo>
                <a:close/>
              </a:path>
              <a:path fill="darken" w="237277" h="21600">
                <a:moveTo>
                  <a:pt x="237277" y="0"/>
                </a:moveTo>
                <a:lnTo>
                  <a:pt x="237277" y="21600"/>
                </a:lnTo>
                <a:lnTo>
                  <a:pt x="235877" y="20200"/>
                </a:lnTo>
                <a:lnTo>
                  <a:pt x="235877" y="1400"/>
                </a:lnTo>
                <a:close/>
              </a:path>
              <a:path fill="darkenLess" w="237277" h="21600">
                <a:moveTo>
                  <a:pt x="237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877" y="20200"/>
                </a:lnTo>
                <a:close/>
              </a:path>
              <a:path fill="lighten" w="237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AutoShape 7">
            <a:hlinkClick r:id="" action="ppaction://hlinkshowjump?jump=nextslide"/>
          </p:cNvPr>
          <p:cNvSpPr/>
          <p:nvPr/>
        </p:nvSpPr>
        <p:spPr>
          <a:xfrm>
            <a:off x="7380360" y="3429000"/>
            <a:ext cx="1152360" cy="287280"/>
          </a:xfrm>
          <a:custGeom>
            <a:avLst/>
            <a:gdLst>
              <a:gd name="textAreaLeft" fmla="*/ 18360 w 1152360"/>
              <a:gd name="textAreaRight" fmla="*/ 1134000 w 1152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86562" h="21600">
                <a:moveTo>
                  <a:pt x="0" y="0"/>
                </a:moveTo>
                <a:lnTo>
                  <a:pt x="86562" y="0"/>
                </a:lnTo>
                <a:lnTo>
                  <a:pt x="86562" y="21600"/>
                </a:lnTo>
                <a:lnTo>
                  <a:pt x="0" y="21600"/>
                </a:lnTo>
                <a:close/>
              </a:path>
              <a:path fill="lightenLess" w="86562" h="21600">
                <a:moveTo>
                  <a:pt x="0" y="0"/>
                </a:moveTo>
                <a:lnTo>
                  <a:pt x="86562" y="0"/>
                </a:lnTo>
                <a:lnTo>
                  <a:pt x="85162" y="1400"/>
                </a:lnTo>
                <a:lnTo>
                  <a:pt x="1400" y="1400"/>
                </a:lnTo>
                <a:close/>
              </a:path>
              <a:path fill="darken" w="86562" h="21600">
                <a:moveTo>
                  <a:pt x="86562" y="0"/>
                </a:moveTo>
                <a:lnTo>
                  <a:pt x="86562" y="21600"/>
                </a:lnTo>
                <a:lnTo>
                  <a:pt x="85162" y="20200"/>
                </a:lnTo>
                <a:lnTo>
                  <a:pt x="85162" y="1400"/>
                </a:lnTo>
                <a:close/>
              </a:path>
              <a:path fill="darkenLess" w="86562" h="21600">
                <a:moveTo>
                  <a:pt x="865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162" y="20200"/>
                </a:lnTo>
                <a:close/>
              </a:path>
              <a:path fill="lighten" w="865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AutoShape 8">
            <a:hlinkClick r:id="rId4" action="ppaction://hlinksldjump"/>
          </p:cNvPr>
          <p:cNvSpPr/>
          <p:nvPr/>
        </p:nvSpPr>
        <p:spPr>
          <a:xfrm>
            <a:off x="4356000" y="3933720"/>
            <a:ext cx="3745080" cy="216000"/>
          </a:xfrm>
          <a:custGeom>
            <a:avLst/>
            <a:gdLst>
              <a:gd name="textAreaLeft" fmla="*/ 13680 w 3745080"/>
              <a:gd name="textAreaRight" fmla="*/ 3731400 w 3745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73921" h="21600">
                <a:moveTo>
                  <a:pt x="0" y="0"/>
                </a:moveTo>
                <a:lnTo>
                  <a:pt x="373921" y="0"/>
                </a:lnTo>
                <a:lnTo>
                  <a:pt x="373921" y="21600"/>
                </a:lnTo>
                <a:lnTo>
                  <a:pt x="0" y="21600"/>
                </a:lnTo>
                <a:close/>
              </a:path>
              <a:path fill="lightenLess" w="373921" h="21600">
                <a:moveTo>
                  <a:pt x="0" y="0"/>
                </a:moveTo>
                <a:lnTo>
                  <a:pt x="373921" y="0"/>
                </a:lnTo>
                <a:lnTo>
                  <a:pt x="372521" y="1400"/>
                </a:lnTo>
                <a:lnTo>
                  <a:pt x="1400" y="1400"/>
                </a:lnTo>
                <a:close/>
              </a:path>
              <a:path fill="darken" w="373921" h="21600">
                <a:moveTo>
                  <a:pt x="373921" y="0"/>
                </a:moveTo>
                <a:lnTo>
                  <a:pt x="373921" y="21600"/>
                </a:lnTo>
                <a:lnTo>
                  <a:pt x="372521" y="20200"/>
                </a:lnTo>
                <a:lnTo>
                  <a:pt x="372521" y="1400"/>
                </a:lnTo>
                <a:close/>
              </a:path>
              <a:path fill="darkenLess" w="373921" h="21600">
                <a:moveTo>
                  <a:pt x="373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521" y="20200"/>
                </a:lnTo>
                <a:close/>
              </a:path>
              <a:path fill="lighten" w="373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3564000" y="3429000"/>
            <a:ext cx="3529080" cy="287280"/>
          </a:xfrm>
          <a:custGeom>
            <a:avLst/>
            <a:gdLst>
              <a:gd name="textAreaLeft" fmla="*/ 18360 w 3529080"/>
              <a:gd name="textAreaRight" fmla="*/ 3510720 w 3529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5039" h="21600">
                <a:moveTo>
                  <a:pt x="0" y="0"/>
                </a:moveTo>
                <a:lnTo>
                  <a:pt x="265039" y="0"/>
                </a:lnTo>
                <a:lnTo>
                  <a:pt x="265039" y="21600"/>
                </a:lnTo>
                <a:lnTo>
                  <a:pt x="0" y="21600"/>
                </a:lnTo>
                <a:close/>
              </a:path>
              <a:path fill="lightenLess" w="265039" h="21600">
                <a:moveTo>
                  <a:pt x="0" y="0"/>
                </a:moveTo>
                <a:lnTo>
                  <a:pt x="265039" y="0"/>
                </a:lnTo>
                <a:lnTo>
                  <a:pt x="263639" y="1400"/>
                </a:lnTo>
                <a:lnTo>
                  <a:pt x="1400" y="1400"/>
                </a:lnTo>
                <a:close/>
              </a:path>
              <a:path fill="darken" w="265039" h="21600">
                <a:moveTo>
                  <a:pt x="265039" y="0"/>
                </a:moveTo>
                <a:lnTo>
                  <a:pt x="265039" y="21600"/>
                </a:lnTo>
                <a:lnTo>
                  <a:pt x="263639" y="20200"/>
                </a:lnTo>
                <a:lnTo>
                  <a:pt x="263639" y="1400"/>
                </a:lnTo>
                <a:close/>
              </a:path>
              <a:path fill="darkenLess" w="265039" h="21600">
                <a:moveTo>
                  <a:pt x="265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39" y="20200"/>
                </a:lnTo>
                <a:close/>
              </a:path>
              <a:path fill="lighten" w="265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AutoShape 10"/>
          <p:cNvSpPr/>
          <p:nvPr/>
        </p:nvSpPr>
        <p:spPr>
          <a:xfrm>
            <a:off x="7380360" y="3429000"/>
            <a:ext cx="1152360" cy="360360"/>
          </a:xfrm>
          <a:custGeom>
            <a:avLst/>
            <a:gdLst>
              <a:gd name="textAreaLeft" fmla="*/ 23040 w 1152360"/>
              <a:gd name="textAreaRight" fmla="*/ 1129320 w 115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25" h="21600">
                <a:moveTo>
                  <a:pt x="0" y="0"/>
                </a:moveTo>
                <a:lnTo>
                  <a:pt x="69025" y="0"/>
                </a:lnTo>
                <a:lnTo>
                  <a:pt x="69025" y="21600"/>
                </a:lnTo>
                <a:lnTo>
                  <a:pt x="0" y="21600"/>
                </a:lnTo>
                <a:close/>
              </a:path>
              <a:path fill="lightenLess" w="69025" h="21600">
                <a:moveTo>
                  <a:pt x="0" y="0"/>
                </a:moveTo>
                <a:lnTo>
                  <a:pt x="69025" y="0"/>
                </a:lnTo>
                <a:lnTo>
                  <a:pt x="67625" y="1400"/>
                </a:lnTo>
                <a:lnTo>
                  <a:pt x="1400" y="1400"/>
                </a:lnTo>
                <a:close/>
              </a:path>
              <a:path fill="darken" w="69025" h="21600">
                <a:moveTo>
                  <a:pt x="69025" y="0"/>
                </a:moveTo>
                <a:lnTo>
                  <a:pt x="69025" y="21600"/>
                </a:lnTo>
                <a:lnTo>
                  <a:pt x="67625" y="20200"/>
                </a:lnTo>
                <a:lnTo>
                  <a:pt x="67625" y="1400"/>
                </a:lnTo>
                <a:close/>
              </a:path>
              <a:path fill="darkenLess" w="69025" h="21600">
                <a:moveTo>
                  <a:pt x="69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25" y="20200"/>
                </a:lnTo>
                <a:close/>
              </a:path>
              <a:path fill="lighten" w="69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AutoShape 11"/>
          <p:cNvSpPr/>
          <p:nvPr/>
        </p:nvSpPr>
        <p:spPr>
          <a:xfrm>
            <a:off x="8532720" y="5445000"/>
            <a:ext cx="142920" cy="21600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216000"/>
              <a:gd name="textAreaBottom" fmla="*/ 207000 h 216000"/>
            </a:gdLst>
            <a:ahLst/>
            <a:rect l="textAreaLeft" t="textAreaTop" r="textAreaRight" b="textAreaBottom"/>
            <a:pathLst>
              <a:path w="21600" h="32617">
                <a:moveTo>
                  <a:pt x="0" y="0"/>
                </a:moveTo>
                <a:lnTo>
                  <a:pt x="21600" y="0"/>
                </a:lnTo>
                <a:lnTo>
                  <a:pt x="21600" y="32617"/>
                </a:lnTo>
                <a:lnTo>
                  <a:pt x="0" y="32617"/>
                </a:lnTo>
                <a:close/>
              </a:path>
              <a:path fill="lightenLess" w="21600" h="326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617">
                <a:moveTo>
                  <a:pt x="21600" y="0"/>
                </a:moveTo>
                <a:lnTo>
                  <a:pt x="21600" y="32617"/>
                </a:lnTo>
                <a:lnTo>
                  <a:pt x="20200" y="31217"/>
                </a:lnTo>
                <a:lnTo>
                  <a:pt x="20200" y="1400"/>
                </a:lnTo>
                <a:close/>
              </a:path>
              <a:path fill="darkenLess" w="21600" h="32617">
                <a:moveTo>
                  <a:pt x="21600" y="32617"/>
                </a:moveTo>
                <a:lnTo>
                  <a:pt x="0" y="32617"/>
                </a:lnTo>
                <a:lnTo>
                  <a:pt x="1400" y="31217"/>
                </a:lnTo>
                <a:lnTo>
                  <a:pt x="20200" y="31217"/>
                </a:lnTo>
                <a:close/>
              </a:path>
              <a:path fill="lighten" w="21600" h="32617">
                <a:moveTo>
                  <a:pt x="0" y="32617"/>
                </a:moveTo>
                <a:lnTo>
                  <a:pt x="0" y="0"/>
                </a:lnTo>
                <a:lnTo>
                  <a:pt x="1400" y="1400"/>
                </a:lnTo>
                <a:lnTo>
                  <a:pt x="1400" y="31217"/>
                </a:lnTo>
                <a:close/>
              </a:path>
              <a:path fill="darken" w="21600" h="32617">
                <a:moveTo>
                  <a:pt x="3794" y="9302"/>
                </a:moveTo>
                <a:lnTo>
                  <a:pt x="17806" y="16309"/>
                </a:lnTo>
                <a:lnTo>
                  <a:pt x="3794" y="23315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Motivos que apoyan la restricción del N° de Integrant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280" y="160128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Se estima como máximo unas 25 personas (normalmente menores a diez integrantes)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Se fortalece la interactividad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Es más fácil establecer y explotar complementariedades.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Son más dinámicos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Facilidad de establecimiento de acuerdos.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Manejo de conflictos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Motivación más intensa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Mejor manejo de la logística (espacio, recursos, etc.)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19" name="AutoShape 4">
            <a:hlinkClick r:id="" action="ppaction://hlinkshowjump?jump=nextslide"/>
          </p:cNvPr>
          <p:cNvSpPr/>
          <p:nvPr/>
        </p:nvSpPr>
        <p:spPr>
          <a:xfrm>
            <a:off x="4788000" y="2160720"/>
            <a:ext cx="215640" cy="21564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ffff00">
              <a:alpha val="55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8532720" y="558972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17824" y="10800"/>
                </a:lnTo>
                <a:lnTo>
                  <a:pt x="3812" y="17806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4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Anidamiento, generado po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62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Objetivos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Aspectos geográficos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Comunidad de intereses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Dependencias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Competencias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Historia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Habilidades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pic>
        <p:nvPicPr>
          <p:cNvPr id="124" name="Picture 4" descr="EQUIPOS1"/>
          <p:cNvPicPr/>
          <p:nvPr/>
        </p:nvPicPr>
        <p:blipFill>
          <a:blip r:embed="rId1"/>
          <a:stretch/>
        </p:blipFill>
        <p:spPr>
          <a:xfrm>
            <a:off x="5002200" y="2448000"/>
            <a:ext cx="3962520" cy="213336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6">
            <a:hlinkClick r:id="" action="ppaction://hlinkshowjump?jump=previousslide"/>
          </p:cNvPr>
          <p:cNvSpPr/>
          <p:nvPr/>
        </p:nvSpPr>
        <p:spPr>
          <a:xfrm>
            <a:off x="8604360" y="5661000"/>
            <a:ext cx="215640" cy="2160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36">
                <a:moveTo>
                  <a:pt x="0" y="0"/>
                </a:moveTo>
                <a:lnTo>
                  <a:pt x="21600" y="0"/>
                </a:lnTo>
                <a:lnTo>
                  <a:pt x="21600" y="21636"/>
                </a:lnTo>
                <a:lnTo>
                  <a:pt x="0" y="21636"/>
                </a:lnTo>
                <a:close/>
              </a:path>
              <a:path fill="lightenLess" w="21600" h="21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6">
                <a:moveTo>
                  <a:pt x="21600" y="0"/>
                </a:moveTo>
                <a:lnTo>
                  <a:pt x="21600" y="21636"/>
                </a:lnTo>
                <a:lnTo>
                  <a:pt x="20200" y="20236"/>
                </a:lnTo>
                <a:lnTo>
                  <a:pt x="20200" y="1400"/>
                </a:lnTo>
                <a:close/>
              </a:path>
              <a:path fill="darkenLess" w="21600" h="21636">
                <a:moveTo>
                  <a:pt x="21600" y="21636"/>
                </a:moveTo>
                <a:lnTo>
                  <a:pt x="0" y="21636"/>
                </a:lnTo>
                <a:lnTo>
                  <a:pt x="1400" y="20236"/>
                </a:lnTo>
                <a:lnTo>
                  <a:pt x="20200" y="20236"/>
                </a:lnTo>
                <a:close/>
              </a:path>
              <a:path fill="lighten" w="21600" h="21636">
                <a:moveTo>
                  <a:pt x="0" y="21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6"/>
                </a:lnTo>
                <a:close/>
              </a:path>
              <a:path fill="darken" w="21600" h="21636">
                <a:moveTo>
                  <a:pt x="3794" y="10818"/>
                </a:moveTo>
                <a:lnTo>
                  <a:pt x="17806" y="3812"/>
                </a:lnTo>
                <a:lnTo>
                  <a:pt x="17806" y="17824"/>
                </a:lnTo>
                <a:close/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Habilidades Directiva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Preguntas para definir el tamañ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¿Pueden reunirse fácilmente y con frecuencia?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¿Puede comunicarse fácilmente con todos los miembros y con frecuencia?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¿Existen discusiones abiertas e interactivas entre todos los miembros?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¿Entiende cada uno de los miembros las funciones y habilidades de los demás?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¿Se necesita más gente para alcanzar los fines?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¿Es posible o necesario establecer subequipos?  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8675640" y="5516640"/>
            <a:ext cx="217440" cy="288720"/>
          </a:xfrm>
          <a:custGeom>
            <a:avLst/>
            <a:gdLst>
              <a:gd name="textAreaLeft" fmla="*/ 14040 w 217440"/>
              <a:gd name="textAreaRight" fmla="*/ 203400 w 217440"/>
              <a:gd name="textAreaTop" fmla="*/ 14040 h 288720"/>
              <a:gd name="textAreaBottom" fmla="*/ 274680 h 288720"/>
            </a:gdLst>
            <a:ahLst/>
            <a:rect l="textAreaLeft" t="textAreaTop" r="textAreaRight" b="textAreaBottom"/>
            <a:pathLst>
              <a:path w="21600" h="28669">
                <a:moveTo>
                  <a:pt x="0" y="0"/>
                </a:moveTo>
                <a:lnTo>
                  <a:pt x="21600" y="0"/>
                </a:lnTo>
                <a:lnTo>
                  <a:pt x="21600" y="28669"/>
                </a:lnTo>
                <a:lnTo>
                  <a:pt x="0" y="28669"/>
                </a:lnTo>
                <a:close/>
              </a:path>
              <a:path fill="lightenLess" w="21600" h="286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669">
                <a:moveTo>
                  <a:pt x="21600" y="0"/>
                </a:moveTo>
                <a:lnTo>
                  <a:pt x="21600" y="28669"/>
                </a:lnTo>
                <a:lnTo>
                  <a:pt x="20200" y="27269"/>
                </a:lnTo>
                <a:lnTo>
                  <a:pt x="20200" y="1400"/>
                </a:lnTo>
                <a:close/>
              </a:path>
              <a:path fill="darkenLess" w="21600" h="28669">
                <a:moveTo>
                  <a:pt x="21600" y="28669"/>
                </a:moveTo>
                <a:lnTo>
                  <a:pt x="0" y="28669"/>
                </a:lnTo>
                <a:lnTo>
                  <a:pt x="1400" y="27269"/>
                </a:lnTo>
                <a:lnTo>
                  <a:pt x="20200" y="27269"/>
                </a:lnTo>
                <a:close/>
              </a:path>
              <a:path fill="lighten" w="21600" h="28669">
                <a:moveTo>
                  <a:pt x="0" y="286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269"/>
                </a:lnTo>
                <a:close/>
              </a:path>
              <a:path fill="darken" w="21600" h="28669">
                <a:moveTo>
                  <a:pt x="3794" y="14335"/>
                </a:moveTo>
                <a:lnTo>
                  <a:pt x="17806" y="7328"/>
                </a:lnTo>
                <a:lnTo>
                  <a:pt x="17806" y="21341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3:10:07Z</dcterms:created>
  <dc:creator>mmonsalves</dc:creator>
  <dc:description/>
  <dc:language>en-US</dc:language>
  <cp:lastModifiedBy>ALVARO SILVA MADRID</cp:lastModifiedBy>
  <dcterms:modified xsi:type="dcterms:W3CDTF">2009-09-17T16:04:37Z</dcterms:modified>
  <cp:revision>163</cp:revision>
  <dc:subject/>
  <dc:title>C</dc:title>
</cp:coreProperties>
</file>