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30215-A2CD-4BE5-AE1B-C1712550CA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076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1280" y="3721320"/>
            <a:ext cx="8076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D05F9-950F-4C63-B01C-9A4325F4B0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49840" y="141300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1280" y="372132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49840" y="372132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208E4-53B9-45A7-A643-18FC649603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42240" y="141300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73560" y="141300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1280" y="372132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42240" y="372132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73560" y="372132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8AE62-13F1-4847-8806-FABDE4F654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D7B965-22A7-489F-A77E-181152820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11280" y="141300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2EC58B-4B89-47C3-AF66-EB8AA02CA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E49945-1990-4388-8948-FE919AC5C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39412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49840" y="1413000"/>
            <a:ext cx="39412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B89697-720D-4E4E-B145-A1005497A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7A0E05-E989-4C3D-AAC7-81488FC1D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914400" y="68544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AB748E-C076-4DE0-9EBA-1E9BA1ECD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49840" y="1413000"/>
            <a:ext cx="39412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11280" y="372132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F1C03E-B710-4DE4-AA07-B65B6E88E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1280" y="141300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EABD4-27E5-4DD1-B3A4-B142943D89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39412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49840" y="141300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49840" y="372132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2FC1C9-0FEE-471F-A6FA-C4D481BDD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49840" y="141300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11280" y="3721320"/>
            <a:ext cx="8076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13F2C6-8C9C-43D1-B278-AF2A3631B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076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11280" y="3721320"/>
            <a:ext cx="8076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462D36-D1BF-4C15-B76F-957DF712A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49840" y="141300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1280" y="372132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49840" y="372132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D9B9C3-356B-4043-B6AD-AB2190331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42240" y="141300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3560" y="141300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11280" y="372132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42240" y="372132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3560" y="372132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CA832D-E14D-4D1F-84BC-418D1114C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27778-C9FA-49F9-B9B5-F1637EA30B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39412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49840" y="1413000"/>
            <a:ext cx="39412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00BC0-DC40-4DC8-A339-57ABFD0B5D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928CD-E8ED-464C-9AF9-721C59882F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4400" y="68544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08711-B21F-41C8-9848-CC488139AC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49840" y="1413000"/>
            <a:ext cx="39412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1280" y="372132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20D6C-DE0A-4B07-8532-501E63AF2A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39412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9840" y="141300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49840" y="372132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AA8A3-07E1-4401-9F9D-831E89BABA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9840" y="141300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1280" y="3721320"/>
            <a:ext cx="8076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E929F-2170-475D-BFF0-034F3C04B8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1"/>
          <p:cNvSpPr/>
          <p:nvPr/>
        </p:nvSpPr>
        <p:spPr>
          <a:xfrm>
            <a:off x="0" y="0"/>
            <a:ext cx="9144000" cy="1371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11280" y="141300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Narrow"/>
              </a:rPr>
              <a:t>Click to edit the outline text format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lvl="2" marL="1143000" indent="-228600"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Narrow"/>
              </a:rPr>
              <a:t>Third Outline Level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lvl="3" marL="1600200" indent="-228600">
              <a:spcBef>
                <a:spcPts val="700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Narrow"/>
              </a:rPr>
              <a:t>Fourth Outline Level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lvl="4" marL="2057400" indent="-228600">
              <a:spcBef>
                <a:spcPts val="700"/>
              </a:spcBef>
              <a:buClr>
                <a:srgbClr val="333399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Narrow"/>
              </a:rPr>
              <a:t>Fifth Outline Level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Narrow"/>
              </a:rPr>
              <a:t>Sixth Outline Level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Narrow"/>
              </a:rPr>
              <a:t>Seventh Outline Level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1652760" y="30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Line 15"/>
          <p:cNvSpPr/>
          <p:nvPr/>
        </p:nvSpPr>
        <p:spPr>
          <a:xfrm>
            <a:off x="609480" y="1523880"/>
            <a:ext cx="0" cy="441972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Line 16"/>
          <p:cNvSpPr/>
          <p:nvPr/>
        </p:nvSpPr>
        <p:spPr>
          <a:xfrm>
            <a:off x="609480" y="5943600"/>
            <a:ext cx="8153640" cy="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3482640" y="6237000"/>
            <a:ext cx="56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20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808080"/>
                </a:solidFill>
                <a:latin typeface="Times New Roman"/>
              </a:rPr>
              <a:t>Taller de Desarrollo de Habilidades Directiva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7" name="Picture 22" descr="pic1"/>
          <p:cNvPicPr/>
          <p:nvPr/>
        </p:nvPicPr>
        <p:blipFill>
          <a:blip r:embed="rId2"/>
          <a:stretch/>
        </p:blipFill>
        <p:spPr>
          <a:xfrm>
            <a:off x="539640" y="6093000"/>
            <a:ext cx="1933560" cy="590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DC1BC-3807-42D9-9FBA-55F95EE4D671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10.xml"/><Relationship Id="rId3" Type="http://schemas.openxmlformats.org/officeDocument/2006/relationships/slide" Target="slide12.xml"/><Relationship Id="rId4" Type="http://schemas.openxmlformats.org/officeDocument/2006/relationships/slide" Target="slide18.xm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332000" y="3141360"/>
            <a:ext cx="6400800" cy="23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Arial Narrow"/>
              </a:rPr>
              <a:t>TRABAJO EN EQUIPO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3 Marcador de número de diapositiva"/>
          <p:cNvSpPr/>
          <p:nvPr/>
        </p:nvSpPr>
        <p:spPr>
          <a:xfrm>
            <a:off x="3483000" y="6237360"/>
            <a:ext cx="56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808080"/>
                </a:solidFill>
                <a:latin typeface="Times New Roman"/>
              </a:rPr>
              <a:t>Taller de Desarrollo de Habilidades Directiva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 Narrow"/>
              </a:rPr>
              <a:t>Habilidades Complementaria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Experiencia Técnica o Funcional.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Habilidades en Resolución de Problemas y Tomas de Decisión.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Habilidades interpersonales: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 Narrow"/>
              </a:rPr>
              <a:t>Crítica constructiva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 Narrow"/>
              </a:rPr>
              <a:t>Comunicación efectiva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 Narrow"/>
              </a:rPr>
              <a:t>Solución de conflictos constructiva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 Narrow"/>
              </a:rPr>
              <a:t>Objetividad de análisis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 Narrow"/>
              </a:rPr>
              <a:t>Apoyo a intereses y logros de los otros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 Narrow"/>
              </a:rPr>
              <a:t>Asumir riesgos y responsabilidades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 Narrow"/>
              </a:rPr>
              <a:t>Planteamiento razonable de dudas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Los equipos mismos impulsan el desarrollo de habilidades en sus integrantes. Desarrollo de la capacidad de aprendizaje.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3 Marcador de número de diapositiva"/>
          <p:cNvSpPr/>
          <p:nvPr/>
        </p:nvSpPr>
        <p:spPr>
          <a:xfrm>
            <a:off x="3483000" y="6237360"/>
            <a:ext cx="56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808080"/>
                </a:solidFill>
                <a:latin typeface="Times New Roman"/>
              </a:rPr>
              <a:t>Taller de Desarrollo de Habilidades Directiva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 Narrow"/>
              </a:rPr>
              <a:t>Preguntas relativas a las habilidades complementaria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11280" y="1530000"/>
            <a:ext cx="80769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 Narrow"/>
              </a:rPr>
              <a:t>¿Están presentes entre los miembros al menos estas tres categorías de habilidades reales o potenciales?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99"/>
                </a:solidFill>
                <a:latin typeface="Arial Narrow"/>
              </a:rPr>
              <a:t>Funcionales</a:t>
            </a: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99"/>
                </a:solidFill>
                <a:latin typeface="Arial Narrow"/>
              </a:rPr>
              <a:t>Técnicas</a:t>
            </a: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99"/>
                </a:solidFill>
                <a:latin typeface="Arial Narrow"/>
              </a:rPr>
              <a:t>De resolución de problemas y toma de decisiones</a:t>
            </a: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99"/>
                </a:solidFill>
                <a:latin typeface="Arial Narrow"/>
              </a:rPr>
              <a:t>Interpersonales</a:t>
            </a: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 Narrow"/>
              </a:rPr>
              <a:t>¿Tiene cada miembro el potencial suficiente en cada una de las tres categorías, para progresar en sus habilidades hasta el nivel requerido por el propósito y los objetivos del equipo?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 Narrow"/>
              </a:rPr>
              <a:t>¿Existen carencias o baja presencia en alguna de las habilidades críticas para el rendimiento del equipo?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 Narrow"/>
              </a:rPr>
              <a:t>¿Están los miembros individual o colectivamente dispuestos a emplear tiempo para ayudarse a si mismos y a los demás en el aprendizaje y desarrollo de habilidades?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 Narrow"/>
              </a:rPr>
              <a:t>¿Pueden introducirse habilidades nuevas o suplementarias a medida que sea necesario?. 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36" name="AutoShape 4"/>
          <p:cNvSpPr/>
          <p:nvPr/>
        </p:nvSpPr>
        <p:spPr>
          <a:xfrm>
            <a:off x="8604360" y="5589720"/>
            <a:ext cx="144360" cy="215640"/>
          </a:xfrm>
          <a:custGeom>
            <a:avLst/>
            <a:gdLst>
              <a:gd name="textAreaLeft" fmla="*/ 9360 w 144360"/>
              <a:gd name="textAreaRight" fmla="*/ 135000 w 144360"/>
              <a:gd name="textAreaTop" fmla="*/ 9360 h 215640"/>
              <a:gd name="textAreaBottom" fmla="*/ 206280 h 215640"/>
            </a:gdLst>
            <a:ahLst/>
            <a:rect l="textAreaLeft" t="textAreaTop" r="textAreaRight" b="textAreaBottom"/>
            <a:pathLst>
              <a:path w="21600" h="32239">
                <a:moveTo>
                  <a:pt x="0" y="0"/>
                </a:moveTo>
                <a:lnTo>
                  <a:pt x="21600" y="0"/>
                </a:lnTo>
                <a:lnTo>
                  <a:pt x="21600" y="32239"/>
                </a:lnTo>
                <a:lnTo>
                  <a:pt x="0" y="32239"/>
                </a:lnTo>
                <a:close/>
              </a:path>
              <a:path fill="lightenLess" w="21600" h="3223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239">
                <a:moveTo>
                  <a:pt x="21600" y="0"/>
                </a:moveTo>
                <a:lnTo>
                  <a:pt x="21600" y="32239"/>
                </a:lnTo>
                <a:lnTo>
                  <a:pt x="20200" y="30839"/>
                </a:lnTo>
                <a:lnTo>
                  <a:pt x="20200" y="1400"/>
                </a:lnTo>
                <a:close/>
              </a:path>
              <a:path fill="darkenLess" w="21600" h="32239">
                <a:moveTo>
                  <a:pt x="21600" y="32239"/>
                </a:moveTo>
                <a:lnTo>
                  <a:pt x="0" y="32239"/>
                </a:lnTo>
                <a:lnTo>
                  <a:pt x="1400" y="30839"/>
                </a:lnTo>
                <a:lnTo>
                  <a:pt x="20200" y="30839"/>
                </a:lnTo>
                <a:close/>
              </a:path>
              <a:path fill="lighten" w="21600" h="32239">
                <a:moveTo>
                  <a:pt x="0" y="32239"/>
                </a:moveTo>
                <a:lnTo>
                  <a:pt x="0" y="0"/>
                </a:lnTo>
                <a:lnTo>
                  <a:pt x="1400" y="1400"/>
                </a:lnTo>
                <a:lnTo>
                  <a:pt x="1400" y="30839"/>
                </a:lnTo>
                <a:close/>
              </a:path>
              <a:path fill="darken" w="21600" h="32239">
                <a:moveTo>
                  <a:pt x="3794" y="16119"/>
                </a:moveTo>
                <a:lnTo>
                  <a:pt x="17806" y="9113"/>
                </a:lnTo>
                <a:lnTo>
                  <a:pt x="17806" y="23126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3 Marcador de número de diapositiva"/>
          <p:cNvSpPr/>
          <p:nvPr/>
        </p:nvSpPr>
        <p:spPr>
          <a:xfrm>
            <a:off x="3483000" y="6237360"/>
            <a:ext cx="56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808080"/>
                </a:solidFill>
                <a:latin typeface="Times New Roman"/>
              </a:rPr>
              <a:t>Taller de Desarrollo de Habilidades Directiva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 Narrow"/>
              </a:rPr>
              <a:t>Compromiso con un Objetivo Común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11280" y="1601280"/>
            <a:ext cx="80769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Relación del objetivo particular del grupo con el objetivo general.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El propósito del equipo debe derivar de la meta general, pero en este deben participar activamente cada uno de los integrantes.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Lo anterior genera orgullo, pertenencia y responsabilidad.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El propósito del grupo debe ser alcanzable y tener significado real para cada uno de sus integrantes.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Este propósito debe poder traducirse en objetivos específicos y acciones.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El propósito debe ser permanentemente observado y cuidado en su alcance, realizabilidad, concreción.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El propósito genera identidad en los integrantes.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Largas reuniones son señal de objetivos difusos.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3 Marcador de número de diapositiva"/>
          <p:cNvSpPr/>
          <p:nvPr/>
        </p:nvSpPr>
        <p:spPr>
          <a:xfrm>
            <a:off x="3483000" y="6237360"/>
            <a:ext cx="56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808080"/>
                </a:solidFill>
                <a:latin typeface="Times New Roman"/>
              </a:rPr>
              <a:t>Taller de Desarrollo de Habilidades Directiva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 Narrow"/>
              </a:rPr>
              <a:t>Preguntas relativas al Propósito y Significado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11280" y="1672920"/>
            <a:ext cx="80769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¿Constituye una aspiración amplia y profunda, más que objetivos de corto plazo?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¿Se trata de un propósito de equipo, en oposición a un propósito organizativo más amplio o individual (del líder por ejemplo)?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¿Lo entienden todos los miembros de la misma manera? ¿Lo hacen sin derivar en abstracciones ambiguas?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Lo defienden los miembros con energía ante terceros?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¿Se refieren a el frecuentemente los miembros y exploran sus implicaciones?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¿Contiene temas que tengan un significado particular y fácil de recordar?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¿Sienten los miembros que es importante, si no excitante? 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43" name="AutoShape 4"/>
          <p:cNvSpPr/>
          <p:nvPr/>
        </p:nvSpPr>
        <p:spPr>
          <a:xfrm>
            <a:off x="8532720" y="5589720"/>
            <a:ext cx="216000" cy="28728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87280"/>
              <a:gd name="textAreaBottom" fmla="*/ 273600 h 287280"/>
            </a:gdLst>
            <a:ahLst/>
            <a:rect l="textAreaLeft" t="textAreaTop" r="textAreaRight" b="textAreaBottom"/>
            <a:pathLst>
              <a:path w="21600" h="28716">
                <a:moveTo>
                  <a:pt x="0" y="0"/>
                </a:moveTo>
                <a:lnTo>
                  <a:pt x="21600" y="0"/>
                </a:lnTo>
                <a:lnTo>
                  <a:pt x="21600" y="28716"/>
                </a:lnTo>
                <a:lnTo>
                  <a:pt x="0" y="28716"/>
                </a:lnTo>
                <a:close/>
              </a:path>
              <a:path fill="lightenLess" w="21600" h="2871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16">
                <a:moveTo>
                  <a:pt x="21600" y="0"/>
                </a:moveTo>
                <a:lnTo>
                  <a:pt x="21600" y="28716"/>
                </a:lnTo>
                <a:lnTo>
                  <a:pt x="20200" y="27316"/>
                </a:lnTo>
                <a:lnTo>
                  <a:pt x="20200" y="1400"/>
                </a:lnTo>
                <a:close/>
              </a:path>
              <a:path fill="darkenLess" w="21600" h="28716">
                <a:moveTo>
                  <a:pt x="21600" y="28716"/>
                </a:moveTo>
                <a:lnTo>
                  <a:pt x="0" y="28716"/>
                </a:lnTo>
                <a:lnTo>
                  <a:pt x="1400" y="27316"/>
                </a:lnTo>
                <a:lnTo>
                  <a:pt x="20200" y="27316"/>
                </a:lnTo>
                <a:close/>
              </a:path>
              <a:path fill="lighten" w="21600" h="28716">
                <a:moveTo>
                  <a:pt x="0" y="2871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16"/>
                </a:lnTo>
                <a:close/>
              </a:path>
              <a:path fill="darken" w="21600" h="28716">
                <a:moveTo>
                  <a:pt x="3794" y="14358"/>
                </a:moveTo>
                <a:lnTo>
                  <a:pt x="17806" y="7352"/>
                </a:lnTo>
                <a:lnTo>
                  <a:pt x="17806" y="21365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3 Marcador de número de diapositiva"/>
          <p:cNvSpPr/>
          <p:nvPr/>
        </p:nvSpPr>
        <p:spPr>
          <a:xfrm>
            <a:off x="3483000" y="6237360"/>
            <a:ext cx="56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808080"/>
                </a:solidFill>
                <a:latin typeface="Times New Roman"/>
              </a:rPr>
              <a:t>Taller de Desarrollo de Habilidades Directiva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 Narrow"/>
              </a:rPr>
              <a:t>Metas de Rendimiento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Deben formar parte de los Objetivos General y Específicos.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Deben ser mensurables y claramente especificadas en términos de tiempo, resultados, responsables, evolución, etc.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El impacto en el resultado final.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Deben ser revisados y ajustados periódicamente.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Las metas deben ser tales que permitan alcanzarlas a través de éxitos parciales (acrecienta el compromiso).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Es saludable mantener un nivel controlado de tensión y temor al fracaso.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Los objetivos específicos movilizan, el gran objetivo motiva.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3 Marcador de número de diapositiva"/>
          <p:cNvSpPr/>
          <p:nvPr/>
        </p:nvSpPr>
        <p:spPr>
          <a:xfrm>
            <a:off x="3483000" y="6237360"/>
            <a:ext cx="56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808080"/>
                </a:solidFill>
                <a:latin typeface="Times New Roman"/>
              </a:rPr>
              <a:t>Taller de Desarrollo de Habilidades Directiva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 Narrow"/>
              </a:rPr>
              <a:t>Preguntas relativas a Objetivo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80769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¿Se trata de objetivos del equipo, frente a objetivos organizativos más amplios o individuales (del líder)?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¿Son claros simples y medibles? Si no son medibles, ¿se puede determinar el nivel alcanzado?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¿Son realistas y ambiciosos? ¿Permiten pequeñas victorias a medida que se avanza?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¿Requieren un conjunto concreto de productos de trabajo del equipo?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¿Tienen claro todos los integrantes la importancia relativa y las prioridades?.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¿Están de acuerdo todos los miembros con los objetivos, su importancia relativa y la forma de medirlos?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¿Todos los miembros articulan los objetivos de la misma forma?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50" name="AutoShape 4"/>
          <p:cNvSpPr/>
          <p:nvPr/>
        </p:nvSpPr>
        <p:spPr>
          <a:xfrm>
            <a:off x="8532720" y="558972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3812" y="10800"/>
                </a:moveTo>
                <a:lnTo>
                  <a:pt x="17824" y="3794"/>
                </a:lnTo>
                <a:lnTo>
                  <a:pt x="17824" y="17806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3 Marcador de número de diapositiva"/>
          <p:cNvSpPr/>
          <p:nvPr/>
        </p:nvSpPr>
        <p:spPr>
          <a:xfrm>
            <a:off x="3483000" y="6237360"/>
            <a:ext cx="56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808080"/>
                </a:solidFill>
                <a:latin typeface="Times New Roman"/>
              </a:rPr>
              <a:t>Taller de Desarrollo de Habilidades Directiva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 Narrow"/>
              </a:rPr>
              <a:t>Enfoqu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 Narrow"/>
              </a:rPr>
              <a:t>Se trata de establecer la forma del trabajo conjunto para alcanzar el propósito común.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 Narrow"/>
              </a:rPr>
              <a:t>Al igual que en la construcción de las metas específicas, la forma de efectuar el trabajo conjunto debe ser colectiva.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 Narrow"/>
              </a:rPr>
              <a:t>Cada miembro del equipo debería realizar “dosis equivalentes” de trabajo.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 Narrow"/>
              </a:rPr>
              <a:t>Este enfoque debe considerar las diferencias individuales y mediciones de avance y rendimiento.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 Narrow"/>
              </a:rPr>
              <a:t>El “Comité de Medición de Avances” no será parte del equipo sis sus integrantes no están también involucrados en tareas específicas.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 Narrow"/>
              </a:rPr>
              <a:t>De gran importancia es establecer los roles de motivación, aspectos éticos, revisión de avances, corrección de rumbo, los que no necesariamente deben recaer en un solo líder.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 Narrow"/>
              </a:rPr>
              <a:t>Las aptitudes individuales no son normalmente visibles al inicio de la vida del equipo sino van surgiendo como fruto de las sucesivas revisiones de enfoque.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3 Marcador de número de diapositiva"/>
          <p:cNvSpPr/>
          <p:nvPr/>
        </p:nvSpPr>
        <p:spPr>
          <a:xfrm>
            <a:off x="3483000" y="6237360"/>
            <a:ext cx="56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808080"/>
                </a:solidFill>
                <a:latin typeface="Times New Roman"/>
              </a:rPr>
              <a:t>Taller de Desarrollo de Habilidades Directiva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 Narrow"/>
              </a:rPr>
              <a:t>Preguntas relativas al Enfoqu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11280" y="1530000"/>
            <a:ext cx="80769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¿Es el enfoque concreto, claro, se entiende realmente y tiene el acuerdo de todos? ¿Contribuirá a alcanzar los objetivos?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¿Capitalizará y mejorará las habilidades de todos los miembros? ¿Es coherente con otras necesidades de los miembros?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¿Impone que todos los miembros contribuyan con cantidades equivalentes de trabajo?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¿Proporciona oportunidades de interacción abierta, resolución de problemas, resolución de problemas basados en hechos y evaluación en función de resultados?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Articulan todos los miembros el enfoque de la misma forma?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Posibilita la modificación y las mejoras a través del tiempo?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¿Se buscan nuevos datos y perspectivas sistemáticamente y se considera el aporte de los nuevos miembros y/o patrocinadores? 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57" name="AutoShape 4"/>
          <p:cNvSpPr/>
          <p:nvPr/>
        </p:nvSpPr>
        <p:spPr>
          <a:xfrm>
            <a:off x="8532720" y="5516640"/>
            <a:ext cx="216000" cy="2174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7440"/>
              <a:gd name="textAreaBottom" fmla="*/ 203760 h 217440"/>
            </a:gdLst>
            <a:ahLst/>
            <a:rect l="textAreaLeft" t="textAreaTop" r="textAreaRight" b="textAreaBottom"/>
            <a:pathLst>
              <a:path w="21600" h="21744">
                <a:moveTo>
                  <a:pt x="0" y="0"/>
                </a:moveTo>
                <a:lnTo>
                  <a:pt x="21600" y="0"/>
                </a:lnTo>
                <a:lnTo>
                  <a:pt x="21600" y="21744"/>
                </a:lnTo>
                <a:lnTo>
                  <a:pt x="0" y="21744"/>
                </a:lnTo>
                <a:close/>
              </a:path>
              <a:path fill="lightenLess" w="21600" h="2174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44">
                <a:moveTo>
                  <a:pt x="21600" y="0"/>
                </a:moveTo>
                <a:lnTo>
                  <a:pt x="21600" y="21744"/>
                </a:lnTo>
                <a:lnTo>
                  <a:pt x="20200" y="20344"/>
                </a:lnTo>
                <a:lnTo>
                  <a:pt x="20200" y="1400"/>
                </a:lnTo>
                <a:close/>
              </a:path>
              <a:path fill="darkenLess" w="21600" h="21744">
                <a:moveTo>
                  <a:pt x="21600" y="21744"/>
                </a:moveTo>
                <a:lnTo>
                  <a:pt x="0" y="21744"/>
                </a:lnTo>
                <a:lnTo>
                  <a:pt x="1400" y="20344"/>
                </a:lnTo>
                <a:lnTo>
                  <a:pt x="20200" y="20344"/>
                </a:lnTo>
                <a:close/>
              </a:path>
              <a:path fill="lighten" w="21600" h="21744">
                <a:moveTo>
                  <a:pt x="0" y="2174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44"/>
                </a:lnTo>
                <a:close/>
              </a:path>
              <a:path fill="darken" w="21600" h="21744">
                <a:moveTo>
                  <a:pt x="3794" y="10872"/>
                </a:moveTo>
                <a:lnTo>
                  <a:pt x="17806" y="3865"/>
                </a:lnTo>
                <a:lnTo>
                  <a:pt x="17806" y="17878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3 Marcador de número de diapositiva"/>
          <p:cNvSpPr/>
          <p:nvPr/>
        </p:nvSpPr>
        <p:spPr>
          <a:xfrm>
            <a:off x="3483000" y="6237360"/>
            <a:ext cx="56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808080"/>
                </a:solidFill>
                <a:latin typeface="Times New Roman"/>
              </a:rPr>
              <a:t>Taller de Desarrollo de Habilidades Directiva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 Narrow"/>
              </a:rPr>
              <a:t>Responsabilidad Mutua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 Narrow"/>
              </a:rPr>
              <a:t>Caracteriza el trabajo en equipo.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 Narrow"/>
              </a:rPr>
              <a:t>Representan la promesa sincera de cada miembro para si mismo y los otros, sobre los factores Compromiso y Confianza.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 Narrow"/>
              </a:rPr>
              <a:t>Considerarse personalmente responsable de los objetivos del equipo, hace a sus miembros acreedores a expresar sus particulares puntos de vista sobre el desempeño del equipo y ser escuchados en forma honrada y constructiva.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 Narrow"/>
              </a:rPr>
              <a:t>El seguimiento de estas promesas preserva la confianza básica para que el equipo se constituya como tal.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 Narrow"/>
              </a:rPr>
              <a:t>La construcción de la confianza es uno de los aspectos más delicados en la formación del equipo.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 Narrow"/>
              </a:rPr>
              <a:t>La confianza real surgirá como fruto del desarrollo del propósito del equipo y del trabajo conjunto.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es-MX" sz="2000" spc="-1" strike="noStrike">
                <a:solidFill>
                  <a:srgbClr val="333399"/>
                </a:solidFill>
                <a:latin typeface="Arial Narrow"/>
              </a:rPr>
              <a:t>La responsabilidad pone una prueba “acida” a la calidad del propósito y enfoque del equipo.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3 Marcador de número de diapositiva"/>
          <p:cNvSpPr/>
          <p:nvPr/>
        </p:nvSpPr>
        <p:spPr>
          <a:xfrm>
            <a:off x="3483000" y="6237360"/>
            <a:ext cx="56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808080"/>
                </a:solidFill>
                <a:latin typeface="Times New Roman"/>
              </a:rPr>
              <a:t>Taller de Desarrollo de Habilidades Directiva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 Narrow"/>
              </a:rPr>
              <a:t>Preguntas relativas a la Responsabilidad Mutua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11280" y="1601280"/>
            <a:ext cx="80769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¿Se sienten todos, individual y colectivamente, responsables del propósito del equipo, los objetivos, el enfoque y los productos de trabajo?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¿Se puede medir el progreso ante objetivos específicos, y se lleva a cabo?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¿Se sienten todos los miembros responsables de todas las mediciones y sus resultados?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¿Tienen claro todos los miembros sus responsabilidades individuales y las compartidas?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¿Existe un sentimiento de que “solo el equipo puede fallar? 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64" name="AutoShape 4"/>
          <p:cNvSpPr/>
          <p:nvPr/>
        </p:nvSpPr>
        <p:spPr>
          <a:xfrm>
            <a:off x="8459640" y="5373720"/>
            <a:ext cx="216000" cy="28728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87280"/>
              <a:gd name="textAreaBottom" fmla="*/ 273600 h 287280"/>
            </a:gdLst>
            <a:ahLst/>
            <a:rect l="textAreaLeft" t="textAreaTop" r="textAreaRight" b="textAreaBottom"/>
            <a:pathLst>
              <a:path w="21600" h="28716">
                <a:moveTo>
                  <a:pt x="0" y="0"/>
                </a:moveTo>
                <a:lnTo>
                  <a:pt x="21600" y="0"/>
                </a:lnTo>
                <a:lnTo>
                  <a:pt x="21600" y="28716"/>
                </a:lnTo>
                <a:lnTo>
                  <a:pt x="0" y="28716"/>
                </a:lnTo>
                <a:close/>
              </a:path>
              <a:path fill="lightenLess" w="21600" h="2871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16">
                <a:moveTo>
                  <a:pt x="21600" y="0"/>
                </a:moveTo>
                <a:lnTo>
                  <a:pt x="21600" y="28716"/>
                </a:lnTo>
                <a:lnTo>
                  <a:pt x="20200" y="27316"/>
                </a:lnTo>
                <a:lnTo>
                  <a:pt x="20200" y="1400"/>
                </a:lnTo>
                <a:close/>
              </a:path>
              <a:path fill="darkenLess" w="21600" h="28716">
                <a:moveTo>
                  <a:pt x="21600" y="28716"/>
                </a:moveTo>
                <a:lnTo>
                  <a:pt x="0" y="28716"/>
                </a:lnTo>
                <a:lnTo>
                  <a:pt x="1400" y="27316"/>
                </a:lnTo>
                <a:lnTo>
                  <a:pt x="20200" y="27316"/>
                </a:lnTo>
                <a:close/>
              </a:path>
              <a:path fill="lighten" w="21600" h="28716">
                <a:moveTo>
                  <a:pt x="0" y="2871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16"/>
                </a:lnTo>
                <a:close/>
              </a:path>
              <a:path fill="darken" w="21600" h="28716">
                <a:moveTo>
                  <a:pt x="3794" y="14358"/>
                </a:moveTo>
                <a:lnTo>
                  <a:pt x="17806" y="7352"/>
                </a:lnTo>
                <a:lnTo>
                  <a:pt x="17806" y="21365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3 Marcador de número de diapositiva"/>
          <p:cNvSpPr/>
          <p:nvPr/>
        </p:nvSpPr>
        <p:spPr>
          <a:xfrm>
            <a:off x="3483000" y="6237360"/>
            <a:ext cx="56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808080"/>
                </a:solidFill>
                <a:latin typeface="Times New Roman"/>
              </a:rPr>
              <a:t>Taller de Desarrollo de Habilidades Directiva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 Narrow"/>
              </a:rPr>
              <a:t>Discusión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Arial Narrow"/>
              </a:rPr>
              <a:t>¿Qué constituye un Equipo?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3 Marcador de número de diapositiva"/>
          <p:cNvSpPr/>
          <p:nvPr/>
        </p:nvSpPr>
        <p:spPr>
          <a:xfrm>
            <a:off x="3483000" y="6237360"/>
            <a:ext cx="56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808080"/>
                </a:solidFill>
                <a:latin typeface="Times New Roman"/>
              </a:rPr>
              <a:t>Taller de Desarrollo de Habilidades Directiva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 Narrow"/>
              </a:rPr>
              <a:t>Conclusiones</a:t>
            </a:r>
            <a:r>
              <a:rPr b="0" lang="es-MX" sz="2800" spc="-1" strike="noStrike">
                <a:solidFill>
                  <a:srgbClr val="ffffff"/>
                </a:solidFill>
                <a:latin typeface="Arial Narrow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Arial Narrow"/>
              </a:rPr>
              <a:t>¿Tiene el grupo un tamaño suficientemente reducido?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Arial Narrow"/>
              </a:rPr>
              <a:t>¿Tienen sus integrantes las suficientes habilidades complementarias?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Arial Narrow"/>
              </a:rPr>
              <a:t>¿Tiene el grupo un propósito amplio y con significado al que todos los miembros aspiran?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Arial Narrow"/>
              </a:rPr>
              <a:t>¿Existe un conjunto específico de objetivos de rendimiento acordados por todos?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Arial Narrow"/>
              </a:rPr>
              <a:t>¿Se entiende y comparte el enfoque de trabajo?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Arial Narrow"/>
              </a:rPr>
              <a:t>¿Existe una responsabilidad individual y mutuamente compartida sobre los resultados del grupo?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1 Marcador de número de diapositiva"/>
          <p:cNvSpPr/>
          <p:nvPr/>
        </p:nvSpPr>
        <p:spPr>
          <a:xfrm>
            <a:off x="3483000" y="6237360"/>
            <a:ext cx="56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808080"/>
                </a:solidFill>
                <a:latin typeface="Times New Roman"/>
              </a:rPr>
              <a:t>Taller de Desarrollo de Habilidades Directiva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69" name="Picture 4" descr="castellers4"/>
          <p:cNvPicPr/>
          <p:nvPr/>
        </p:nvPicPr>
        <p:blipFill>
          <a:blip r:embed="rId1"/>
          <a:stretch/>
        </p:blipFill>
        <p:spPr>
          <a:xfrm>
            <a:off x="2190600" y="0"/>
            <a:ext cx="476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6 Marcador de número de diapositiva"/>
          <p:cNvSpPr/>
          <p:nvPr/>
        </p:nvSpPr>
        <p:spPr>
          <a:xfrm>
            <a:off x="3483000" y="6237360"/>
            <a:ext cx="56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808080"/>
                </a:solidFill>
                <a:latin typeface="Times New Roman"/>
              </a:rPr>
              <a:t>Taller de Desarrollo de Habilidades Directiva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 Narrow"/>
              </a:rPr>
              <a:t>¿Qué escena representa mejor el trabajo en Equipo?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91" name="Picture 9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3319560" cy="21333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0" descr="200442291-003"/>
          <p:cNvPicPr/>
          <p:nvPr/>
        </p:nvPicPr>
        <p:blipFill>
          <a:blip r:embed="rId2"/>
          <a:stretch/>
        </p:blipFill>
        <p:spPr>
          <a:xfrm>
            <a:off x="4356000" y="3716280"/>
            <a:ext cx="2843280" cy="2133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1" descr="53373368"/>
          <p:cNvPicPr/>
          <p:nvPr/>
        </p:nvPicPr>
        <p:blipFill>
          <a:blip r:embed="rId3"/>
          <a:stretch/>
        </p:blipFill>
        <p:spPr>
          <a:xfrm>
            <a:off x="755640" y="3699000"/>
            <a:ext cx="2124000" cy="21333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2" descr="eq1"/>
          <p:cNvPicPr/>
          <p:nvPr/>
        </p:nvPicPr>
        <p:blipFill>
          <a:blip r:embed="rId4"/>
          <a:stretch/>
        </p:blipFill>
        <p:spPr>
          <a:xfrm>
            <a:off x="2916360" y="3699000"/>
            <a:ext cx="1411200" cy="21333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3" descr="5977-000652"/>
          <p:cNvPicPr/>
          <p:nvPr/>
        </p:nvPicPr>
        <p:blipFill>
          <a:blip r:embed="rId5"/>
          <a:stretch/>
        </p:blipFill>
        <p:spPr>
          <a:xfrm>
            <a:off x="7315200" y="3716280"/>
            <a:ext cx="1649520" cy="21607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4" descr="castellers4"/>
          <p:cNvPicPr/>
          <p:nvPr/>
        </p:nvPicPr>
        <p:blipFill>
          <a:blip r:embed="rId6"/>
          <a:stretch/>
        </p:blipFill>
        <p:spPr>
          <a:xfrm>
            <a:off x="4214880" y="1413000"/>
            <a:ext cx="1581120" cy="2160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5" descr="56980768"/>
          <p:cNvPicPr/>
          <p:nvPr/>
        </p:nvPicPr>
        <p:blipFill>
          <a:blip r:embed="rId7"/>
          <a:stretch/>
        </p:blipFill>
        <p:spPr>
          <a:xfrm>
            <a:off x="5862600" y="1452600"/>
            <a:ext cx="3102120" cy="21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3 Marcador de número de diapositiva"/>
          <p:cNvSpPr/>
          <p:nvPr/>
        </p:nvSpPr>
        <p:spPr>
          <a:xfrm>
            <a:off x="3483000" y="6237360"/>
            <a:ext cx="56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808080"/>
                </a:solidFill>
                <a:latin typeface="Times New Roman"/>
              </a:rPr>
              <a:t>Taller de Desarrollo de Habilidades Directiva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 Narrow"/>
              </a:rPr>
              <a:t>And the Winner Is…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00" name="Picture 4" descr="castellers4"/>
          <p:cNvPicPr/>
          <p:nvPr/>
        </p:nvPicPr>
        <p:blipFill>
          <a:blip r:embed="rId1"/>
          <a:stretch/>
        </p:blipFill>
        <p:spPr>
          <a:xfrm>
            <a:off x="2651040" y="1413000"/>
            <a:ext cx="3649680" cy="52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4 Marcador de número de diapositiva"/>
          <p:cNvSpPr/>
          <p:nvPr/>
        </p:nvSpPr>
        <p:spPr>
          <a:xfrm>
            <a:off x="3483000" y="6237360"/>
            <a:ext cx="56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808080"/>
                </a:solidFill>
                <a:latin typeface="Times New Roman"/>
              </a:rPr>
              <a:t>Taller de Desarrollo de Habilidades Directiva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 Narrow"/>
              </a:rPr>
              <a:t>Componentes Esenciales de un Equipo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39621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Arial Narrow"/>
              </a:rPr>
              <a:t>     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pic>
        <p:nvPicPr>
          <p:cNvPr id="104" name="Picture 27" descr=""/>
          <p:cNvPicPr/>
          <p:nvPr/>
        </p:nvPicPr>
        <p:blipFill>
          <a:blip r:embed="rId1"/>
          <a:stretch/>
        </p:blipFill>
        <p:spPr>
          <a:xfrm>
            <a:off x="1476360" y="1413000"/>
            <a:ext cx="64087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3 Marcador de número de diapositiva"/>
          <p:cNvSpPr/>
          <p:nvPr/>
        </p:nvSpPr>
        <p:spPr>
          <a:xfrm>
            <a:off x="3483000" y="6237360"/>
            <a:ext cx="56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808080"/>
                </a:solidFill>
                <a:latin typeface="Times New Roman"/>
              </a:rPr>
              <a:t>Taller de Desarrollo de Habilidades Directiva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 Narrow"/>
              </a:rPr>
              <a:t>Definición de Equipo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Arial Narrow"/>
              </a:rPr>
              <a:t>“</a:t>
            </a:r>
            <a:r>
              <a:rPr b="0" lang="es-MX" sz="2800" spc="-1" strike="noStrike">
                <a:solidFill>
                  <a:srgbClr val="333399"/>
                </a:solidFill>
                <a:latin typeface="Arial Narrow"/>
              </a:rPr>
              <a:t>Un equipo es un </a:t>
            </a:r>
            <a:r>
              <a:rPr b="1" lang="es-MX" sz="2800" spc="-1" strike="noStrike">
                <a:solidFill>
                  <a:srgbClr val="333399"/>
                </a:solidFill>
                <a:latin typeface="Arial Narrow"/>
              </a:rPr>
              <a:t>número restringido de personas</a:t>
            </a:r>
            <a:r>
              <a:rPr b="0" lang="es-MX" sz="2800" spc="-1" strike="noStrike">
                <a:solidFill>
                  <a:srgbClr val="333399"/>
                </a:solidFill>
                <a:latin typeface="Arial Narrow"/>
              </a:rPr>
              <a:t> con </a:t>
            </a:r>
            <a:r>
              <a:rPr b="1" lang="es-MX" sz="2800" spc="-1" strike="noStrike">
                <a:solidFill>
                  <a:srgbClr val="333399"/>
                </a:solidFill>
                <a:latin typeface="Arial Narrow"/>
              </a:rPr>
              <a:t>habilidades complementarias</a:t>
            </a:r>
            <a:r>
              <a:rPr b="0" lang="es-MX" sz="2800" spc="-1" strike="noStrike">
                <a:solidFill>
                  <a:srgbClr val="333399"/>
                </a:solidFill>
                <a:latin typeface="Arial Narrow"/>
              </a:rPr>
              <a:t>, comprometido con un </a:t>
            </a:r>
            <a:r>
              <a:rPr b="1" lang="es-MX" sz="2800" spc="-1" strike="noStrike">
                <a:solidFill>
                  <a:srgbClr val="333399"/>
                </a:solidFill>
                <a:latin typeface="Arial Narrow"/>
              </a:rPr>
              <a:t>propósito común, objetivos de rendimiento</a:t>
            </a:r>
            <a:r>
              <a:rPr b="0" lang="es-MX" sz="2800" spc="-1" strike="noStrike">
                <a:solidFill>
                  <a:srgbClr val="333399"/>
                </a:solidFill>
                <a:latin typeface="Arial Narrow"/>
              </a:rPr>
              <a:t> y </a:t>
            </a:r>
            <a:r>
              <a:rPr b="1" lang="es-MX" sz="2800" spc="-1" strike="noStrike">
                <a:solidFill>
                  <a:srgbClr val="333399"/>
                </a:solidFill>
                <a:latin typeface="Arial Narrow"/>
              </a:rPr>
              <a:t>enfoque</a:t>
            </a:r>
            <a:r>
              <a:rPr b="0" lang="es-MX" sz="2800" spc="-1" strike="noStrike">
                <a:solidFill>
                  <a:srgbClr val="333399"/>
                </a:solidFill>
                <a:latin typeface="Arial Narrow"/>
              </a:rPr>
              <a:t>, del que se consideran </a:t>
            </a:r>
            <a:r>
              <a:rPr b="1" lang="es-MX" sz="2800" spc="-1" strike="noStrike">
                <a:solidFill>
                  <a:srgbClr val="333399"/>
                </a:solidFill>
                <a:latin typeface="Arial Narrow"/>
              </a:rPr>
              <a:t>mutuamente responsables</a:t>
            </a:r>
            <a:r>
              <a:rPr b="0" lang="es-MX" sz="2800" spc="-1" strike="noStrike">
                <a:solidFill>
                  <a:srgbClr val="333399"/>
                </a:solidFill>
                <a:latin typeface="Arial Narrow"/>
              </a:rPr>
              <a:t>.”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08" name="AutoShape 4">
            <a:hlinkClick r:id="rId1" action="ppaction://hlinksldjump"/>
          </p:cNvPr>
          <p:cNvSpPr/>
          <p:nvPr/>
        </p:nvSpPr>
        <p:spPr>
          <a:xfrm>
            <a:off x="3276720" y="2637000"/>
            <a:ext cx="4464000" cy="215640"/>
          </a:xfrm>
          <a:custGeom>
            <a:avLst/>
            <a:gdLst>
              <a:gd name="textAreaLeft" fmla="*/ 13680 w 4464000"/>
              <a:gd name="textAreaRight" fmla="*/ 4450320 w 4464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446436" h="21600">
                <a:moveTo>
                  <a:pt x="0" y="0"/>
                </a:moveTo>
                <a:lnTo>
                  <a:pt x="446436" y="0"/>
                </a:lnTo>
                <a:lnTo>
                  <a:pt x="446436" y="21600"/>
                </a:lnTo>
                <a:lnTo>
                  <a:pt x="0" y="21600"/>
                </a:lnTo>
                <a:close/>
              </a:path>
              <a:path fill="lightenLess" w="446436" h="21600">
                <a:moveTo>
                  <a:pt x="0" y="0"/>
                </a:moveTo>
                <a:lnTo>
                  <a:pt x="446436" y="0"/>
                </a:lnTo>
                <a:lnTo>
                  <a:pt x="445036" y="1400"/>
                </a:lnTo>
                <a:lnTo>
                  <a:pt x="1400" y="1400"/>
                </a:lnTo>
                <a:close/>
              </a:path>
              <a:path fill="darken" w="446436" h="21600">
                <a:moveTo>
                  <a:pt x="446436" y="0"/>
                </a:moveTo>
                <a:lnTo>
                  <a:pt x="446436" y="21600"/>
                </a:lnTo>
                <a:lnTo>
                  <a:pt x="445036" y="20200"/>
                </a:lnTo>
                <a:lnTo>
                  <a:pt x="445036" y="1400"/>
                </a:lnTo>
                <a:close/>
              </a:path>
              <a:path fill="darkenLess" w="446436" h="21600">
                <a:moveTo>
                  <a:pt x="4464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5036" y="20200"/>
                </a:lnTo>
                <a:close/>
              </a:path>
              <a:path fill="lighten" w="4464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9" name="AutoShape 5">
            <a:hlinkClick r:id="rId2" action="ppaction://hlinksldjump"/>
          </p:cNvPr>
          <p:cNvSpPr/>
          <p:nvPr/>
        </p:nvSpPr>
        <p:spPr>
          <a:xfrm>
            <a:off x="1258920" y="2997360"/>
            <a:ext cx="4176720" cy="287280"/>
          </a:xfrm>
          <a:custGeom>
            <a:avLst/>
            <a:gdLst>
              <a:gd name="textAreaLeft" fmla="*/ 18360 w 4176720"/>
              <a:gd name="textAreaRight" fmla="*/ 4158360 w 417672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13673" h="21600">
                <a:moveTo>
                  <a:pt x="0" y="0"/>
                </a:moveTo>
                <a:lnTo>
                  <a:pt x="313673" y="0"/>
                </a:lnTo>
                <a:lnTo>
                  <a:pt x="313673" y="21600"/>
                </a:lnTo>
                <a:lnTo>
                  <a:pt x="0" y="21600"/>
                </a:lnTo>
                <a:close/>
              </a:path>
              <a:path fill="lightenLess" w="313673" h="21600">
                <a:moveTo>
                  <a:pt x="0" y="0"/>
                </a:moveTo>
                <a:lnTo>
                  <a:pt x="313673" y="0"/>
                </a:lnTo>
                <a:lnTo>
                  <a:pt x="312273" y="1400"/>
                </a:lnTo>
                <a:lnTo>
                  <a:pt x="1400" y="1400"/>
                </a:lnTo>
                <a:close/>
              </a:path>
              <a:path fill="darken" w="313673" h="21600">
                <a:moveTo>
                  <a:pt x="313673" y="0"/>
                </a:moveTo>
                <a:lnTo>
                  <a:pt x="313673" y="21600"/>
                </a:lnTo>
                <a:lnTo>
                  <a:pt x="312273" y="20200"/>
                </a:lnTo>
                <a:lnTo>
                  <a:pt x="312273" y="1400"/>
                </a:lnTo>
                <a:close/>
              </a:path>
              <a:path fill="darkenLess" w="313673" h="21600">
                <a:moveTo>
                  <a:pt x="313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2273" y="20200"/>
                </a:lnTo>
                <a:close/>
              </a:path>
              <a:path fill="lighten" w="313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0" name="AutoShape 6">
            <a:hlinkClick r:id="rId3" action="ppaction://hlinksldjump"/>
          </p:cNvPr>
          <p:cNvSpPr/>
          <p:nvPr/>
        </p:nvSpPr>
        <p:spPr>
          <a:xfrm>
            <a:off x="1116000" y="3500280"/>
            <a:ext cx="2376360" cy="216000"/>
          </a:xfrm>
          <a:custGeom>
            <a:avLst/>
            <a:gdLst>
              <a:gd name="textAreaLeft" fmla="*/ 13680 w 2376360"/>
              <a:gd name="textAreaRight" fmla="*/ 2362680 w 23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37277" h="21600">
                <a:moveTo>
                  <a:pt x="0" y="0"/>
                </a:moveTo>
                <a:lnTo>
                  <a:pt x="237277" y="0"/>
                </a:lnTo>
                <a:lnTo>
                  <a:pt x="237277" y="21600"/>
                </a:lnTo>
                <a:lnTo>
                  <a:pt x="0" y="21600"/>
                </a:lnTo>
                <a:close/>
              </a:path>
              <a:path fill="lightenLess" w="237277" h="21600">
                <a:moveTo>
                  <a:pt x="0" y="0"/>
                </a:moveTo>
                <a:lnTo>
                  <a:pt x="237277" y="0"/>
                </a:lnTo>
                <a:lnTo>
                  <a:pt x="235877" y="1400"/>
                </a:lnTo>
                <a:lnTo>
                  <a:pt x="1400" y="1400"/>
                </a:lnTo>
                <a:close/>
              </a:path>
              <a:path fill="darken" w="237277" h="21600">
                <a:moveTo>
                  <a:pt x="237277" y="0"/>
                </a:moveTo>
                <a:lnTo>
                  <a:pt x="237277" y="21600"/>
                </a:lnTo>
                <a:lnTo>
                  <a:pt x="235877" y="20200"/>
                </a:lnTo>
                <a:lnTo>
                  <a:pt x="235877" y="1400"/>
                </a:lnTo>
                <a:close/>
              </a:path>
              <a:path fill="darkenLess" w="237277" h="21600">
                <a:moveTo>
                  <a:pt x="2372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877" y="20200"/>
                </a:lnTo>
                <a:close/>
              </a:path>
              <a:path fill="lighten" w="2372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AutoShape 7">
            <a:hlinkClick r:id="" action="ppaction://hlinkshowjump?jump=nextslide"/>
          </p:cNvPr>
          <p:cNvSpPr/>
          <p:nvPr/>
        </p:nvSpPr>
        <p:spPr>
          <a:xfrm>
            <a:off x="7380360" y="3429000"/>
            <a:ext cx="1152360" cy="287280"/>
          </a:xfrm>
          <a:custGeom>
            <a:avLst/>
            <a:gdLst>
              <a:gd name="textAreaLeft" fmla="*/ 18360 w 1152360"/>
              <a:gd name="textAreaRight" fmla="*/ 1134000 w 1152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86562" h="21600">
                <a:moveTo>
                  <a:pt x="0" y="0"/>
                </a:moveTo>
                <a:lnTo>
                  <a:pt x="86562" y="0"/>
                </a:lnTo>
                <a:lnTo>
                  <a:pt x="86562" y="21600"/>
                </a:lnTo>
                <a:lnTo>
                  <a:pt x="0" y="21600"/>
                </a:lnTo>
                <a:close/>
              </a:path>
              <a:path fill="lightenLess" w="86562" h="21600">
                <a:moveTo>
                  <a:pt x="0" y="0"/>
                </a:moveTo>
                <a:lnTo>
                  <a:pt x="86562" y="0"/>
                </a:lnTo>
                <a:lnTo>
                  <a:pt x="85162" y="1400"/>
                </a:lnTo>
                <a:lnTo>
                  <a:pt x="1400" y="1400"/>
                </a:lnTo>
                <a:close/>
              </a:path>
              <a:path fill="darken" w="86562" h="21600">
                <a:moveTo>
                  <a:pt x="86562" y="0"/>
                </a:moveTo>
                <a:lnTo>
                  <a:pt x="86562" y="21600"/>
                </a:lnTo>
                <a:lnTo>
                  <a:pt x="85162" y="20200"/>
                </a:lnTo>
                <a:lnTo>
                  <a:pt x="85162" y="1400"/>
                </a:lnTo>
                <a:close/>
              </a:path>
              <a:path fill="darkenLess" w="86562" h="21600">
                <a:moveTo>
                  <a:pt x="865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5162" y="20200"/>
                </a:lnTo>
                <a:close/>
              </a:path>
              <a:path fill="lighten" w="865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2" name="AutoShape 8">
            <a:hlinkClick r:id="rId4" action="ppaction://hlinksldjump"/>
          </p:cNvPr>
          <p:cNvSpPr/>
          <p:nvPr/>
        </p:nvSpPr>
        <p:spPr>
          <a:xfrm>
            <a:off x="4356000" y="3933720"/>
            <a:ext cx="3745080" cy="216000"/>
          </a:xfrm>
          <a:custGeom>
            <a:avLst/>
            <a:gdLst>
              <a:gd name="textAreaLeft" fmla="*/ 13680 w 3745080"/>
              <a:gd name="textAreaRight" fmla="*/ 3731400 w 37450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373921" h="21600">
                <a:moveTo>
                  <a:pt x="0" y="0"/>
                </a:moveTo>
                <a:lnTo>
                  <a:pt x="373921" y="0"/>
                </a:lnTo>
                <a:lnTo>
                  <a:pt x="373921" y="21600"/>
                </a:lnTo>
                <a:lnTo>
                  <a:pt x="0" y="21600"/>
                </a:lnTo>
                <a:close/>
              </a:path>
              <a:path fill="lightenLess" w="373921" h="21600">
                <a:moveTo>
                  <a:pt x="0" y="0"/>
                </a:moveTo>
                <a:lnTo>
                  <a:pt x="373921" y="0"/>
                </a:lnTo>
                <a:lnTo>
                  <a:pt x="372521" y="1400"/>
                </a:lnTo>
                <a:lnTo>
                  <a:pt x="1400" y="1400"/>
                </a:lnTo>
                <a:close/>
              </a:path>
              <a:path fill="darken" w="373921" h="21600">
                <a:moveTo>
                  <a:pt x="373921" y="0"/>
                </a:moveTo>
                <a:lnTo>
                  <a:pt x="373921" y="21600"/>
                </a:lnTo>
                <a:lnTo>
                  <a:pt x="372521" y="20200"/>
                </a:lnTo>
                <a:lnTo>
                  <a:pt x="372521" y="1400"/>
                </a:lnTo>
                <a:close/>
              </a:path>
              <a:path fill="darkenLess" w="373921" h="21600">
                <a:moveTo>
                  <a:pt x="3739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521" y="20200"/>
                </a:lnTo>
                <a:close/>
              </a:path>
              <a:path fill="lighten" w="3739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3564000" y="3429000"/>
            <a:ext cx="3529080" cy="287280"/>
          </a:xfrm>
          <a:custGeom>
            <a:avLst/>
            <a:gdLst>
              <a:gd name="textAreaLeft" fmla="*/ 18360 w 3529080"/>
              <a:gd name="textAreaRight" fmla="*/ 3510720 w 35290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65039" h="21600">
                <a:moveTo>
                  <a:pt x="0" y="0"/>
                </a:moveTo>
                <a:lnTo>
                  <a:pt x="265039" y="0"/>
                </a:lnTo>
                <a:lnTo>
                  <a:pt x="265039" y="21600"/>
                </a:lnTo>
                <a:lnTo>
                  <a:pt x="0" y="21600"/>
                </a:lnTo>
                <a:close/>
              </a:path>
              <a:path fill="lightenLess" w="265039" h="21600">
                <a:moveTo>
                  <a:pt x="0" y="0"/>
                </a:moveTo>
                <a:lnTo>
                  <a:pt x="265039" y="0"/>
                </a:lnTo>
                <a:lnTo>
                  <a:pt x="263639" y="1400"/>
                </a:lnTo>
                <a:lnTo>
                  <a:pt x="1400" y="1400"/>
                </a:lnTo>
                <a:close/>
              </a:path>
              <a:path fill="darken" w="265039" h="21600">
                <a:moveTo>
                  <a:pt x="265039" y="0"/>
                </a:moveTo>
                <a:lnTo>
                  <a:pt x="265039" y="21600"/>
                </a:lnTo>
                <a:lnTo>
                  <a:pt x="263639" y="20200"/>
                </a:lnTo>
                <a:lnTo>
                  <a:pt x="263639" y="1400"/>
                </a:lnTo>
                <a:close/>
              </a:path>
              <a:path fill="darkenLess" w="265039" h="21600">
                <a:moveTo>
                  <a:pt x="2650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39" y="20200"/>
                </a:lnTo>
                <a:close/>
              </a:path>
              <a:path fill="lighten" w="2650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AutoShape 10"/>
          <p:cNvSpPr/>
          <p:nvPr/>
        </p:nvSpPr>
        <p:spPr>
          <a:xfrm>
            <a:off x="7380360" y="3429000"/>
            <a:ext cx="1152360" cy="360360"/>
          </a:xfrm>
          <a:custGeom>
            <a:avLst/>
            <a:gdLst>
              <a:gd name="textAreaLeft" fmla="*/ 23040 w 1152360"/>
              <a:gd name="textAreaRight" fmla="*/ 1129320 w 1152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9025" h="21600">
                <a:moveTo>
                  <a:pt x="0" y="0"/>
                </a:moveTo>
                <a:lnTo>
                  <a:pt x="69025" y="0"/>
                </a:lnTo>
                <a:lnTo>
                  <a:pt x="69025" y="21600"/>
                </a:lnTo>
                <a:lnTo>
                  <a:pt x="0" y="21600"/>
                </a:lnTo>
                <a:close/>
              </a:path>
              <a:path fill="lightenLess" w="69025" h="21600">
                <a:moveTo>
                  <a:pt x="0" y="0"/>
                </a:moveTo>
                <a:lnTo>
                  <a:pt x="69025" y="0"/>
                </a:lnTo>
                <a:lnTo>
                  <a:pt x="67625" y="1400"/>
                </a:lnTo>
                <a:lnTo>
                  <a:pt x="1400" y="1400"/>
                </a:lnTo>
                <a:close/>
              </a:path>
              <a:path fill="darken" w="69025" h="21600">
                <a:moveTo>
                  <a:pt x="69025" y="0"/>
                </a:moveTo>
                <a:lnTo>
                  <a:pt x="69025" y="21600"/>
                </a:lnTo>
                <a:lnTo>
                  <a:pt x="67625" y="20200"/>
                </a:lnTo>
                <a:lnTo>
                  <a:pt x="67625" y="1400"/>
                </a:lnTo>
                <a:close/>
              </a:path>
              <a:path fill="darkenLess" w="69025" h="21600">
                <a:moveTo>
                  <a:pt x="690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625" y="20200"/>
                </a:lnTo>
                <a:close/>
              </a:path>
              <a:path fill="lighten" w="690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AutoShape 11"/>
          <p:cNvSpPr/>
          <p:nvPr/>
        </p:nvSpPr>
        <p:spPr>
          <a:xfrm>
            <a:off x="8532720" y="5445000"/>
            <a:ext cx="142920" cy="216000"/>
          </a:xfrm>
          <a:custGeom>
            <a:avLst/>
            <a:gdLst>
              <a:gd name="textAreaLeft" fmla="*/ 9000 w 142920"/>
              <a:gd name="textAreaRight" fmla="*/ 133920 w 142920"/>
              <a:gd name="textAreaTop" fmla="*/ 9000 h 216000"/>
              <a:gd name="textAreaBottom" fmla="*/ 207000 h 216000"/>
            </a:gdLst>
            <a:ahLst/>
            <a:rect l="textAreaLeft" t="textAreaTop" r="textAreaRight" b="textAreaBottom"/>
            <a:pathLst>
              <a:path w="21600" h="32617">
                <a:moveTo>
                  <a:pt x="0" y="0"/>
                </a:moveTo>
                <a:lnTo>
                  <a:pt x="21600" y="0"/>
                </a:lnTo>
                <a:lnTo>
                  <a:pt x="21600" y="32617"/>
                </a:lnTo>
                <a:lnTo>
                  <a:pt x="0" y="32617"/>
                </a:lnTo>
                <a:close/>
              </a:path>
              <a:path fill="lightenLess" w="21600" h="3261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617">
                <a:moveTo>
                  <a:pt x="21600" y="0"/>
                </a:moveTo>
                <a:lnTo>
                  <a:pt x="21600" y="32617"/>
                </a:lnTo>
                <a:lnTo>
                  <a:pt x="20200" y="31217"/>
                </a:lnTo>
                <a:lnTo>
                  <a:pt x="20200" y="1400"/>
                </a:lnTo>
                <a:close/>
              </a:path>
              <a:path fill="darkenLess" w="21600" h="32617">
                <a:moveTo>
                  <a:pt x="21600" y="32617"/>
                </a:moveTo>
                <a:lnTo>
                  <a:pt x="0" y="32617"/>
                </a:lnTo>
                <a:lnTo>
                  <a:pt x="1400" y="31217"/>
                </a:lnTo>
                <a:lnTo>
                  <a:pt x="20200" y="31217"/>
                </a:lnTo>
                <a:close/>
              </a:path>
              <a:path fill="lighten" w="21600" h="32617">
                <a:moveTo>
                  <a:pt x="0" y="32617"/>
                </a:moveTo>
                <a:lnTo>
                  <a:pt x="0" y="0"/>
                </a:lnTo>
                <a:lnTo>
                  <a:pt x="1400" y="1400"/>
                </a:lnTo>
                <a:lnTo>
                  <a:pt x="1400" y="31217"/>
                </a:lnTo>
                <a:close/>
              </a:path>
              <a:path fill="darken" w="21600" h="32617">
                <a:moveTo>
                  <a:pt x="3794" y="9302"/>
                </a:moveTo>
                <a:lnTo>
                  <a:pt x="17806" y="16309"/>
                </a:lnTo>
                <a:lnTo>
                  <a:pt x="3794" y="23315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3 Marcador de número de diapositiva"/>
          <p:cNvSpPr/>
          <p:nvPr/>
        </p:nvSpPr>
        <p:spPr>
          <a:xfrm>
            <a:off x="3483000" y="6237360"/>
            <a:ext cx="56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808080"/>
                </a:solidFill>
                <a:latin typeface="Times New Roman"/>
              </a:rPr>
              <a:t>Taller de Desarrollo de Habilidades Directiva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 Narrow"/>
              </a:rPr>
              <a:t>Motivos que apoyan la restricción del N° de Integrante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1280" y="1601280"/>
            <a:ext cx="80769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Arial Narrow"/>
              </a:rPr>
              <a:t>Se estima como máximo unas 25 personas (normalmente menores a diez integrantes)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Arial Narrow"/>
              </a:rPr>
              <a:t>Se fortalece la interactividad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Arial Narrow"/>
              </a:rPr>
              <a:t>Es más fácil establecer y explotar complementariedades.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Arial Narrow"/>
              </a:rPr>
              <a:t>Son más dinámicos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Arial Narrow"/>
              </a:rPr>
              <a:t>Facilidad de establecimiento de acuerdos.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Arial Narrow"/>
              </a:rPr>
              <a:t>Manejo de conflictos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Arial Narrow"/>
              </a:rPr>
              <a:t>Motivación más intensa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Arial Narrow"/>
              </a:rPr>
              <a:t>Mejor manejo de la logística (espacio, recursos, etc.)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19" name="AutoShape 4">
            <a:hlinkClick r:id="" action="ppaction://hlinkshowjump?jump=nextslide"/>
          </p:cNvPr>
          <p:cNvSpPr/>
          <p:nvPr/>
        </p:nvSpPr>
        <p:spPr>
          <a:xfrm>
            <a:off x="4788000" y="2160720"/>
            <a:ext cx="215640" cy="215640"/>
          </a:xfrm>
          <a:custGeom>
            <a:avLst/>
            <a:gdLst>
              <a:gd name="textAreaLeft" fmla="*/ 13680 w 215640"/>
              <a:gd name="textAreaRight" fmla="*/ 201960 w 21564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1600">
                <a:moveTo>
                  <a:pt x="108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1600">
                <a:moveTo>
                  <a:pt x="8224" y="8224"/>
                </a:moveTo>
                <a:lnTo>
                  <a:pt x="12088" y="8224"/>
                </a:lnTo>
                <a:lnTo>
                  <a:pt x="12088" y="15221"/>
                </a:lnTo>
                <a:lnTo>
                  <a:pt x="13376" y="15221"/>
                </a:lnTo>
                <a:lnTo>
                  <a:pt x="13376" y="16144"/>
                </a:lnTo>
                <a:lnTo>
                  <a:pt x="8224" y="16144"/>
                </a:lnTo>
                <a:lnTo>
                  <a:pt x="8224" y="15221"/>
                </a:lnTo>
                <a:lnTo>
                  <a:pt x="9512" y="15221"/>
                </a:lnTo>
                <a:lnTo>
                  <a:pt x="9512" y="9129"/>
                </a:lnTo>
                <a:lnTo>
                  <a:pt x="8224" y="9129"/>
                </a:lnTo>
                <a:close/>
              </a:path>
            </a:pathLst>
          </a:custGeom>
          <a:solidFill>
            <a:srgbClr val="ffff00">
              <a:alpha val="55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AutoShape 6"/>
          <p:cNvSpPr/>
          <p:nvPr/>
        </p:nvSpPr>
        <p:spPr>
          <a:xfrm>
            <a:off x="8532720" y="558972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3812" y="3794"/>
                </a:moveTo>
                <a:lnTo>
                  <a:pt x="17824" y="10800"/>
                </a:lnTo>
                <a:lnTo>
                  <a:pt x="3812" y="17806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4 Marcador de número de diapositiva"/>
          <p:cNvSpPr/>
          <p:nvPr/>
        </p:nvSpPr>
        <p:spPr>
          <a:xfrm>
            <a:off x="3483000" y="6237360"/>
            <a:ext cx="56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808080"/>
                </a:solidFill>
                <a:latin typeface="Times New Roman"/>
              </a:rPr>
              <a:t>Taller de Desarrollo de Habilidades Directiva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 Narrow"/>
              </a:rPr>
              <a:t>Anidamiento, generado por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39621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Objetivos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Aspectos geográficos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Comunidad de intereses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Dependencias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Competencias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Historia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Habilidades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pic>
        <p:nvPicPr>
          <p:cNvPr id="124" name="Picture 4" descr="EQUIPOS1"/>
          <p:cNvPicPr/>
          <p:nvPr/>
        </p:nvPicPr>
        <p:blipFill>
          <a:blip r:embed="rId1"/>
          <a:stretch/>
        </p:blipFill>
        <p:spPr>
          <a:xfrm>
            <a:off x="5002200" y="2448000"/>
            <a:ext cx="3962520" cy="2133360"/>
          </a:xfrm>
          <a:prstGeom prst="rect">
            <a:avLst/>
          </a:prstGeom>
          <a:ln w="0">
            <a:noFill/>
          </a:ln>
        </p:spPr>
      </p:pic>
      <p:sp>
        <p:nvSpPr>
          <p:cNvPr id="125" name="AutoShape 6">
            <a:hlinkClick r:id="" action="ppaction://hlinkshowjump?jump=previousslide"/>
          </p:cNvPr>
          <p:cNvSpPr/>
          <p:nvPr/>
        </p:nvSpPr>
        <p:spPr>
          <a:xfrm>
            <a:off x="8604360" y="5661000"/>
            <a:ext cx="215640" cy="216000"/>
          </a:xfrm>
          <a:custGeom>
            <a:avLst/>
            <a:gdLst>
              <a:gd name="textAreaLeft" fmla="*/ 13680 w 215640"/>
              <a:gd name="textAreaRight" fmla="*/ 201960 w 215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1600" h="21636">
                <a:moveTo>
                  <a:pt x="0" y="0"/>
                </a:moveTo>
                <a:lnTo>
                  <a:pt x="21600" y="0"/>
                </a:lnTo>
                <a:lnTo>
                  <a:pt x="21600" y="21636"/>
                </a:lnTo>
                <a:lnTo>
                  <a:pt x="0" y="21636"/>
                </a:lnTo>
                <a:close/>
              </a:path>
              <a:path fill="lightenLess" w="21600" h="216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36">
                <a:moveTo>
                  <a:pt x="21600" y="0"/>
                </a:moveTo>
                <a:lnTo>
                  <a:pt x="21600" y="21636"/>
                </a:lnTo>
                <a:lnTo>
                  <a:pt x="20200" y="20236"/>
                </a:lnTo>
                <a:lnTo>
                  <a:pt x="20200" y="1400"/>
                </a:lnTo>
                <a:close/>
              </a:path>
              <a:path fill="darkenLess" w="21600" h="21636">
                <a:moveTo>
                  <a:pt x="21600" y="21636"/>
                </a:moveTo>
                <a:lnTo>
                  <a:pt x="0" y="21636"/>
                </a:lnTo>
                <a:lnTo>
                  <a:pt x="1400" y="20236"/>
                </a:lnTo>
                <a:lnTo>
                  <a:pt x="20200" y="20236"/>
                </a:lnTo>
                <a:close/>
              </a:path>
              <a:path fill="lighten" w="21600" h="21636">
                <a:moveTo>
                  <a:pt x="0" y="216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36"/>
                </a:lnTo>
                <a:close/>
              </a:path>
              <a:path fill="darken" w="21600" h="21636">
                <a:moveTo>
                  <a:pt x="3794" y="10818"/>
                </a:moveTo>
                <a:lnTo>
                  <a:pt x="17806" y="3812"/>
                </a:lnTo>
                <a:lnTo>
                  <a:pt x="17806" y="17824"/>
                </a:lnTo>
                <a:close/>
              </a:path>
            </a:pathLst>
          </a:cu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3 Marcador de número de diapositiva"/>
          <p:cNvSpPr/>
          <p:nvPr/>
        </p:nvSpPr>
        <p:spPr>
          <a:xfrm>
            <a:off x="3483000" y="6237360"/>
            <a:ext cx="56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808080"/>
                </a:solidFill>
                <a:latin typeface="Times New Roman"/>
              </a:rPr>
              <a:t>Taller de Desarrollo de Habilidades Directiva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 Narrow"/>
              </a:rPr>
              <a:t>Preguntas para definir el tamaño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Arial Narrow"/>
              </a:rPr>
              <a:t>¿Pueden reunirse fácilmente y con frecuencia?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Arial Narrow"/>
              </a:rPr>
              <a:t>¿Puede comunicarse fácilmente con todos los miembros y con frecuencia?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Arial Narrow"/>
              </a:rPr>
              <a:t>¿Existen discusiones abiertas e interactivas entre todos los miembros?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Arial Narrow"/>
              </a:rPr>
              <a:t>¿Entiende cada uno de los miembros las funciones y habilidades de los demás?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Arial Narrow"/>
              </a:rPr>
              <a:t>¿Se necesita más gente para alcanzar los fines?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Arial Narrow"/>
              </a:rPr>
              <a:t>¿Es posible o necesario establecer subequipos?  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29" name="AutoShape 4"/>
          <p:cNvSpPr/>
          <p:nvPr/>
        </p:nvSpPr>
        <p:spPr>
          <a:xfrm>
            <a:off x="8675640" y="5516640"/>
            <a:ext cx="217440" cy="288720"/>
          </a:xfrm>
          <a:custGeom>
            <a:avLst/>
            <a:gdLst>
              <a:gd name="textAreaLeft" fmla="*/ 14040 w 217440"/>
              <a:gd name="textAreaRight" fmla="*/ 203400 w 217440"/>
              <a:gd name="textAreaTop" fmla="*/ 14040 h 288720"/>
              <a:gd name="textAreaBottom" fmla="*/ 274680 h 288720"/>
            </a:gdLst>
            <a:ahLst/>
            <a:rect l="textAreaLeft" t="textAreaTop" r="textAreaRight" b="textAreaBottom"/>
            <a:pathLst>
              <a:path w="21600" h="28669">
                <a:moveTo>
                  <a:pt x="0" y="0"/>
                </a:moveTo>
                <a:lnTo>
                  <a:pt x="21600" y="0"/>
                </a:lnTo>
                <a:lnTo>
                  <a:pt x="21600" y="28669"/>
                </a:lnTo>
                <a:lnTo>
                  <a:pt x="0" y="28669"/>
                </a:lnTo>
                <a:close/>
              </a:path>
              <a:path fill="lightenLess" w="21600" h="2866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669">
                <a:moveTo>
                  <a:pt x="21600" y="0"/>
                </a:moveTo>
                <a:lnTo>
                  <a:pt x="21600" y="28669"/>
                </a:lnTo>
                <a:lnTo>
                  <a:pt x="20200" y="27269"/>
                </a:lnTo>
                <a:lnTo>
                  <a:pt x="20200" y="1400"/>
                </a:lnTo>
                <a:close/>
              </a:path>
              <a:path fill="darkenLess" w="21600" h="28669">
                <a:moveTo>
                  <a:pt x="21600" y="28669"/>
                </a:moveTo>
                <a:lnTo>
                  <a:pt x="0" y="28669"/>
                </a:lnTo>
                <a:lnTo>
                  <a:pt x="1400" y="27269"/>
                </a:lnTo>
                <a:lnTo>
                  <a:pt x="20200" y="27269"/>
                </a:lnTo>
                <a:close/>
              </a:path>
              <a:path fill="lighten" w="21600" h="28669">
                <a:moveTo>
                  <a:pt x="0" y="28669"/>
                </a:moveTo>
                <a:lnTo>
                  <a:pt x="0" y="0"/>
                </a:lnTo>
                <a:lnTo>
                  <a:pt x="1400" y="1400"/>
                </a:lnTo>
                <a:lnTo>
                  <a:pt x="1400" y="27269"/>
                </a:lnTo>
                <a:close/>
              </a:path>
              <a:path fill="darken" w="21600" h="28669">
                <a:moveTo>
                  <a:pt x="3794" y="14335"/>
                </a:moveTo>
                <a:lnTo>
                  <a:pt x="17806" y="7328"/>
                </a:lnTo>
                <a:lnTo>
                  <a:pt x="17806" y="21341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8T13:10:07Z</dcterms:created>
  <dc:creator>mmonsalves</dc:creator>
  <dc:description/>
  <dc:language>en-US</dc:language>
  <cp:lastModifiedBy>ALVARO SILVA MADRID</cp:lastModifiedBy>
  <dcterms:modified xsi:type="dcterms:W3CDTF">2009-09-17T16:04:37Z</dcterms:modified>
  <cp:revision>163</cp:revision>
  <dc:subject/>
  <dc:title>C</dc:title>
</cp:coreProperties>
</file>