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5477-58D0-40B7-B02A-142210F21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70D2-9D85-4245-AB2D-AAADD38DF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7257-6E3F-423B-A546-BD6ED2C2A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EEC1-44C9-4DD8-A698-B2C69B075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0AACE-47E1-43E7-89D9-9B250548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BDFA5-0F07-4EEC-A351-8FEB6266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7F48C-E617-4273-975F-050E3388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C2E74-2C6B-4595-A34D-5E1F7DC6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9BCD6-E3F4-4B61-92C8-A2B2AF01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1AB58-FD3A-430E-BEAF-50967397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75686-FE8C-4585-94F3-4526429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ED3C-7DCF-44AE-8DBB-C37C27115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589DF-3BDA-4FBD-8715-ECF746A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B67F9-99DB-43AE-9D8B-780DB92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42F01-17BB-41AB-9E67-CEBC1B2F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CC0B6-F1CD-4E71-B954-5A6A7614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49A04-1C98-460B-91EC-0AEBB88B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27AA-EC65-410F-9FA1-DBA769727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458B-F7C0-4CCD-864E-6D0A3B5EE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809D-D0D5-4464-8557-B0DFE03BF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2AE2-FB60-4209-96B6-6AD4FB4C5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EE79-9F90-4E66-AE88-7C1C34E41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255E-D042-4106-8481-5A72744E5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1683-CA93-4EF2-8072-A80F8DB3C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Line 15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16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482640" y="6237000"/>
            <a:ext cx="56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22" descr="pic1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9EDE-CDCB-4767-AB21-E832AEF5475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RABAJO EN EQUIP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Habilidades Complementari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xperiencia Técnica o Fun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abilidades en Resolución de Problemas y Tomas de Decis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abilidades interpersonales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ítica constructiv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municación efectiv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olución de conflictos constructiv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Objetividad de análisi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Apoyo a intereses y logros de los otr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Asumir riesgos y responsabilidad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Planteamiento razonable de duda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s equipos mismos impulsan el desarrollo de habilidades en sus integrantes. Desarrollo de la capacidad de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 las habilidades complementari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530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Están presentes entre los miembros al menos estas tres categorías de habilidades reales o potenciales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Funcionale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écnica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De resolución de problemas y toma de decisione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Interpersonale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Tiene cada miembro el potencial suficiente en cada una de las tres categorías, para progresar en sus habilidades hasta el nivel requerido por el propósito y los objetivos del equipo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Existen carencias o baja presencia en alguna de las habilidades críticas para el rendimiento del equipo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Están los miembros individual o colectivamente dispuestos a emplear tiempo para ayudarse a si mismos y a los demás en el aprendizaje y desarrollo de habilidades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ueden introducirse habilidades nuevas o suplementarias a medida que sea necesario?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8604360" y="5589720"/>
            <a:ext cx="144360" cy="21564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215640"/>
              <a:gd name="textAreaBottom" fmla="*/ 206280 h 215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3794" y="16119"/>
                </a:moveTo>
                <a:lnTo>
                  <a:pt x="17806" y="9113"/>
                </a:lnTo>
                <a:lnTo>
                  <a:pt x="17806" y="2312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mpromiso con un Objetivo Comú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601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elación del objetivo particular del grupo con el objetivo gener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del equipo debe derivar de la meta general, pero en este deben participar activamente cada uno de los integrant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 anterior genera orgullo, pertenencia y responsa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del grupo debe ser alcanzable y tener significado real para cada uno de sus integrant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e propósito debe poder traducirse en objetivos específicos y accion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debe ser permanentemente observado y cuidado en su alcance, realizabilidad, concre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genera identidad en los integrant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rgas reuniones son señal de objetivos difus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l Propósito y Significad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672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Constituye una aspiración amplia y profunda, más que objetivos de corto plaz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trata de un propósito de equipo, en oposición a un propósito organizativo más amplio o individual (del líder por ejemplo)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Lo entienden todos los miembros de la misma manera? ¿Lo hacen sin derivar en abstracciones ambigua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 defienden los miembros con energía ante tercer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refieren a el frecuentemente los miembros y exploran sus implicacione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Contiene temas que tengan un significado particular y fácil de recordar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ienten los miembros que es importante, si no excitante?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532720" y="5589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tas de Rendimient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ben formar parte de los Objetivos General y Específic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ben ser mensurables y claramente especificadas en términos de tiempo, resultados, responsables, evolución, etc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impacto en el resultado fi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ben ser revisados y ajustados periódicament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metas deben ser tales que permitan alcanzarlas a través de éxitos parciales (acrecienta el compromiso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 saludable mantener un nivel controlado de tensión y temor al fracas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s objetivos específicos movilizan, el gran objetivo motiv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 Objetiv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trata de objetivos del equipo, frente a objetivos organizativos más amplios o individuales (del líder)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on claros simples y medibles? Si no son medibles, ¿se puede determinar el nivel alcanzad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on realistas y ambiciosos? ¿Permiten pequeñas victorias a medida que se avanza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Requieren un conjunto concreto de productos de trabajo del equip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Tienen claro todos los integrantes la importancia relativa y las prioridades?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Están de acuerdo todos los miembros con los objetivos, su importancia relativa y la forma de medirl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Todos los miembros articulan los objetivos de la misma forma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53272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Enfoq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 trata de establecer la forma del trabajo conjunto para alcanzar el propósito comú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Al igual que en la construcción de las metas específicas, la forma de efectuar el trabajo conjunto debe ser colectiv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da miembro del equipo debería realizar “dosis equivalentes” de trabaj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ste enfoque debe considerar las diferencias individuales y mediciones de avance y rendimient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“Comité de Medición de Avances” no será parte del equipo sis sus integrantes no están también involucrados en tareas específic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 gran importancia es establecer los roles de motivación, aspectos éticos, revisión de avances, corrección de rumbo, los que no necesariamente deben recaer en un solo líd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s aptitudes individuales no son normalmente visibles al inicio de la vida del equipo sino van surgiendo como fruto de las sucesivas revisiones de enfoque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l Enfoq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30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Es el enfoque concreto, claro, se entiende realmente y tiene el acuerdo de todos? ¿Contribuirá a alcanzar los objetiv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Capitalizará y mejorará las habilidades de todos los miembros? ¿Es coherente con otras necesidades de los miembr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Impone que todos los miembros contribuyan con cantidades equivalentes de trabaj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Proporciona oportunidades de interacción abierta, resolución de problemas, resolución de problemas basados en hechos y evaluación en función de resultad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rticulan todos los miembros el enfoque de la misma forma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ibilita la modificación y las mejoras a través del tiemp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buscan nuevos datos y perspectivas sistemáticamente y se considera el aporte de los nuevos miembros y/o patrocinadores?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532720" y="5516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esponsabilidad Mutu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racteriza el trabajo en equi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presentan la promesa sincera de cada miembro para si mismo y los otros, sobre los factores Compromiso y Confianz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rse personalmente responsable de los objetivos del equipo, hace a sus miembros acreedores a expresar sus particulares puntos de vista sobre el desempeño del equipo y ser escuchados en forma honrada y constructiv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seguimiento de estas promesas preserva la confianza básica para que el equipo se constituya como t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construcción de la confianza es uno de los aspectos más delicados en la formación del equi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confianza real surgirá como fruto del desarrollo del propósito del equipo y del trabajo conjunt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responsabilidad pone una prueba “acida” a la calidad del propósito y enfoque del equi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 la Responsabilidad Mutu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01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sienten todos, individual y colectivamente, responsables del propósito del equipo, los objetivos, el enfoque y los productos de trabaj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puede medir el progreso ante objetivos específicos, y se lleva a cab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sienten todos los miembros responsables de todas las mediciones y sus resultad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Tienen claro todos los miembros sus responsabilidades individuales y las compartida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Existe un sentimiento de que “solo el equipo puede fallar?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8459640" y="537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iscus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Qué constituye un Equip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Tiene el grupo un tamaño suficientemente reducid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Tienen sus integrantes las suficientes habilidades complementaria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Tiene el grupo un propósito amplio y con significado al que todos los miembros aspiran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xiste un conjunto específico de objetivos de rendimiento acordados por todo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Se entiende y comparte el enfoque de trabaj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xiste una responsabilidad individual y mutuamente compartida sobre los resultados del grup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1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Picture 4" descr="castellers4"/>
          <p:cNvPicPr/>
          <p:nvPr/>
        </p:nvPicPr>
        <p:blipFill>
          <a:blip r:embed="rId1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6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¿Qué escena representa mejor el trabajo en Equip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319560" cy="213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200442291-003"/>
          <p:cNvPicPr/>
          <p:nvPr/>
        </p:nvPicPr>
        <p:blipFill>
          <a:blip r:embed="rId2"/>
          <a:stretch/>
        </p:blipFill>
        <p:spPr>
          <a:xfrm>
            <a:off x="4356000" y="371628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53373368"/>
          <p:cNvPicPr/>
          <p:nvPr/>
        </p:nvPicPr>
        <p:blipFill>
          <a:blip r:embed="rId3"/>
          <a:stretch/>
        </p:blipFill>
        <p:spPr>
          <a:xfrm>
            <a:off x="755640" y="3699000"/>
            <a:ext cx="2124000" cy="213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eq1"/>
          <p:cNvPicPr/>
          <p:nvPr/>
        </p:nvPicPr>
        <p:blipFill>
          <a:blip r:embed="rId4"/>
          <a:stretch/>
        </p:blipFill>
        <p:spPr>
          <a:xfrm>
            <a:off x="2916360" y="369900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5977-000652"/>
          <p:cNvPicPr/>
          <p:nvPr/>
        </p:nvPicPr>
        <p:blipFill>
          <a:blip r:embed="rId5"/>
          <a:stretch/>
        </p:blipFill>
        <p:spPr>
          <a:xfrm>
            <a:off x="7315200" y="3716280"/>
            <a:ext cx="164952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castellers4"/>
          <p:cNvPicPr/>
          <p:nvPr/>
        </p:nvPicPr>
        <p:blipFill>
          <a:blip r:embed="rId6"/>
          <a:stretch/>
        </p:blipFill>
        <p:spPr>
          <a:xfrm>
            <a:off x="4214880" y="1413000"/>
            <a:ext cx="158112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56980768"/>
          <p:cNvPicPr/>
          <p:nvPr/>
        </p:nvPicPr>
        <p:blipFill>
          <a:blip r:embed="rId7"/>
          <a:stretch/>
        </p:blipFill>
        <p:spPr>
          <a:xfrm>
            <a:off x="5862600" y="1452600"/>
            <a:ext cx="31021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And the Winner Is…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Picture 4" descr="castellers4"/>
          <p:cNvPicPr/>
          <p:nvPr/>
        </p:nvPicPr>
        <p:blipFill>
          <a:blip r:embed="rId1"/>
          <a:stretch/>
        </p:blipFill>
        <p:spPr>
          <a:xfrm>
            <a:off x="2651040" y="1413000"/>
            <a:ext cx="36496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4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mponentes Esenciales de un Equip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104" name="Picture 27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408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finición de Equip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Un equipo es u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número restringido de personas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 co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habilidades complementarias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, comprometido con u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propósito común, objetivos de rendimiento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 y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enfoque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, del que se considera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mutuamente responsables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.”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3276720" y="2637000"/>
            <a:ext cx="4464000" cy="215640"/>
          </a:xfrm>
          <a:custGeom>
            <a:avLst/>
            <a:gdLst>
              <a:gd name="textAreaLeft" fmla="*/ 13680 w 4464000"/>
              <a:gd name="textAreaRight" fmla="*/ 4450320 w 4464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46436" h="21600">
                <a:moveTo>
                  <a:pt x="0" y="0"/>
                </a:moveTo>
                <a:lnTo>
                  <a:pt x="446436" y="0"/>
                </a:lnTo>
                <a:lnTo>
                  <a:pt x="446436" y="21600"/>
                </a:lnTo>
                <a:lnTo>
                  <a:pt x="0" y="21600"/>
                </a:lnTo>
                <a:close/>
              </a:path>
              <a:path fill="lightenLess" w="446436" h="21600">
                <a:moveTo>
                  <a:pt x="0" y="0"/>
                </a:moveTo>
                <a:lnTo>
                  <a:pt x="446436" y="0"/>
                </a:lnTo>
                <a:lnTo>
                  <a:pt x="445036" y="1400"/>
                </a:lnTo>
                <a:lnTo>
                  <a:pt x="1400" y="1400"/>
                </a:lnTo>
                <a:close/>
              </a:path>
              <a:path fill="darken" w="446436" h="21600">
                <a:moveTo>
                  <a:pt x="446436" y="0"/>
                </a:moveTo>
                <a:lnTo>
                  <a:pt x="446436" y="21600"/>
                </a:lnTo>
                <a:lnTo>
                  <a:pt x="445036" y="20200"/>
                </a:lnTo>
                <a:lnTo>
                  <a:pt x="445036" y="1400"/>
                </a:lnTo>
                <a:close/>
              </a:path>
              <a:path fill="darkenLess" w="446436" h="21600">
                <a:moveTo>
                  <a:pt x="44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36" y="20200"/>
                </a:lnTo>
                <a:close/>
              </a:path>
              <a:path fill="lighten" w="44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AutoShape 5">
            <a:hlinkClick r:id="rId2" action="ppaction://hlinksldjump"/>
          </p:cNvPr>
          <p:cNvSpPr/>
          <p:nvPr/>
        </p:nvSpPr>
        <p:spPr>
          <a:xfrm>
            <a:off x="1258920" y="2997360"/>
            <a:ext cx="4176720" cy="287280"/>
          </a:xfrm>
          <a:custGeom>
            <a:avLst/>
            <a:gdLst>
              <a:gd name="textAreaLeft" fmla="*/ 18360 w 4176720"/>
              <a:gd name="textAreaRight" fmla="*/ 4158360 w 4176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13673" h="21600">
                <a:moveTo>
                  <a:pt x="0" y="0"/>
                </a:moveTo>
                <a:lnTo>
                  <a:pt x="313673" y="0"/>
                </a:lnTo>
                <a:lnTo>
                  <a:pt x="313673" y="21600"/>
                </a:lnTo>
                <a:lnTo>
                  <a:pt x="0" y="21600"/>
                </a:lnTo>
                <a:close/>
              </a:path>
              <a:path fill="lightenLess" w="313673" h="21600">
                <a:moveTo>
                  <a:pt x="0" y="0"/>
                </a:moveTo>
                <a:lnTo>
                  <a:pt x="313673" y="0"/>
                </a:lnTo>
                <a:lnTo>
                  <a:pt x="312273" y="1400"/>
                </a:lnTo>
                <a:lnTo>
                  <a:pt x="1400" y="1400"/>
                </a:lnTo>
                <a:close/>
              </a:path>
              <a:path fill="darken" w="313673" h="21600">
                <a:moveTo>
                  <a:pt x="313673" y="0"/>
                </a:moveTo>
                <a:lnTo>
                  <a:pt x="313673" y="21600"/>
                </a:lnTo>
                <a:lnTo>
                  <a:pt x="312273" y="20200"/>
                </a:lnTo>
                <a:lnTo>
                  <a:pt x="312273" y="1400"/>
                </a:lnTo>
                <a:close/>
              </a:path>
              <a:path fill="darkenLess" w="313673" h="21600">
                <a:moveTo>
                  <a:pt x="313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73" y="20200"/>
                </a:lnTo>
                <a:close/>
              </a:path>
              <a:path fill="lighten" w="313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AutoShape 6">
            <a:hlinkClick r:id="rId3" action="ppaction://hlinksldjump"/>
          </p:cNvPr>
          <p:cNvSpPr/>
          <p:nvPr/>
        </p:nvSpPr>
        <p:spPr>
          <a:xfrm>
            <a:off x="1116000" y="3500280"/>
            <a:ext cx="2376360" cy="216000"/>
          </a:xfrm>
          <a:custGeom>
            <a:avLst/>
            <a:gdLst>
              <a:gd name="textAreaLeft" fmla="*/ 13680 w 2376360"/>
              <a:gd name="textAreaRight" fmla="*/ 2362680 w 23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277" h="21600">
                <a:moveTo>
                  <a:pt x="0" y="0"/>
                </a:moveTo>
                <a:lnTo>
                  <a:pt x="237277" y="0"/>
                </a:lnTo>
                <a:lnTo>
                  <a:pt x="237277" y="21600"/>
                </a:lnTo>
                <a:lnTo>
                  <a:pt x="0" y="21600"/>
                </a:lnTo>
                <a:close/>
              </a:path>
              <a:path fill="lightenLess" w="237277" h="21600">
                <a:moveTo>
                  <a:pt x="0" y="0"/>
                </a:moveTo>
                <a:lnTo>
                  <a:pt x="237277" y="0"/>
                </a:lnTo>
                <a:lnTo>
                  <a:pt x="235877" y="1400"/>
                </a:lnTo>
                <a:lnTo>
                  <a:pt x="1400" y="1400"/>
                </a:lnTo>
                <a:close/>
              </a:path>
              <a:path fill="darken" w="237277" h="21600">
                <a:moveTo>
                  <a:pt x="237277" y="0"/>
                </a:moveTo>
                <a:lnTo>
                  <a:pt x="237277" y="21600"/>
                </a:lnTo>
                <a:lnTo>
                  <a:pt x="235877" y="20200"/>
                </a:lnTo>
                <a:lnTo>
                  <a:pt x="235877" y="1400"/>
                </a:lnTo>
                <a:close/>
              </a:path>
              <a:path fill="darkenLess" w="237277" h="21600">
                <a:moveTo>
                  <a:pt x="23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77" y="20200"/>
                </a:lnTo>
                <a:close/>
              </a:path>
              <a:path fill="lighten" w="23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AutoShape 7">
            <a:hlinkClick r:id="" action="ppaction://hlinkshowjump?jump=nextslide"/>
          </p:cNvPr>
          <p:cNvSpPr/>
          <p:nvPr/>
        </p:nvSpPr>
        <p:spPr>
          <a:xfrm>
            <a:off x="7380360" y="3429000"/>
            <a:ext cx="1152360" cy="287280"/>
          </a:xfrm>
          <a:custGeom>
            <a:avLst/>
            <a:gdLst>
              <a:gd name="textAreaLeft" fmla="*/ 18360 w 1152360"/>
              <a:gd name="textAreaRight" fmla="*/ 1134000 w 115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562" h="21600">
                <a:moveTo>
                  <a:pt x="0" y="0"/>
                </a:moveTo>
                <a:lnTo>
                  <a:pt x="86562" y="0"/>
                </a:lnTo>
                <a:lnTo>
                  <a:pt x="86562" y="21600"/>
                </a:lnTo>
                <a:lnTo>
                  <a:pt x="0" y="21600"/>
                </a:lnTo>
                <a:close/>
              </a:path>
              <a:path fill="lightenLess" w="86562" h="21600">
                <a:moveTo>
                  <a:pt x="0" y="0"/>
                </a:moveTo>
                <a:lnTo>
                  <a:pt x="86562" y="0"/>
                </a:lnTo>
                <a:lnTo>
                  <a:pt x="85162" y="1400"/>
                </a:lnTo>
                <a:lnTo>
                  <a:pt x="1400" y="1400"/>
                </a:lnTo>
                <a:close/>
              </a:path>
              <a:path fill="darken" w="86562" h="21600">
                <a:moveTo>
                  <a:pt x="86562" y="0"/>
                </a:moveTo>
                <a:lnTo>
                  <a:pt x="86562" y="21600"/>
                </a:lnTo>
                <a:lnTo>
                  <a:pt x="85162" y="20200"/>
                </a:lnTo>
                <a:lnTo>
                  <a:pt x="85162" y="1400"/>
                </a:lnTo>
                <a:close/>
              </a:path>
              <a:path fill="darkenLess" w="86562" h="21600">
                <a:moveTo>
                  <a:pt x="86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62" y="20200"/>
                </a:lnTo>
                <a:close/>
              </a:path>
              <a:path fill="lighten" w="86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AutoShape 8">
            <a:hlinkClick r:id="rId4" action="ppaction://hlinksldjump"/>
          </p:cNvPr>
          <p:cNvSpPr/>
          <p:nvPr/>
        </p:nvSpPr>
        <p:spPr>
          <a:xfrm>
            <a:off x="4356000" y="3933720"/>
            <a:ext cx="3745080" cy="216000"/>
          </a:xfrm>
          <a:custGeom>
            <a:avLst/>
            <a:gdLst>
              <a:gd name="textAreaLeft" fmla="*/ 13680 w 3745080"/>
              <a:gd name="textAreaRight" fmla="*/ 3731400 w 3745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73921" h="21600">
                <a:moveTo>
                  <a:pt x="0" y="0"/>
                </a:moveTo>
                <a:lnTo>
                  <a:pt x="373921" y="0"/>
                </a:lnTo>
                <a:lnTo>
                  <a:pt x="373921" y="21600"/>
                </a:lnTo>
                <a:lnTo>
                  <a:pt x="0" y="21600"/>
                </a:lnTo>
                <a:close/>
              </a:path>
              <a:path fill="lightenLess" w="373921" h="21600">
                <a:moveTo>
                  <a:pt x="0" y="0"/>
                </a:moveTo>
                <a:lnTo>
                  <a:pt x="373921" y="0"/>
                </a:lnTo>
                <a:lnTo>
                  <a:pt x="372521" y="1400"/>
                </a:lnTo>
                <a:lnTo>
                  <a:pt x="1400" y="1400"/>
                </a:lnTo>
                <a:close/>
              </a:path>
              <a:path fill="darken" w="373921" h="21600">
                <a:moveTo>
                  <a:pt x="373921" y="0"/>
                </a:moveTo>
                <a:lnTo>
                  <a:pt x="373921" y="21600"/>
                </a:lnTo>
                <a:lnTo>
                  <a:pt x="372521" y="20200"/>
                </a:lnTo>
                <a:lnTo>
                  <a:pt x="372521" y="1400"/>
                </a:lnTo>
                <a:close/>
              </a:path>
              <a:path fill="darkenLess" w="373921" h="21600">
                <a:moveTo>
                  <a:pt x="373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521" y="20200"/>
                </a:lnTo>
                <a:close/>
              </a:path>
              <a:path fill="lighten" w="373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64000" y="3429000"/>
            <a:ext cx="3529080" cy="287280"/>
          </a:xfrm>
          <a:custGeom>
            <a:avLst/>
            <a:gdLst>
              <a:gd name="textAreaLeft" fmla="*/ 18360 w 3529080"/>
              <a:gd name="textAreaRight" fmla="*/ 3510720 w 352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5039" h="21600">
                <a:moveTo>
                  <a:pt x="0" y="0"/>
                </a:moveTo>
                <a:lnTo>
                  <a:pt x="265039" y="0"/>
                </a:lnTo>
                <a:lnTo>
                  <a:pt x="265039" y="21600"/>
                </a:lnTo>
                <a:lnTo>
                  <a:pt x="0" y="21600"/>
                </a:lnTo>
                <a:close/>
              </a:path>
              <a:path fill="lightenLess" w="265039" h="21600">
                <a:moveTo>
                  <a:pt x="0" y="0"/>
                </a:moveTo>
                <a:lnTo>
                  <a:pt x="265039" y="0"/>
                </a:lnTo>
                <a:lnTo>
                  <a:pt x="263639" y="1400"/>
                </a:lnTo>
                <a:lnTo>
                  <a:pt x="1400" y="1400"/>
                </a:lnTo>
                <a:close/>
              </a:path>
              <a:path fill="darken" w="265039" h="21600">
                <a:moveTo>
                  <a:pt x="265039" y="0"/>
                </a:moveTo>
                <a:lnTo>
                  <a:pt x="265039" y="21600"/>
                </a:lnTo>
                <a:lnTo>
                  <a:pt x="263639" y="20200"/>
                </a:lnTo>
                <a:lnTo>
                  <a:pt x="263639" y="1400"/>
                </a:lnTo>
                <a:close/>
              </a:path>
              <a:path fill="darkenLess" w="265039" h="21600">
                <a:moveTo>
                  <a:pt x="26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39" y="20200"/>
                </a:lnTo>
                <a:close/>
              </a:path>
              <a:path fill="lighten" w="26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380360" y="3429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8532720" y="5445000"/>
            <a:ext cx="142920" cy="2160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6000"/>
              <a:gd name="textAreaBottom" fmla="*/ 207000 h 216000"/>
            </a:gdLst>
            <a:ahLst/>
            <a:rect l="textAreaLeft" t="textAreaTop" r="textAreaRight" b="textAreaBottom"/>
            <a:pathLst>
              <a:path w="21600" h="32617">
                <a:moveTo>
                  <a:pt x="0" y="0"/>
                </a:moveTo>
                <a:lnTo>
                  <a:pt x="21600" y="0"/>
                </a:lnTo>
                <a:lnTo>
                  <a:pt x="21600" y="32617"/>
                </a:lnTo>
                <a:lnTo>
                  <a:pt x="0" y="32617"/>
                </a:lnTo>
                <a:close/>
              </a:path>
              <a:path fill="lightenLess" w="21600" h="326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617">
                <a:moveTo>
                  <a:pt x="21600" y="0"/>
                </a:moveTo>
                <a:lnTo>
                  <a:pt x="21600" y="32617"/>
                </a:lnTo>
                <a:lnTo>
                  <a:pt x="20200" y="31217"/>
                </a:lnTo>
                <a:lnTo>
                  <a:pt x="20200" y="1400"/>
                </a:lnTo>
                <a:close/>
              </a:path>
              <a:path fill="darkenLess" w="21600" h="32617">
                <a:moveTo>
                  <a:pt x="21600" y="32617"/>
                </a:moveTo>
                <a:lnTo>
                  <a:pt x="0" y="32617"/>
                </a:lnTo>
                <a:lnTo>
                  <a:pt x="1400" y="31217"/>
                </a:lnTo>
                <a:lnTo>
                  <a:pt x="20200" y="31217"/>
                </a:lnTo>
                <a:close/>
              </a:path>
              <a:path fill="lighten" w="21600" h="32617">
                <a:moveTo>
                  <a:pt x="0" y="326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217"/>
                </a:lnTo>
                <a:close/>
              </a:path>
              <a:path fill="darken" w="21600" h="32617">
                <a:moveTo>
                  <a:pt x="3794" y="9302"/>
                </a:moveTo>
                <a:lnTo>
                  <a:pt x="17806" y="16309"/>
                </a:lnTo>
                <a:lnTo>
                  <a:pt x="3794" y="2331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otivos que apoyan la restricción del N° de Integran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601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Se estima como máximo unas 25 personas (normalmente menores a diez integrantes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Se fortalece la interactividad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s más fácil establecer y explotar complementariedade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Son más dinámico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Facilidad de establecimiento de acuerdo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anejo de conflicto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ción más intensa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ejor manejo de la logística (espacio, recursos, etc.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4788000" y="216072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ff00">
              <a:alpha val="55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853272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4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Anidamiento, generado p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jetivo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spectos geográfico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unidad de interese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pendenci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etenci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istoria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abilidade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124" name="Picture 4" descr="EQUIPOS1"/>
          <p:cNvPicPr/>
          <p:nvPr/>
        </p:nvPicPr>
        <p:blipFill>
          <a:blip r:embed="rId1"/>
          <a:stretch/>
        </p:blipFill>
        <p:spPr>
          <a:xfrm>
            <a:off x="5002200" y="2448000"/>
            <a:ext cx="3962520" cy="2133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>
            <a:hlinkClick r:id="" action="ppaction://hlinkshowjump?jump=previousslide"/>
          </p:cNvPr>
          <p:cNvSpPr/>
          <p:nvPr/>
        </p:nvSpPr>
        <p:spPr>
          <a:xfrm>
            <a:off x="8604360" y="5661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para definir el tamañ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Pueden reunirse fácilmente y con frecuencia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Puede comunicarse fácilmente con todos los miembros y con frecuencia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xisten discusiones abiertas e interactivas entre todos los miembro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ntiende cada uno de los miembros las funciones y habilidades de los demá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Se necesita más gente para alcanzar los fine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s posible o necesario establecer subequipos? 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675640" y="5516640"/>
            <a:ext cx="217440" cy="28872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8669">
                <a:moveTo>
                  <a:pt x="0" y="0"/>
                </a:moveTo>
                <a:lnTo>
                  <a:pt x="21600" y="0"/>
                </a:lnTo>
                <a:lnTo>
                  <a:pt x="21600" y="28669"/>
                </a:lnTo>
                <a:lnTo>
                  <a:pt x="0" y="28669"/>
                </a:lnTo>
                <a:close/>
              </a:path>
              <a:path fill="lightenLess" w="21600" h="28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9">
                <a:moveTo>
                  <a:pt x="21600" y="0"/>
                </a:moveTo>
                <a:lnTo>
                  <a:pt x="21600" y="28669"/>
                </a:lnTo>
                <a:lnTo>
                  <a:pt x="20200" y="27269"/>
                </a:lnTo>
                <a:lnTo>
                  <a:pt x="20200" y="1400"/>
                </a:lnTo>
                <a:close/>
              </a:path>
              <a:path fill="darkenLess" w="21600" h="28669">
                <a:moveTo>
                  <a:pt x="21600" y="28669"/>
                </a:moveTo>
                <a:lnTo>
                  <a:pt x="0" y="28669"/>
                </a:lnTo>
                <a:lnTo>
                  <a:pt x="1400" y="27269"/>
                </a:lnTo>
                <a:lnTo>
                  <a:pt x="20200" y="27269"/>
                </a:lnTo>
                <a:close/>
              </a:path>
              <a:path fill="lighten" w="21600" h="28669">
                <a:moveTo>
                  <a:pt x="0" y="28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9"/>
                </a:lnTo>
                <a:close/>
              </a:path>
              <a:path fill="darken" w="21600" h="28669">
                <a:moveTo>
                  <a:pt x="3794" y="14335"/>
                </a:moveTo>
                <a:lnTo>
                  <a:pt x="17806" y="7328"/>
                </a:lnTo>
                <a:lnTo>
                  <a:pt x="17806" y="21341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9-09-17T16:04:37Z</dcterms:modified>
  <cp:revision>163</cp:revision>
  <dc:subject/>
  <dc:title>C</dc:title>
</cp:coreProperties>
</file>