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A08-BD32-4EF6-9F5B-7D8F85C7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4A2-1BE0-4285-91CC-475A5F72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9DE-A7EC-40FE-96B7-7699072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7CF-73D4-4666-839B-562A44F2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5B5-1EBF-4234-A146-FCB6C984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DB3-47E6-4ACC-A5B7-56761A80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BBC-2028-474D-8D65-4DD05504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2B2-511F-4FEE-A128-8428EF53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3B8-8156-43EA-A7D9-F6CF65F0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4ED-C5F1-4255-B381-DB001C54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F6D-DE51-46F9-8B26-FFED3EA3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9EF-340F-4F8E-A06B-C4C90ABA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BA11-7C25-45DE-8DF4-CFF5FFFCE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53A Taller de Proyecto en Control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riterios de Diseño de Automatización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Sistema de Control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Especificación de instrumentación suministrada con equipos mecá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equip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instrumentos (asignación de Tags, norma ISA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dentificación de cable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 definen unidades de medid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instrumentos a utilizar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Modos de operación (Local/Remoto, Manual/automático/Mantención, etc.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t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Normas y políticas a uti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o de Diseño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LCANCE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ONDICIONES GENERALES, CODIGOS Y NORM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FINICIONES E IDENTIFIC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RUMENTAC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CONDICIONAMIENTO DE SAL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INSTALACIONES DE TERREN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8.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SEÑALES Y UNIDADES DE MEDI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052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osofía de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645000"/>
            <a:ext cx="8064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 ALCANCE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 DESCRIPCION DEL CONTROL  DE  LA  PLANTA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 ESTRUCTURA DEL SISTEM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 CRITERIOS DE OPERAC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314172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84464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Tipos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nclavamiento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álculos de variables indirectas, índices de desempeño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ango de variables y niveles de ala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256536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cc"/>
                </a:solidFill>
                <a:latin typeface="Times New Roman"/>
              </a:rPr>
              <a:t>Objetivos, alcance del suministro, normas generales de diseño y construcción, inspección y pruebas, garantías técnicas, documentos y planos, condiciones de embalaje e información requerida en l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del 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0 SCOPE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0 DESIGN REQUIREMENT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0 SYSTEM TECHNICAL DESCRIPTION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0 PROCESS CONTROL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0 CONTROL SYSTEM COMMUNIC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.0 OPERATOR AND ENGINEERING WORK STATION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0 CABINETS AND CONSOL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.0 WIRING AND CABL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.0 CONFIGURATION AND PROGRAMM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0.0 QUALITY ASSURANCE, INSPECTION AND TESTING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1.0 SHIPPING AN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pecificación Instrumentació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ministrada con equipos mecá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502080"/>
            <a:ext cx="80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1.0 GENERAL (identification, norms, nemas, documentation, etc)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2.0 TECHNICAL REQUIREMENT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3.0 PLC BASED SYSTEM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4.0 CONTROL PANEL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5.0 DOCUMENT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6.0  CALIBRATION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7.0  INSTRUMENT LOOP/SYSTEM FUNCTIONAL CHECK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ppendix C: INSTRUMENT PREFERENTIAL BRAND LIS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ros Documentos de 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Estimación de costos (cubicaciones)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preliminar de equip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de instrumentos preliminar. 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Listado I/O preliminar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stado de Entrada/Salida (I/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1414440"/>
            <a:ext cx="8875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4581360"/>
            <a:ext cx="136836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800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052640"/>
            <a:ext cx="511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Visitas a Terreno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Supervisión/coordinación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Programación y Avan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112392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5400" y="10810"/>
                  <a:pt x="0" y="10810"/>
                </a:cubicBezTo>
                <a:cubicBezTo>
                  <a:pt x="54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1197000"/>
            <a:ext cx="60847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Criterios de Diseño de Automatización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Filosofía de Control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Especificación Sistema de Control •Especificación de instrumentación •Estimación de costos (cubicaciones)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preliminar de equip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quipos y material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especificaciones técnicas y plan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de instrumentos preliminar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istado I/O prelimi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125360"/>
            <a:ext cx="215640" cy="489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932"/>
                </a:lnTo>
                <a:cubicBezTo>
                  <a:pt x="10800" y="10832"/>
                  <a:pt x="5400" y="11732"/>
                  <a:pt x="0" y="11732"/>
                </a:cubicBezTo>
                <a:cubicBezTo>
                  <a:pt x="5400" y="11732"/>
                  <a:pt x="10800" y="12632"/>
                  <a:pt x="10800" y="1353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1197000"/>
            <a:ext cx="4321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ctividade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Documento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Pl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508640"/>
            <a:ext cx="601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Arquitectura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yout del sistema de control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P&amp;ID’s instrumentad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sposición de salas de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4797360"/>
            <a:ext cx="215640" cy="1511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41"/>
                </a:lnTo>
                <a:cubicBezTo>
                  <a:pt x="10800" y="9741"/>
                  <a:pt x="5400" y="10641"/>
                  <a:pt x="0" y="10641"/>
                </a:cubicBezTo>
                <a:cubicBezTo>
                  <a:pt x="5400" y="10641"/>
                  <a:pt x="10800" y="11541"/>
                  <a:pt x="10800" y="124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41360"/>
            <a:ext cx="59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•</a:t>
            </a:r>
            <a:r>
              <a:rPr b="1" lang="es-CL" sz="3600" spc="-1" strike="noStrike">
                <a:solidFill>
                  <a:srgbClr val="0033cc"/>
                </a:solidFill>
                <a:latin typeface="Times New Roman"/>
              </a:rPr>
              <a:t>Programación y Av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niería Bá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05000"/>
            <a:ext cx="496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</a:t>
            </a: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Cartas Gantt</a:t>
            </a: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br>
              <a:rPr sz="3200"/>
            </a:br>
            <a:br>
              <a:rPr sz="3200"/>
            </a:br>
            <a:r>
              <a:rPr b="1" lang="es-CL" sz="3200" spc="-1" strike="noStrike">
                <a:solidFill>
                  <a:srgbClr val="0033cc"/>
                </a:solidFill>
                <a:latin typeface="Times New Roman"/>
              </a:rPr>
              <a:t>• Curva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6000" y="371808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gráfica para informar del avance acumulado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2060640"/>
            <a:ext cx="529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Representación de programa de actividades en bar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EL53A- Taller de Proyecto en Control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4T14:11:53Z</dcterms:modified>
  <cp:revision>20</cp:revision>
  <dc:subject/>
  <dc:title>EL63A-Taller de Proyecto en Control II</dc:title>
</cp:coreProperties>
</file>