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-3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65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65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DBF29-8027-4044-B526-E0CBFE6818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5AEAA-B4BB-4F52-87F4-999252B4F9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4591E-6EF1-4BD7-8C24-C02268F1D3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0E1DD-03D8-4FC9-830A-A1DBA27EBF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76EB6-C62F-4C30-9D2C-607BB9DC30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CD0AF-0138-40F2-A9DD-6E454E30A8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3A3A7-2F49-45E4-974B-BB4B84EEE7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9CCEB-CBE5-46CA-9B8B-2F68577033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214-D87A-480B-BC21-E9A21C7B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ACC-EF4B-4DE1-9EDF-4813A55D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A64-E30E-45A2-9656-B01507A7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1B3-D1AA-43D0-95BD-E3BADA2D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834-554F-442F-9850-A21ECE0F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F29-D08C-4E30-91FC-820C94CA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003-7338-4E50-9BB5-52FCD90D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F2A-8533-43AE-B212-AA79966F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6C1-9134-4816-9D84-E278A442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48C-8EDF-46BC-8CAA-D9C9572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52C-F0FB-4C2A-9C81-FB1DDB2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4D8-2D02-45BE-8AA9-F42FE15B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0680-B03B-4125-B93C-254C4A5F0C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mensionamiento de Válvulas d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2987640" y="1871640"/>
            <a:ext cx="6156360" cy="404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0" y="2530440"/>
            <a:ext cx="3203640" cy="2716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ngenieria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6"/>
          <p:cNvSpPr/>
          <p:nvPr/>
        </p:nvSpPr>
        <p:spPr>
          <a:xfrm flipV="1">
            <a:off x="1547640" y="5373360"/>
            <a:ext cx="6226200" cy="9367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7"/>
          <p:cNvSpPr/>
          <p:nvPr/>
        </p:nvSpPr>
        <p:spPr>
          <a:xfrm flipV="1">
            <a:off x="2157480" y="4365000"/>
            <a:ext cx="5040360" cy="93636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 flipV="1">
            <a:off x="2733840" y="3357000"/>
            <a:ext cx="3854160" cy="93636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9"/>
          <p:cNvSpPr/>
          <p:nvPr/>
        </p:nvSpPr>
        <p:spPr>
          <a:xfrm flipV="1">
            <a:off x="3309840" y="2349360"/>
            <a:ext cx="2668680" cy="9367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0"/>
          <p:cNvSpPr/>
          <p:nvPr/>
        </p:nvSpPr>
        <p:spPr>
          <a:xfrm flipV="1">
            <a:off x="3843360" y="910080"/>
            <a:ext cx="1554120" cy="13669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2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3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4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ngenieria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15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16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6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Rectangle 12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3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21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6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Rectangle 23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4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27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Rectangle 32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4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95640" y="162864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0920" y="227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50920" y="1916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250920" y="2557440"/>
            <a:ext cx="1800000" cy="15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16000" y="2852640"/>
            <a:ext cx="1908000" cy="142920"/>
          </a:xfrm>
          <a:prstGeom prst="rect">
            <a:avLst/>
          </a:prstGeom>
          <a:ln w="0">
            <a:noFill/>
          </a:ln>
        </p:spPr>
      </p:pic>
      <p:sp>
        <p:nvSpPr>
          <p:cNvPr id="124" name="Line 12"/>
          <p:cNvSpPr/>
          <p:nvPr/>
        </p:nvSpPr>
        <p:spPr>
          <a:xfrm>
            <a:off x="250920" y="3357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5"/>
          <p:cNvGrpSpPr/>
          <p:nvPr/>
        </p:nvGrpSpPr>
        <p:grpSpPr>
          <a:xfrm>
            <a:off x="323640" y="3284640"/>
            <a:ext cx="144000" cy="143640"/>
            <a:chOff x="323640" y="3284640"/>
            <a:chExt cx="144000" cy="143640"/>
          </a:xfrm>
        </p:grpSpPr>
        <p:sp>
          <p:nvSpPr>
            <p:cNvPr id="126" name="Line 13"/>
            <p:cNvSpPr/>
            <p:nvPr/>
          </p:nvSpPr>
          <p:spPr>
            <a:xfrm flipH="1">
              <a:off x="32364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9600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755280" y="3284640"/>
            <a:ext cx="144000" cy="143640"/>
            <a:chOff x="755280" y="3284640"/>
            <a:chExt cx="144000" cy="143640"/>
          </a:xfrm>
        </p:grpSpPr>
        <p:sp>
          <p:nvSpPr>
            <p:cNvPr id="129" name="Line 17"/>
            <p:cNvSpPr/>
            <p:nvPr/>
          </p:nvSpPr>
          <p:spPr>
            <a:xfrm flipH="1">
              <a:off x="75528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 flipH="1">
              <a:off x="82764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1186920" y="3284640"/>
            <a:ext cx="144720" cy="143640"/>
            <a:chOff x="1186920" y="3284640"/>
            <a:chExt cx="144720" cy="143640"/>
          </a:xfrm>
        </p:grpSpPr>
        <p:sp>
          <p:nvSpPr>
            <p:cNvPr id="132" name="Line 20"/>
            <p:cNvSpPr/>
            <p:nvPr/>
          </p:nvSpPr>
          <p:spPr>
            <a:xfrm flipH="1">
              <a:off x="118692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 flipH="1">
              <a:off x="1259640" y="328464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1618920" y="3284640"/>
            <a:ext cx="144000" cy="143640"/>
            <a:chOff x="1618920" y="3284640"/>
            <a:chExt cx="144000" cy="143640"/>
          </a:xfrm>
        </p:grpSpPr>
        <p:sp>
          <p:nvSpPr>
            <p:cNvPr id="135" name="Line 23"/>
            <p:cNvSpPr/>
            <p:nvPr/>
          </p:nvSpPr>
          <p:spPr>
            <a:xfrm flipH="1">
              <a:off x="161892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 flipH="1">
              <a:off x="169128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2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Object 4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10-21T13:13:29Z</dcterms:modified>
  <cp:revision>50</cp:revision>
  <dc:subject/>
  <dc:title>EL63A-Taller de Proyecto en Control II</dc:title>
</cp:coreProperties>
</file>