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601200" cy="731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160880" cy="366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438880" y="-360"/>
            <a:ext cx="4160880" cy="366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973240" y="549000"/>
            <a:ext cx="3656160" cy="274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58680" y="3474720"/>
            <a:ext cx="7683840" cy="32907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946560"/>
            <a:ext cx="4160880" cy="366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438880" y="6946560"/>
            <a:ext cx="4160880" cy="366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8BCB2C-BC7A-4CF4-B04F-06766D09A27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5438880" y="6946920"/>
            <a:ext cx="4160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E091EE-77AF-4A62-A959-FBC52823C2D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58680" y="3474720"/>
            <a:ext cx="768384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5438880" y="6946920"/>
            <a:ext cx="4160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9E9365-0D60-4D90-B026-3C88ABE30B4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58680" y="3474720"/>
            <a:ext cx="768384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5438880" y="6946920"/>
            <a:ext cx="4160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0FB24A-91AC-480A-A99F-7533816C8BE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58680" y="3474720"/>
            <a:ext cx="768384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5438880" y="6946920"/>
            <a:ext cx="4160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3A7FB7-D9F2-44F3-8D08-01F5B81F34F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58680" y="3474720"/>
            <a:ext cx="768384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5438880" y="6946920"/>
            <a:ext cx="4160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C5B130-6E3C-401E-9D93-75A6EAA08E0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58680" y="3474720"/>
            <a:ext cx="768384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5438880" y="6946920"/>
            <a:ext cx="4160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02A6FC-7655-4188-A980-DC403F48A50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58680" y="3474720"/>
            <a:ext cx="768384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5438880" y="6946920"/>
            <a:ext cx="4160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250765-9506-49BA-AEE9-BB25662E71F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58680" y="3474720"/>
            <a:ext cx="768384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B1AC-A3F5-4CCE-9AC2-3C346047B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E99D-75C8-4C2F-8418-44580E6DA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081A-FB0B-4A50-ABC8-21A98547F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F8AB-5F69-4BD2-93CF-87862DC7A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AA7B-26A4-4207-87D3-2EF52D120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EC8D-9B64-4951-A224-0A0411D88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12E9-1BFD-4323-8E9A-4E07C06CE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72DB-E93E-4622-BBBF-13A5D2344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9626-0BD1-415A-AB56-8F5319AB4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9B02-D874-4239-9D84-DFBA87FC8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4020-EA6C-4AC6-B72E-09451056F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288A-FDFF-49EE-87B5-B77A8EA55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AEB9A-05CF-48A8-80BE-ED590E11FBD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596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EL53A Taller de Proyecto en Control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634920" y="5516280"/>
            <a:ext cx="4568760" cy="62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éctor Agusto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ingenieria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7"/>
          <p:cNvSpPr/>
          <p:nvPr/>
        </p:nvSpPr>
        <p:spPr>
          <a:xfrm>
            <a:off x="760320" y="2997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Dimensionamiento de Válvulas de Contr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                      EL53A- Taller de Proyecto en Control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11" descr=""/>
          <p:cNvPicPr/>
          <p:nvPr/>
        </p:nvPicPr>
        <p:blipFill>
          <a:blip r:embed="rId1"/>
          <a:stretch/>
        </p:blipFill>
        <p:spPr>
          <a:xfrm>
            <a:off x="2987640" y="1871640"/>
            <a:ext cx="6156360" cy="40449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3" descr="ingenieria"/>
          <p:cNvPicPr/>
          <p:nvPr/>
        </p:nvPicPr>
        <p:blipFill>
          <a:blip r:embed="rId2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622764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&amp;ID: Lazo Cerr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10" descr=""/>
          <p:cNvPicPr/>
          <p:nvPr/>
        </p:nvPicPr>
        <p:blipFill>
          <a:blip r:embed="rId3"/>
          <a:stretch/>
        </p:blipFill>
        <p:spPr>
          <a:xfrm>
            <a:off x="0" y="2530440"/>
            <a:ext cx="3203640" cy="271620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9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                      EL53A- Taller de Proyecto en Control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4" descr="ingenieria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644364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P&amp;ID: Control en Casca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7" descr="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826920" y="1557360"/>
            <a:ext cx="7129800" cy="412740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9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                      EL53A- Taller de Proyecto en Control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ingenieria"/>
          <p:cNvPicPr/>
          <p:nvPr/>
        </p:nvPicPr>
        <p:blipFill>
          <a:blip r:embed="rId1"/>
          <a:stretch/>
        </p:blipFill>
        <p:spPr>
          <a:xfrm>
            <a:off x="0" y="6381720"/>
            <a:ext cx="409680" cy="476280"/>
          </a:xfrm>
          <a:prstGeom prst="rect">
            <a:avLst/>
          </a:prstGeom>
          <a:ln w="0">
            <a:noFill/>
          </a:ln>
        </p:spPr>
      </p:pic>
      <p:sp>
        <p:nvSpPr>
          <p:cNvPr id="54" name="AutoShape 26"/>
          <p:cNvSpPr/>
          <p:nvPr/>
        </p:nvSpPr>
        <p:spPr>
          <a:xfrm flipV="1">
            <a:off x="1547640" y="5373360"/>
            <a:ext cx="6226200" cy="936720"/>
          </a:xfrm>
          <a:prstGeom prst="pie">
            <a:avLst/>
          </a:prstGeom>
          <a:solidFill>
            <a:srgbClr val="fcfc5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nstrumentación: Sensores-Actuad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27"/>
          <p:cNvSpPr/>
          <p:nvPr/>
        </p:nvSpPr>
        <p:spPr>
          <a:xfrm flipV="1">
            <a:off x="2157480" y="4365000"/>
            <a:ext cx="5040360" cy="936360"/>
          </a:xfrm>
          <a:prstGeom prst="pie">
            <a:avLst/>
          </a:prstGeom>
          <a:solidFill>
            <a:srgbClr val="fcfc5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ivel Regulatorio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zos estabilizantes, Secuenc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28"/>
          <p:cNvSpPr/>
          <p:nvPr/>
        </p:nvSpPr>
        <p:spPr>
          <a:xfrm flipV="1">
            <a:off x="2733840" y="3357000"/>
            <a:ext cx="3854160" cy="936360"/>
          </a:xfrm>
          <a:prstGeom prst="pie">
            <a:avLst/>
          </a:prstGeom>
          <a:solidFill>
            <a:srgbClr val="fcfc5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ivel Superviso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ntrol Avanzado / Optimiz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istemas Exper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29"/>
          <p:cNvSpPr/>
          <p:nvPr/>
        </p:nvSpPr>
        <p:spPr>
          <a:xfrm flipV="1">
            <a:off x="3309840" y="2349360"/>
            <a:ext cx="2668680" cy="936720"/>
          </a:xfrm>
          <a:prstGeom prst="pie">
            <a:avLst/>
          </a:prstGeom>
          <a:solidFill>
            <a:srgbClr val="fcfc5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istemas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Gestión de Inform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30"/>
          <p:cNvSpPr/>
          <p:nvPr/>
        </p:nvSpPr>
        <p:spPr>
          <a:xfrm flipV="1">
            <a:off x="3843360" y="910080"/>
            <a:ext cx="1554120" cy="1366920"/>
          </a:xfrm>
          <a:prstGeom prst="pie">
            <a:avLst/>
          </a:prstGeom>
          <a:solidFill>
            <a:srgbClr val="fcfc5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31"/>
          <p:cNvSpPr/>
          <p:nvPr/>
        </p:nvSpPr>
        <p:spPr>
          <a:xfrm flipV="1">
            <a:off x="1581120" y="911160"/>
            <a:ext cx="3024360" cy="5399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32"/>
          <p:cNvSpPr/>
          <p:nvPr/>
        </p:nvSpPr>
        <p:spPr>
          <a:xfrm>
            <a:off x="4605480" y="911160"/>
            <a:ext cx="3168360" cy="5399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33"/>
          <p:cNvSpPr/>
          <p:nvPr/>
        </p:nvSpPr>
        <p:spPr>
          <a:xfrm>
            <a:off x="1581120" y="6310440"/>
            <a:ext cx="62262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34"/>
          <p:cNvSpPr/>
          <p:nvPr/>
        </p:nvSpPr>
        <p:spPr>
          <a:xfrm flipV="1">
            <a:off x="7956720" y="837720"/>
            <a:ext cx="0" cy="5472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5"/>
          <p:cNvSpPr/>
          <p:nvPr/>
        </p:nvSpPr>
        <p:spPr>
          <a:xfrm rot="16200000">
            <a:off x="5410800" y="3243960"/>
            <a:ext cx="575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[ms], [s]          Escala de Tiempo         [días],[semanas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6"/>
          <p:cNvSpPr/>
          <p:nvPr/>
        </p:nvSpPr>
        <p:spPr>
          <a:xfrm>
            <a:off x="539640" y="260280"/>
            <a:ext cx="59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Jerarquía de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9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                      EL53A- Taller de Proyecto en Control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3" descr="ingenieria"/>
          <p:cNvPicPr/>
          <p:nvPr/>
        </p:nvPicPr>
        <p:blipFill>
          <a:blip r:embed="rId1"/>
          <a:stretch/>
        </p:blipFill>
        <p:spPr>
          <a:xfrm>
            <a:off x="0" y="6381720"/>
            <a:ext cx="409680" cy="476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" name="Object 15"/>
          <p:cNvGraphicFramePr/>
          <p:nvPr/>
        </p:nvGraphicFramePr>
        <p:xfrm>
          <a:off x="4680" y="692280"/>
          <a:ext cx="9136080" cy="528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8" name="Object 1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0" y="692280"/>
                    <a:ext cx="9136080" cy="528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Text Box 16"/>
          <p:cNvSpPr/>
          <p:nvPr/>
        </p:nvSpPr>
        <p:spPr>
          <a:xfrm>
            <a:off x="250920" y="11592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Arquitectura de un Sistema de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7"/>
          <p:cNvSpPr/>
          <p:nvPr/>
        </p:nvSpPr>
        <p:spPr>
          <a:xfrm>
            <a:off x="250920" y="1031760"/>
            <a:ext cx="252072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staciones de Operació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(HMI-Sala de Contro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8"/>
          <p:cNvSpPr/>
          <p:nvPr/>
        </p:nvSpPr>
        <p:spPr>
          <a:xfrm>
            <a:off x="1908000" y="1247760"/>
            <a:ext cx="144000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9"/>
          <p:cNvSpPr/>
          <p:nvPr/>
        </p:nvSpPr>
        <p:spPr>
          <a:xfrm>
            <a:off x="4572000" y="4775040"/>
            <a:ext cx="183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staciones de Ingeniería (Configuració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20"/>
          <p:cNvSpPr/>
          <p:nvPr/>
        </p:nvSpPr>
        <p:spPr>
          <a:xfrm flipV="1">
            <a:off x="4788000" y="3119040"/>
            <a:ext cx="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1"/>
          <p:cNvSpPr/>
          <p:nvPr/>
        </p:nvSpPr>
        <p:spPr>
          <a:xfrm>
            <a:off x="2482920" y="4199040"/>
            <a:ext cx="1728720" cy="14414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2"/>
          <p:cNvSpPr/>
          <p:nvPr/>
        </p:nvSpPr>
        <p:spPr>
          <a:xfrm>
            <a:off x="755640" y="3551400"/>
            <a:ext cx="1655640" cy="24476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23"/>
          <p:cNvSpPr/>
          <p:nvPr/>
        </p:nvSpPr>
        <p:spPr>
          <a:xfrm>
            <a:off x="3276720" y="5567400"/>
            <a:ext cx="12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Terre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4"/>
          <p:cNvSpPr/>
          <p:nvPr/>
        </p:nvSpPr>
        <p:spPr>
          <a:xfrm>
            <a:off x="1476360" y="5999040"/>
            <a:ext cx="1800360" cy="5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Gabinete </a:t>
            </a: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xx-y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ER-</a:t>
            </a: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n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5"/>
          <p:cNvSpPr/>
          <p:nvPr/>
        </p:nvSpPr>
        <p:spPr>
          <a:xfrm>
            <a:off x="539640" y="2327400"/>
            <a:ext cx="2303640" cy="9349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6"/>
          <p:cNvSpPr/>
          <p:nvPr/>
        </p:nvSpPr>
        <p:spPr>
          <a:xfrm>
            <a:off x="6443640" y="3551400"/>
            <a:ext cx="1944720" cy="1944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27"/>
          <p:cNvSpPr/>
          <p:nvPr/>
        </p:nvSpPr>
        <p:spPr>
          <a:xfrm>
            <a:off x="7020000" y="5567400"/>
            <a:ext cx="1800000" cy="5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Gabinete </a:t>
            </a: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xx-y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ER-</a:t>
            </a: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n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9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                      EL53A- Taller de Proyecto en Control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5" descr="ingenieria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476000" y="-27360"/>
            <a:ext cx="62658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Diagramas de Proceso  e Instrumentación (P&amp;ID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10"/>
          <p:cNvSpPr/>
          <p:nvPr/>
        </p:nvSpPr>
        <p:spPr>
          <a:xfrm>
            <a:off x="2484360" y="1701720"/>
            <a:ext cx="1150920" cy="1150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YYY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1"/>
          <p:cNvSpPr/>
          <p:nvPr/>
        </p:nvSpPr>
        <p:spPr>
          <a:xfrm>
            <a:off x="250920" y="1557360"/>
            <a:ext cx="208908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lemento ubicado en Terren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ensor, Actuador, Indicador Local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4"/>
          <p:cNvSpPr/>
          <p:nvPr/>
        </p:nvSpPr>
        <p:spPr>
          <a:xfrm>
            <a:off x="4284720" y="1557360"/>
            <a:ext cx="338292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lemento ubicado en Sistema de Control (accesible al operador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Indicación en pantalla, Comando del operador, alarma en pantalla, cálculo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Group 16"/>
          <p:cNvGrpSpPr/>
          <p:nvPr/>
        </p:nvGrpSpPr>
        <p:grpSpPr>
          <a:xfrm>
            <a:off x="7738920" y="1701720"/>
            <a:ext cx="1152360" cy="1150920"/>
            <a:chOff x="7738920" y="1701720"/>
            <a:chExt cx="1152360" cy="1150920"/>
          </a:xfrm>
        </p:grpSpPr>
        <p:sp>
          <p:nvSpPr>
            <p:cNvPr id="88" name="Rectangle 12"/>
            <p:cNvSpPr/>
            <p:nvPr/>
          </p:nvSpPr>
          <p:spPr>
            <a:xfrm>
              <a:off x="7738920" y="1701720"/>
              <a:ext cx="1150920" cy="1150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13"/>
            <p:cNvSpPr/>
            <p:nvPr/>
          </p:nvSpPr>
          <p:spPr>
            <a:xfrm>
              <a:off x="7738920" y="1701720"/>
              <a:ext cx="1150920" cy="1150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YYY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15"/>
            <p:cNvSpPr/>
            <p:nvPr/>
          </p:nvSpPr>
          <p:spPr>
            <a:xfrm>
              <a:off x="7738920" y="2276640"/>
              <a:ext cx="115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Text Box 21"/>
          <p:cNvSpPr/>
          <p:nvPr/>
        </p:nvSpPr>
        <p:spPr>
          <a:xfrm>
            <a:off x="4284720" y="3755880"/>
            <a:ext cx="3386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lemento ubicado en Sistema de Control, No accecible al oper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Group 26"/>
          <p:cNvGrpSpPr/>
          <p:nvPr/>
        </p:nvGrpSpPr>
        <p:grpSpPr>
          <a:xfrm>
            <a:off x="7742160" y="3807000"/>
            <a:ext cx="1150920" cy="1150920"/>
            <a:chOff x="7742160" y="3807000"/>
            <a:chExt cx="1150920" cy="1150920"/>
          </a:xfrm>
        </p:grpSpPr>
        <p:sp>
          <p:nvSpPr>
            <p:cNvPr id="93" name="Rectangle 23"/>
            <p:cNvSpPr/>
            <p:nvPr/>
          </p:nvSpPr>
          <p:spPr>
            <a:xfrm>
              <a:off x="7742160" y="3807000"/>
              <a:ext cx="1150920" cy="1150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4"/>
            <p:cNvSpPr/>
            <p:nvPr/>
          </p:nvSpPr>
          <p:spPr>
            <a:xfrm>
              <a:off x="7742160" y="3807000"/>
              <a:ext cx="1150920" cy="1150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YYY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Oval 27"/>
          <p:cNvSpPr/>
          <p:nvPr/>
        </p:nvSpPr>
        <p:spPr>
          <a:xfrm>
            <a:off x="2629080" y="3573360"/>
            <a:ext cx="1150920" cy="1150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YYY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28"/>
          <p:cNvSpPr/>
          <p:nvPr/>
        </p:nvSpPr>
        <p:spPr>
          <a:xfrm>
            <a:off x="250920" y="3598920"/>
            <a:ext cx="237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lemento ubicado en Panel en Terren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29"/>
          <p:cNvSpPr/>
          <p:nvPr/>
        </p:nvSpPr>
        <p:spPr>
          <a:xfrm>
            <a:off x="2627280" y="416736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0"/>
          <p:cNvSpPr/>
          <p:nvPr/>
        </p:nvSpPr>
        <p:spPr>
          <a:xfrm>
            <a:off x="2050920" y="508464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Función lógica: Control secuen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35"/>
          <p:cNvGrpSpPr/>
          <p:nvPr/>
        </p:nvGrpSpPr>
        <p:grpSpPr>
          <a:xfrm>
            <a:off x="4716360" y="5157720"/>
            <a:ext cx="1079640" cy="1079640"/>
            <a:chOff x="4716360" y="5157720"/>
            <a:chExt cx="1079640" cy="1079640"/>
          </a:xfrm>
        </p:grpSpPr>
        <p:sp>
          <p:nvSpPr>
            <p:cNvPr id="100" name="Rectangle 32"/>
            <p:cNvSpPr/>
            <p:nvPr/>
          </p:nvSpPr>
          <p:spPr>
            <a:xfrm>
              <a:off x="4716360" y="5157720"/>
              <a:ext cx="1079640" cy="1079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AutoShape 34"/>
            <p:cNvSpPr/>
            <p:nvPr/>
          </p:nvSpPr>
          <p:spPr>
            <a:xfrm>
              <a:off x="4716360" y="5157720"/>
              <a:ext cx="1079640" cy="1079640"/>
            </a:xfrm>
            <a:prstGeom prst="diamond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Rectangle 9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                      EL53A- Taller de Proyecto en Control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3" descr="ingenieria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20890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&amp;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5"/>
          <p:cNvSpPr/>
          <p:nvPr/>
        </p:nvSpPr>
        <p:spPr>
          <a:xfrm>
            <a:off x="395280" y="1414440"/>
            <a:ext cx="1150920" cy="1150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YYY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2"/>
          <p:cNvSpPr/>
          <p:nvPr/>
        </p:nvSpPr>
        <p:spPr>
          <a:xfrm>
            <a:off x="108000" y="3862440"/>
            <a:ext cx="273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YYYY: Nº de lazo, en Gral. Todo lo asociado a una variable fís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3"/>
          <p:cNvSpPr/>
          <p:nvPr/>
        </p:nvSpPr>
        <p:spPr>
          <a:xfrm flipV="1">
            <a:off x="539640" y="2278080"/>
            <a:ext cx="71640" cy="15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4"/>
          <p:cNvSpPr/>
          <p:nvPr/>
        </p:nvSpPr>
        <p:spPr>
          <a:xfrm>
            <a:off x="2771640" y="318960"/>
            <a:ext cx="637236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XXX: Descripción del Elemento (Norma ISA S5.1-S5.3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1ª Letra: Generalmente Variable física, p.ej.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: Análisis (pH, turbidez, et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: Dens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F: Flu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: Ni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: Pres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: Tempera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W: Masa…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2ª  Modificador de vari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: Diferen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Q: Integr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2ª’-3ª Fun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: Alar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: Elemento primario (senso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I: Indic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: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H: Al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: Ba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: Interrup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: Transmi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V: Válv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5"/>
          <p:cNvSpPr/>
          <p:nvPr/>
        </p:nvSpPr>
        <p:spPr>
          <a:xfrm flipH="1">
            <a:off x="1331640" y="620640"/>
            <a:ext cx="1368360" cy="115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9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                      EL53A- Taller de Proyecto en Control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3" descr="ingenieria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302436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&amp;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5"/>
          <p:cNvSpPr/>
          <p:nvPr/>
        </p:nvSpPr>
        <p:spPr>
          <a:xfrm>
            <a:off x="250920" y="981000"/>
            <a:ext cx="1150920" cy="1150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YYY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1979640" y="98100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jempl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8"/>
          <p:cNvSpPr/>
          <p:nvPr/>
        </p:nvSpPr>
        <p:spPr>
          <a:xfrm>
            <a:off x="2195640" y="1628640"/>
            <a:ext cx="66974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FE: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Sensor de Fluj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I: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Indicador de Ni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IT: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Indicador Transmisor de Dens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IC: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ontrolador-Indicador de Análisis (p.ej.p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FQI: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Indicador de Integrador de flujo (Volum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DI: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Indicador de Presión Diferen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AL: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larma de Nivel Baj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AHH: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larma de Nivel Alto-Alto (muy alt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FSH: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Interruptor de Flujo Al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TV: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Válvula para regular fluj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9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                      EL53A- Taller de Proyecto en Control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3" descr="ingenieria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46800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&amp;ID: Señ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2195640" y="1628640"/>
            <a:ext cx="6697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onexión a Proce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léct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igital (Software - Dat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Onda Electromagnética o Sónica Gui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Señal neumát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8"/>
          <p:cNvSpPr/>
          <p:nvPr/>
        </p:nvSpPr>
        <p:spPr>
          <a:xfrm>
            <a:off x="250920" y="227664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9"/>
          <p:cNvSpPr/>
          <p:nvPr/>
        </p:nvSpPr>
        <p:spPr>
          <a:xfrm>
            <a:off x="250920" y="191628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10" descr=""/>
          <p:cNvPicPr/>
          <p:nvPr/>
        </p:nvPicPr>
        <p:blipFill>
          <a:blip r:embed="rId2"/>
          <a:stretch/>
        </p:blipFill>
        <p:spPr>
          <a:xfrm>
            <a:off x="250920" y="2557440"/>
            <a:ext cx="1800000" cy="1508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1" descr=""/>
          <p:cNvPicPr/>
          <p:nvPr/>
        </p:nvPicPr>
        <p:blipFill>
          <a:blip r:embed="rId3"/>
          <a:stretch/>
        </p:blipFill>
        <p:spPr>
          <a:xfrm>
            <a:off x="216000" y="2852640"/>
            <a:ext cx="1908000" cy="142920"/>
          </a:xfrm>
          <a:prstGeom prst="rect">
            <a:avLst/>
          </a:prstGeom>
          <a:ln w="0">
            <a:noFill/>
          </a:ln>
        </p:spPr>
      </p:pic>
      <p:sp>
        <p:nvSpPr>
          <p:cNvPr id="124" name="Line 12"/>
          <p:cNvSpPr/>
          <p:nvPr/>
        </p:nvSpPr>
        <p:spPr>
          <a:xfrm>
            <a:off x="250920" y="335772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Group 15"/>
          <p:cNvGrpSpPr/>
          <p:nvPr/>
        </p:nvGrpSpPr>
        <p:grpSpPr>
          <a:xfrm>
            <a:off x="323640" y="3284640"/>
            <a:ext cx="144000" cy="143640"/>
            <a:chOff x="323640" y="3284640"/>
            <a:chExt cx="144000" cy="143640"/>
          </a:xfrm>
        </p:grpSpPr>
        <p:sp>
          <p:nvSpPr>
            <p:cNvPr id="126" name="Line 13"/>
            <p:cNvSpPr/>
            <p:nvPr/>
          </p:nvSpPr>
          <p:spPr>
            <a:xfrm flipH="1">
              <a:off x="323640" y="3284640"/>
              <a:ext cx="72360" cy="14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14"/>
            <p:cNvSpPr/>
            <p:nvPr/>
          </p:nvSpPr>
          <p:spPr>
            <a:xfrm flipH="1">
              <a:off x="396000" y="3284640"/>
              <a:ext cx="71640" cy="14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Group 16"/>
          <p:cNvGrpSpPr/>
          <p:nvPr/>
        </p:nvGrpSpPr>
        <p:grpSpPr>
          <a:xfrm>
            <a:off x="755280" y="3284640"/>
            <a:ext cx="144000" cy="143640"/>
            <a:chOff x="755280" y="3284640"/>
            <a:chExt cx="144000" cy="143640"/>
          </a:xfrm>
        </p:grpSpPr>
        <p:sp>
          <p:nvSpPr>
            <p:cNvPr id="129" name="Line 17"/>
            <p:cNvSpPr/>
            <p:nvPr/>
          </p:nvSpPr>
          <p:spPr>
            <a:xfrm flipH="1">
              <a:off x="755280" y="3284640"/>
              <a:ext cx="72360" cy="14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 flipH="1">
              <a:off x="827640" y="3284640"/>
              <a:ext cx="71640" cy="14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Group 19"/>
          <p:cNvGrpSpPr/>
          <p:nvPr/>
        </p:nvGrpSpPr>
        <p:grpSpPr>
          <a:xfrm>
            <a:off x="1186920" y="3284640"/>
            <a:ext cx="144720" cy="143640"/>
            <a:chOff x="1186920" y="3284640"/>
            <a:chExt cx="144720" cy="143640"/>
          </a:xfrm>
        </p:grpSpPr>
        <p:sp>
          <p:nvSpPr>
            <p:cNvPr id="132" name="Line 20"/>
            <p:cNvSpPr/>
            <p:nvPr/>
          </p:nvSpPr>
          <p:spPr>
            <a:xfrm flipH="1">
              <a:off x="1186920" y="3284640"/>
              <a:ext cx="72360" cy="14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 flipH="1">
              <a:off x="1259640" y="3284640"/>
              <a:ext cx="72000" cy="14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Group 22"/>
          <p:cNvGrpSpPr/>
          <p:nvPr/>
        </p:nvGrpSpPr>
        <p:grpSpPr>
          <a:xfrm>
            <a:off x="1618920" y="3284640"/>
            <a:ext cx="144000" cy="143640"/>
            <a:chOff x="1618920" y="3284640"/>
            <a:chExt cx="144000" cy="143640"/>
          </a:xfrm>
        </p:grpSpPr>
        <p:sp>
          <p:nvSpPr>
            <p:cNvPr id="135" name="Line 23"/>
            <p:cNvSpPr/>
            <p:nvPr/>
          </p:nvSpPr>
          <p:spPr>
            <a:xfrm flipH="1">
              <a:off x="1618920" y="3284640"/>
              <a:ext cx="72360" cy="14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 flipH="1">
              <a:off x="1691280" y="3284640"/>
              <a:ext cx="71640" cy="14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Rectangle 9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                      EL53A- Taller de Proyecto en Control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24000" y="43920"/>
            <a:ext cx="842472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P&amp;I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3" descr="ingenieria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0" name="Object 2"/>
          <p:cNvGraphicFramePr/>
          <p:nvPr/>
        </p:nvGraphicFramePr>
        <p:xfrm>
          <a:off x="0" y="1844640"/>
          <a:ext cx="4400640" cy="3333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1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844640"/>
                    <a:ext cx="4400640" cy="333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2" name="Object 3"/>
          <p:cNvGraphicFramePr/>
          <p:nvPr/>
        </p:nvGraphicFramePr>
        <p:xfrm>
          <a:off x="4427640" y="1776240"/>
          <a:ext cx="4484520" cy="3419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3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7640" y="1776240"/>
                    <a:ext cx="4484520" cy="34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Rectangle 9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                      EL53A- Taller de Proyecto en Control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3" descr="ingenieria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6" name="Object 4"/>
          <p:cNvGraphicFramePr/>
          <p:nvPr/>
        </p:nvGraphicFramePr>
        <p:xfrm>
          <a:off x="250920" y="1197000"/>
          <a:ext cx="2685960" cy="3168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7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1197000"/>
                    <a:ext cx="2685960" cy="31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622764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&amp;ID: Lazos si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6" descr=""/>
          <p:cNvPicPr/>
          <p:nvPr/>
        </p:nvPicPr>
        <p:blipFill>
          <a:blip r:embed="rId4"/>
          <a:stretch/>
        </p:blipFill>
        <p:spPr>
          <a:xfrm>
            <a:off x="7007400" y="476280"/>
            <a:ext cx="1885680" cy="54957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7" descr=""/>
          <p:cNvPicPr/>
          <p:nvPr/>
        </p:nvPicPr>
        <p:blipFill>
          <a:blip r:embed="rId5"/>
          <a:stretch/>
        </p:blipFill>
        <p:spPr>
          <a:xfrm>
            <a:off x="3348000" y="1125360"/>
            <a:ext cx="3316320" cy="40500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8" descr=""/>
          <p:cNvPicPr/>
          <p:nvPr/>
        </p:nvPicPr>
        <p:blipFill>
          <a:blip r:embed="rId6"/>
          <a:stretch/>
        </p:blipFill>
        <p:spPr>
          <a:xfrm>
            <a:off x="1403280" y="4437000"/>
            <a:ext cx="1268640" cy="196524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9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                      EL53A- Taller de Proyecto en Control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Hector Agusto</cp:lastModifiedBy>
  <dcterms:modified xsi:type="dcterms:W3CDTF">2010-10-21T13:13:29Z</dcterms:modified>
  <cp:revision>50</cp:revision>
  <dc:subject/>
  <dc:title>EL63A-Taller de Proyecto en Control II</dc:title>
</cp:coreProperties>
</file>