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16088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8880" y="-360"/>
            <a:ext cx="416088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3240" y="549000"/>
            <a:ext cx="3656160" cy="274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46560"/>
            <a:ext cx="416088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8880" y="6946560"/>
            <a:ext cx="416088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6DEDF-248D-41B6-B634-FB0B6820316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FA356-0E7C-41F8-81FA-EE2E7CC623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552D8-2A74-48F8-9BD3-16E98956D1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0AB7C-213C-479D-AE96-A812CF80EB1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453FB-1EE0-48A7-8185-97BE4AABE2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4ADAE-5ABA-480C-AD92-4BCEB0AF64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2EA1A-4998-46B0-B170-180791D0441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DD97A-07C1-44C7-B269-8D86402FE19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538-39E8-4DD6-BE82-630DA500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28C8-9219-47F4-873D-9B1FD0CE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D7A4-1A40-47E9-9566-1C3A6B72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911-3E72-4115-B33C-FC9BA1AB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DE4-8A18-4DF2-956A-6B3E9604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6C9-AA98-4604-BD0F-9A2F6192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661B-9CD0-4F8A-9E3E-174E825C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18A-C4CD-4917-81E6-FB9AAB5E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C7F-3890-409B-9E36-4F7B9F9C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228-6697-47CF-B4AF-C91700AA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D71A-732F-4559-B3E1-8F44AB4E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BE4-3A07-4776-8D49-3AC1D2A6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DAA1-597E-4BA5-AC24-95CCD689E4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L53A Taller de Proyecto en Control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imensionamiento de Válvulas d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1" descr=""/>
          <p:cNvPicPr/>
          <p:nvPr/>
        </p:nvPicPr>
        <p:blipFill>
          <a:blip r:embed="rId1"/>
          <a:stretch/>
        </p:blipFill>
        <p:spPr>
          <a:xfrm>
            <a:off x="2987640" y="1871640"/>
            <a:ext cx="6156360" cy="4044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ingenieria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227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Lazo Cer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0" y="2530440"/>
            <a:ext cx="3203640" cy="27162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443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&amp;ID: Control en Casc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6920" y="1557360"/>
            <a:ext cx="7129800" cy="41274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ingenieria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26"/>
          <p:cNvSpPr/>
          <p:nvPr/>
        </p:nvSpPr>
        <p:spPr>
          <a:xfrm flipV="1">
            <a:off x="1547640" y="5373360"/>
            <a:ext cx="6226200" cy="936720"/>
          </a:xfrm>
          <a:prstGeom prst="pie">
            <a:avLst/>
          </a:pr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strumentación: Sensores-Actu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7"/>
          <p:cNvSpPr/>
          <p:nvPr/>
        </p:nvSpPr>
        <p:spPr>
          <a:xfrm flipV="1">
            <a:off x="2157480" y="4365000"/>
            <a:ext cx="5040360" cy="936360"/>
          </a:xfrm>
          <a:prstGeom prst="pie">
            <a:avLst/>
          </a:pr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vel Regulatori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zos estabilizantes, 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8"/>
          <p:cNvSpPr/>
          <p:nvPr/>
        </p:nvSpPr>
        <p:spPr>
          <a:xfrm flipV="1">
            <a:off x="2733840" y="3357000"/>
            <a:ext cx="3854160" cy="936360"/>
          </a:xfrm>
          <a:prstGeom prst="pie">
            <a:avLst/>
          </a:pr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vel Supervis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rol Avanzado / Optimiz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s Exp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9"/>
          <p:cNvSpPr/>
          <p:nvPr/>
        </p:nvSpPr>
        <p:spPr>
          <a:xfrm flipV="1">
            <a:off x="3309840" y="2349360"/>
            <a:ext cx="2668680" cy="936720"/>
          </a:xfrm>
          <a:prstGeom prst="pie">
            <a:avLst/>
          </a:pr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stión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0"/>
          <p:cNvSpPr/>
          <p:nvPr/>
        </p:nvSpPr>
        <p:spPr>
          <a:xfrm flipV="1">
            <a:off x="3843360" y="910080"/>
            <a:ext cx="1554120" cy="1366920"/>
          </a:xfrm>
          <a:prstGeom prst="pie">
            <a:avLst/>
          </a:pr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1"/>
          <p:cNvSpPr/>
          <p:nvPr/>
        </p:nvSpPr>
        <p:spPr>
          <a:xfrm flipV="1">
            <a:off x="1581120" y="911160"/>
            <a:ext cx="3024360" cy="539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2"/>
          <p:cNvSpPr/>
          <p:nvPr/>
        </p:nvSpPr>
        <p:spPr>
          <a:xfrm>
            <a:off x="4605480" y="911160"/>
            <a:ext cx="3168360" cy="539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3"/>
          <p:cNvSpPr/>
          <p:nvPr/>
        </p:nvSpPr>
        <p:spPr>
          <a:xfrm>
            <a:off x="1581120" y="6310440"/>
            <a:ext cx="6226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4"/>
          <p:cNvSpPr/>
          <p:nvPr/>
        </p:nvSpPr>
        <p:spPr>
          <a:xfrm flipV="1">
            <a:off x="7956720" y="837720"/>
            <a:ext cx="0" cy="547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5"/>
          <p:cNvSpPr/>
          <p:nvPr/>
        </p:nvSpPr>
        <p:spPr>
          <a:xfrm rot="16200000">
            <a:off x="5410800" y="3243960"/>
            <a:ext cx="57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[ms], [s]          Escala de Tiempo         [días],[semana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6"/>
          <p:cNvSpPr/>
          <p:nvPr/>
        </p:nvSpPr>
        <p:spPr>
          <a:xfrm>
            <a:off x="539640" y="2602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Jerarquía d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ingenieria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Object 15"/>
          <p:cNvGraphicFramePr/>
          <p:nvPr/>
        </p:nvGraphicFramePr>
        <p:xfrm>
          <a:off x="4680" y="692280"/>
          <a:ext cx="9136080" cy="52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0" y="692280"/>
                    <a:ext cx="913608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16"/>
          <p:cNvSpPr/>
          <p:nvPr/>
        </p:nvSpPr>
        <p:spPr>
          <a:xfrm>
            <a:off x="250920" y="1159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rquitectura de un Sistema d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250920" y="1031760"/>
            <a:ext cx="2520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ciones de Oper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HMI-Sala de Contr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1908000" y="1247760"/>
            <a:ext cx="1440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4572000" y="4775040"/>
            <a:ext cx="183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ciones de Ingeniería (Configur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4788000" y="311904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2482920" y="4199040"/>
            <a:ext cx="1728720" cy="1441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755640" y="3551400"/>
            <a:ext cx="1655640" cy="244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3276720" y="55674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er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1476360" y="5999040"/>
            <a:ext cx="180036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binete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xx-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R-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539640" y="2327400"/>
            <a:ext cx="2303640" cy="93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6"/>
          <p:cNvSpPr/>
          <p:nvPr/>
        </p:nvSpPr>
        <p:spPr>
          <a:xfrm>
            <a:off x="6443640" y="3551400"/>
            <a:ext cx="1944720" cy="194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7020000" y="5567400"/>
            <a:ext cx="180000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binete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xx-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R-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6000" y="-27360"/>
            <a:ext cx="6265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iagramas de Proceso  e Instrumentación (P&amp;I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2484360" y="170172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50920" y="1557360"/>
            <a:ext cx="2089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Terre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nsor, Actuador, Indicador Loc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284720" y="1557360"/>
            <a:ext cx="33829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Sistema de Control (accesible al operador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ación en pantalla, Comando del operador, alarma en pantalla, cálcul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6"/>
          <p:cNvGrpSpPr/>
          <p:nvPr/>
        </p:nvGrpSpPr>
        <p:grpSpPr>
          <a:xfrm>
            <a:off x="7738920" y="1701720"/>
            <a:ext cx="1152360" cy="1150920"/>
            <a:chOff x="7738920" y="1701720"/>
            <a:chExt cx="1152360" cy="1150920"/>
          </a:xfrm>
        </p:grpSpPr>
        <p:sp>
          <p:nvSpPr>
            <p:cNvPr id="88" name="Rectangle 12"/>
            <p:cNvSpPr/>
            <p:nvPr/>
          </p:nvSpPr>
          <p:spPr>
            <a:xfrm>
              <a:off x="7738920" y="1701720"/>
              <a:ext cx="1150920" cy="115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3"/>
            <p:cNvSpPr/>
            <p:nvPr/>
          </p:nvSpPr>
          <p:spPr>
            <a:xfrm>
              <a:off x="7738920" y="1701720"/>
              <a:ext cx="1150920" cy="11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YYY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5"/>
            <p:cNvSpPr/>
            <p:nvPr/>
          </p:nvSpPr>
          <p:spPr>
            <a:xfrm>
              <a:off x="7738920" y="227664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21"/>
          <p:cNvSpPr/>
          <p:nvPr/>
        </p:nvSpPr>
        <p:spPr>
          <a:xfrm>
            <a:off x="4284720" y="3755880"/>
            <a:ext cx="33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Sistema de Control, No accecible al op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6"/>
          <p:cNvGrpSpPr/>
          <p:nvPr/>
        </p:nvGrpSpPr>
        <p:grpSpPr>
          <a:xfrm>
            <a:off x="7742160" y="3807000"/>
            <a:ext cx="1150920" cy="1150920"/>
            <a:chOff x="7742160" y="3807000"/>
            <a:chExt cx="1150920" cy="1150920"/>
          </a:xfrm>
        </p:grpSpPr>
        <p:sp>
          <p:nvSpPr>
            <p:cNvPr id="93" name="Rectangle 23"/>
            <p:cNvSpPr/>
            <p:nvPr/>
          </p:nvSpPr>
          <p:spPr>
            <a:xfrm>
              <a:off x="7742160" y="3807000"/>
              <a:ext cx="1150920" cy="115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4"/>
            <p:cNvSpPr/>
            <p:nvPr/>
          </p:nvSpPr>
          <p:spPr>
            <a:xfrm>
              <a:off x="7742160" y="3807000"/>
              <a:ext cx="1150920" cy="11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YYY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Oval 27"/>
          <p:cNvSpPr/>
          <p:nvPr/>
        </p:nvSpPr>
        <p:spPr>
          <a:xfrm>
            <a:off x="2629080" y="357336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250920" y="359892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Panel en Terre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9"/>
          <p:cNvSpPr/>
          <p:nvPr/>
        </p:nvSpPr>
        <p:spPr>
          <a:xfrm>
            <a:off x="2627280" y="4167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2050920" y="508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nción lógica: Control secu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4716360" y="5157720"/>
            <a:ext cx="1079640" cy="1079640"/>
            <a:chOff x="4716360" y="5157720"/>
            <a:chExt cx="1079640" cy="1079640"/>
          </a:xfrm>
        </p:grpSpPr>
        <p:sp>
          <p:nvSpPr>
            <p:cNvPr id="100" name="Rectangle 32"/>
            <p:cNvSpPr/>
            <p:nvPr/>
          </p:nvSpPr>
          <p:spPr>
            <a:xfrm>
              <a:off x="4716360" y="5157720"/>
              <a:ext cx="1079640" cy="10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34"/>
            <p:cNvSpPr/>
            <p:nvPr/>
          </p:nvSpPr>
          <p:spPr>
            <a:xfrm>
              <a:off x="4716360" y="5157720"/>
              <a:ext cx="1079640" cy="10796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20890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395280" y="141444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08000" y="38624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YYY: Nº de lazo, en Gral. Todo lo asociado a una variable fís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 flipV="1">
            <a:off x="539640" y="2278080"/>
            <a:ext cx="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2771640" y="318960"/>
            <a:ext cx="6372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: Descripción del Elemento (Norma ISA S5.1-S5.3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ª Letra: Generalmente Variable física, p.ej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: Análisis (pH, turbidez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: Den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: Flu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: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: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: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: Masa…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ª  Modificador d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: Difer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: Integ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ª’-3ª Fu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: Ala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: Elemento primario (sens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: In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: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: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: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: Interru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: Trans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: Válv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 flipH="1">
            <a:off x="1331640" y="620640"/>
            <a:ext cx="1368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3024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250920" y="98100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979640" y="981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195640" y="1628640"/>
            <a:ext cx="669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E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nsor de Flu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T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Transmisor de Den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IC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trolador-Indicador de Análisis (p.ej.p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QI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Integrador de flujo (Volu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DI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Pres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L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arma de Nivel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HH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arma de Nivel Alto-Alto (muy al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SH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ruptor de Flujo A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V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álvula para regular flu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4680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Señ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195640" y="162864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exión a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gital (Software - Da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nda Electromagnética o Sónica Gu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ñal neu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50920" y="2276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250920" y="19162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2"/>
          <a:stretch/>
        </p:blipFill>
        <p:spPr>
          <a:xfrm>
            <a:off x="250920" y="2557440"/>
            <a:ext cx="1800000" cy="150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3"/>
          <a:stretch/>
        </p:blipFill>
        <p:spPr>
          <a:xfrm>
            <a:off x="216000" y="2852640"/>
            <a:ext cx="1908000" cy="142920"/>
          </a:xfrm>
          <a:prstGeom prst="rect">
            <a:avLst/>
          </a:prstGeom>
          <a:ln w="0">
            <a:noFill/>
          </a:ln>
        </p:spPr>
      </p:pic>
      <p:sp>
        <p:nvSpPr>
          <p:cNvPr id="124" name="Line 12"/>
          <p:cNvSpPr/>
          <p:nvPr/>
        </p:nvSpPr>
        <p:spPr>
          <a:xfrm>
            <a:off x="250920" y="3357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5"/>
          <p:cNvGrpSpPr/>
          <p:nvPr/>
        </p:nvGrpSpPr>
        <p:grpSpPr>
          <a:xfrm>
            <a:off x="323640" y="3284640"/>
            <a:ext cx="144000" cy="143640"/>
            <a:chOff x="323640" y="3284640"/>
            <a:chExt cx="144000" cy="143640"/>
          </a:xfrm>
        </p:grpSpPr>
        <p:sp>
          <p:nvSpPr>
            <p:cNvPr id="126" name="Line 13"/>
            <p:cNvSpPr/>
            <p:nvPr/>
          </p:nvSpPr>
          <p:spPr>
            <a:xfrm flipH="1">
              <a:off x="323640" y="328464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H="1">
              <a:off x="396000" y="3284640"/>
              <a:ext cx="716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6"/>
          <p:cNvGrpSpPr/>
          <p:nvPr/>
        </p:nvGrpSpPr>
        <p:grpSpPr>
          <a:xfrm>
            <a:off x="755280" y="3284640"/>
            <a:ext cx="144000" cy="143640"/>
            <a:chOff x="755280" y="3284640"/>
            <a:chExt cx="144000" cy="143640"/>
          </a:xfrm>
        </p:grpSpPr>
        <p:sp>
          <p:nvSpPr>
            <p:cNvPr id="129" name="Line 17"/>
            <p:cNvSpPr/>
            <p:nvPr/>
          </p:nvSpPr>
          <p:spPr>
            <a:xfrm flipH="1">
              <a:off x="755280" y="328464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 flipH="1">
              <a:off x="827640" y="3284640"/>
              <a:ext cx="716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9"/>
          <p:cNvGrpSpPr/>
          <p:nvPr/>
        </p:nvGrpSpPr>
        <p:grpSpPr>
          <a:xfrm>
            <a:off x="1186920" y="3284640"/>
            <a:ext cx="144720" cy="143640"/>
            <a:chOff x="1186920" y="3284640"/>
            <a:chExt cx="144720" cy="143640"/>
          </a:xfrm>
        </p:grpSpPr>
        <p:sp>
          <p:nvSpPr>
            <p:cNvPr id="132" name="Line 20"/>
            <p:cNvSpPr/>
            <p:nvPr/>
          </p:nvSpPr>
          <p:spPr>
            <a:xfrm flipH="1">
              <a:off x="1186920" y="328464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 flipH="1">
              <a:off x="1259640" y="3284640"/>
              <a:ext cx="7200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2"/>
          <p:cNvGrpSpPr/>
          <p:nvPr/>
        </p:nvGrpSpPr>
        <p:grpSpPr>
          <a:xfrm>
            <a:off x="1618920" y="3284640"/>
            <a:ext cx="144000" cy="143640"/>
            <a:chOff x="1618920" y="3284640"/>
            <a:chExt cx="144000" cy="143640"/>
          </a:xfrm>
        </p:grpSpPr>
        <p:sp>
          <p:nvSpPr>
            <p:cNvPr id="135" name="Line 23"/>
            <p:cNvSpPr/>
            <p:nvPr/>
          </p:nvSpPr>
          <p:spPr>
            <a:xfrm flipH="1">
              <a:off x="1618920" y="328464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 flipH="1">
              <a:off x="1691280" y="3284640"/>
              <a:ext cx="716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&amp;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Object 2"/>
          <p:cNvGraphicFramePr/>
          <p:nvPr/>
        </p:nvGraphicFramePr>
        <p:xfrm>
          <a:off x="0" y="1844640"/>
          <a:ext cx="4400640" cy="33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44640"/>
                    <a:ext cx="440064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"/>
          <p:cNvGraphicFramePr/>
          <p:nvPr/>
        </p:nvGraphicFramePr>
        <p:xfrm>
          <a:off x="4427640" y="1776240"/>
          <a:ext cx="4484520" cy="341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7640" y="1776240"/>
                    <a:ext cx="448452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Object 4"/>
          <p:cNvGraphicFramePr/>
          <p:nvPr/>
        </p:nvGraphicFramePr>
        <p:xfrm>
          <a:off x="250920" y="1197000"/>
          <a:ext cx="2685960" cy="31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197000"/>
                    <a:ext cx="268596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227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Lazo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4"/>
          <a:stretch/>
        </p:blipFill>
        <p:spPr>
          <a:xfrm>
            <a:off x="7007400" y="476280"/>
            <a:ext cx="1885680" cy="5495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5"/>
          <a:stretch/>
        </p:blipFill>
        <p:spPr>
          <a:xfrm>
            <a:off x="3348000" y="1125360"/>
            <a:ext cx="3316320" cy="4050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6"/>
          <a:stretch/>
        </p:blipFill>
        <p:spPr>
          <a:xfrm>
            <a:off x="1403280" y="4437000"/>
            <a:ext cx="1268640" cy="19652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10-21T13:13:29Z</dcterms:modified>
  <cp:revision>50</cp:revision>
  <dc:subject/>
  <dc:title>EL63A-Taller de Proyecto en Control II</dc:title>
</cp:coreProperties>
</file>