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-3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65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6560"/>
            <a:ext cx="416088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B2FF9-D836-4A84-961E-9EEAE339D5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A7CA5-38F1-4E2C-AF0B-061F01A7A58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771FD-2879-4F5F-B772-3A3B3F63FB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1AECF-3FE5-4F37-B5D1-B0EAAE23FA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6887A-137E-42A1-A712-A3359B6D9C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0D7F1-6C30-43CD-A76C-B6C2D277E6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3A803-39CE-41BE-8BD9-B72FE8FF3F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438880" y="6946920"/>
            <a:ext cx="41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E4412-FC0F-4B87-A848-0FCFB5197A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58680" y="3474720"/>
            <a:ext cx="76838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A82-CC20-462F-A917-10399C1E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04A-92D1-4F5A-A1A5-2786238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9BA-72FB-47A9-ABF6-94B72F1E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7F0-463D-4E17-BE15-C6A86F68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03F-996F-4D60-8DC5-2463F522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221-B1AE-403D-B371-D00AA9AB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32F-1A53-43BC-8289-C9C09E25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316-307D-487F-8713-7050CD60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7CF-66C3-46B8-BAFC-3B2F7E4B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80F-7A1E-4AB3-ACF5-BAC0543B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F2A-AA18-4965-BCB9-D4A73BC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A8C-9FFB-4EFF-A607-B119C257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C543-C9F2-4F3A-A3EB-32AFF79533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mensionamiento de Válvulas d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2987640" y="1871640"/>
            <a:ext cx="6156360" cy="4044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 Cer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0" y="2530440"/>
            <a:ext cx="3203640" cy="27162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443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&amp;ID: Control en Casc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826920" y="1557360"/>
            <a:ext cx="7129800" cy="4127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ingenieria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6"/>
          <p:cNvSpPr/>
          <p:nvPr/>
        </p:nvSpPr>
        <p:spPr>
          <a:xfrm flipV="1">
            <a:off x="1547640" y="5373360"/>
            <a:ext cx="6226200" cy="9367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mentación: Sensores-Ac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7"/>
          <p:cNvSpPr/>
          <p:nvPr/>
        </p:nvSpPr>
        <p:spPr>
          <a:xfrm flipV="1">
            <a:off x="2157480" y="4365000"/>
            <a:ext cx="5040360" cy="93636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Regulator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zos estabilizantes,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8"/>
          <p:cNvSpPr/>
          <p:nvPr/>
        </p:nvSpPr>
        <p:spPr>
          <a:xfrm flipV="1">
            <a:off x="2733840" y="3357000"/>
            <a:ext cx="3854160" cy="93636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ivel Supervis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 Avanzado / Optimiz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Expe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9"/>
          <p:cNvSpPr/>
          <p:nvPr/>
        </p:nvSpPr>
        <p:spPr>
          <a:xfrm flipV="1">
            <a:off x="3309840" y="2349360"/>
            <a:ext cx="2668680" cy="9367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stema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0"/>
          <p:cNvSpPr/>
          <p:nvPr/>
        </p:nvSpPr>
        <p:spPr>
          <a:xfrm flipV="1">
            <a:off x="3843360" y="910080"/>
            <a:ext cx="1554120" cy="1366920"/>
          </a:xfrm>
          <a:prstGeom prst="pie">
            <a:avLst/>
          </a:prstGeom>
          <a:solidFill>
            <a:srgbClr val="fcf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1"/>
          <p:cNvSpPr/>
          <p:nvPr/>
        </p:nvSpPr>
        <p:spPr>
          <a:xfrm flipV="1">
            <a:off x="1581120" y="911160"/>
            <a:ext cx="3024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2"/>
          <p:cNvSpPr/>
          <p:nvPr/>
        </p:nvSpPr>
        <p:spPr>
          <a:xfrm>
            <a:off x="4605480" y="911160"/>
            <a:ext cx="3168360" cy="539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3"/>
          <p:cNvSpPr/>
          <p:nvPr/>
        </p:nvSpPr>
        <p:spPr>
          <a:xfrm>
            <a:off x="1581120" y="6310440"/>
            <a:ext cx="6226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4"/>
          <p:cNvSpPr/>
          <p:nvPr/>
        </p:nvSpPr>
        <p:spPr>
          <a:xfrm flipV="1">
            <a:off x="7956720" y="837720"/>
            <a:ext cx="0" cy="547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5"/>
          <p:cNvSpPr/>
          <p:nvPr/>
        </p:nvSpPr>
        <p:spPr>
          <a:xfrm rot="16200000">
            <a:off x="5410800" y="3243960"/>
            <a:ext cx="57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[ms], [s]          Escala de Tiempo         [días],[semana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539640" y="26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Jerarquí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ingenieria"/>
          <p:cNvPicPr/>
          <p:nvPr/>
        </p:nvPicPr>
        <p:blipFill>
          <a:blip r:embed="rId1"/>
          <a:stretch/>
        </p:blipFill>
        <p:spPr>
          <a:xfrm>
            <a:off x="0" y="6381720"/>
            <a:ext cx="4096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15"/>
          <p:cNvGraphicFramePr/>
          <p:nvPr/>
        </p:nvGraphicFramePr>
        <p:xfrm>
          <a:off x="4680" y="692280"/>
          <a:ext cx="9136080" cy="528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" y="692280"/>
                    <a:ext cx="9136080" cy="52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16"/>
          <p:cNvSpPr/>
          <p:nvPr/>
        </p:nvSpPr>
        <p:spPr>
          <a:xfrm>
            <a:off x="250920" y="1159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rquitectura de un Sistema de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50920" y="1031760"/>
            <a:ext cx="252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ciones de Ope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HMI-Sal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1908000" y="1247760"/>
            <a:ext cx="144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4572000" y="4775040"/>
            <a:ext cx="183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ciones de Ingeniería (Configur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4788000" y="31190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2482920" y="4199040"/>
            <a:ext cx="1728720" cy="1441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755640" y="3551400"/>
            <a:ext cx="1655640" cy="244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276720" y="55674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1476360" y="5999040"/>
            <a:ext cx="18003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539640" y="2327400"/>
            <a:ext cx="2303640" cy="93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6443640" y="3551400"/>
            <a:ext cx="1944720" cy="194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7020000" y="5567400"/>
            <a:ext cx="180000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abinete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xx-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R-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6000" y="-27360"/>
            <a:ext cx="6265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agramas de Proceso  e Instrumentación (P&amp;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2484360" y="170172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50920" y="1557360"/>
            <a:ext cx="208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or, Actuador, Indicador Loc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284720" y="1557360"/>
            <a:ext cx="33829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 (accesible al operado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ación en pantalla, Comando del operador, alarma en pantalla, cálcul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6"/>
          <p:cNvGrpSpPr/>
          <p:nvPr/>
        </p:nvGrpSpPr>
        <p:grpSpPr>
          <a:xfrm>
            <a:off x="7738920" y="1701720"/>
            <a:ext cx="1152360" cy="1150920"/>
            <a:chOff x="7738920" y="1701720"/>
            <a:chExt cx="1152360" cy="1150920"/>
          </a:xfrm>
        </p:grpSpPr>
        <p:sp>
          <p:nvSpPr>
            <p:cNvPr id="88" name="Rectangle 12"/>
            <p:cNvSpPr/>
            <p:nvPr/>
          </p:nvSpPr>
          <p:spPr>
            <a:xfrm>
              <a:off x="7738920" y="170172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3"/>
            <p:cNvSpPr/>
            <p:nvPr/>
          </p:nvSpPr>
          <p:spPr>
            <a:xfrm>
              <a:off x="7738920" y="170172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7738920" y="227664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21"/>
          <p:cNvSpPr/>
          <p:nvPr/>
        </p:nvSpPr>
        <p:spPr>
          <a:xfrm>
            <a:off x="4284720" y="3755880"/>
            <a:ext cx="33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Sistema de Control, No accecible al op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6"/>
          <p:cNvGrpSpPr/>
          <p:nvPr/>
        </p:nvGrpSpPr>
        <p:grpSpPr>
          <a:xfrm>
            <a:off x="7742160" y="3807000"/>
            <a:ext cx="1150920" cy="1150920"/>
            <a:chOff x="7742160" y="3807000"/>
            <a:chExt cx="1150920" cy="1150920"/>
          </a:xfrm>
        </p:grpSpPr>
        <p:sp>
          <p:nvSpPr>
            <p:cNvPr id="93" name="Rectangle 23"/>
            <p:cNvSpPr/>
            <p:nvPr/>
          </p:nvSpPr>
          <p:spPr>
            <a:xfrm>
              <a:off x="7742160" y="3807000"/>
              <a:ext cx="1150920" cy="115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4"/>
            <p:cNvSpPr/>
            <p:nvPr/>
          </p:nvSpPr>
          <p:spPr>
            <a:xfrm>
              <a:off x="7742160" y="3807000"/>
              <a:ext cx="1150920" cy="1150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YYY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27"/>
          <p:cNvSpPr/>
          <p:nvPr/>
        </p:nvSpPr>
        <p:spPr>
          <a:xfrm>
            <a:off x="2629080" y="357336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50920" y="35989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mento ubicado en Panel en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627280" y="416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2050920" y="508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n lógica: Control secu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4716360" y="5157720"/>
            <a:ext cx="1079640" cy="1079640"/>
            <a:chOff x="4716360" y="5157720"/>
            <a:chExt cx="1079640" cy="1079640"/>
          </a:xfrm>
        </p:grpSpPr>
        <p:sp>
          <p:nvSpPr>
            <p:cNvPr id="100" name="Rectangle 32"/>
            <p:cNvSpPr/>
            <p:nvPr/>
          </p:nvSpPr>
          <p:spPr>
            <a:xfrm>
              <a:off x="4716360" y="5157720"/>
              <a:ext cx="1079640" cy="10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4"/>
            <p:cNvSpPr/>
            <p:nvPr/>
          </p:nvSpPr>
          <p:spPr>
            <a:xfrm>
              <a:off x="4716360" y="5157720"/>
              <a:ext cx="1079640" cy="1079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0890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395280" y="141444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8000" y="386244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: Nº de lazo, en Gral. Todo lo asociado a una variable fís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539640" y="2278080"/>
            <a:ext cx="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771640" y="318960"/>
            <a:ext cx="63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: Descripción del Elemento (Norma ISA S5.1-S5.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ª Letra: Generalmente Variable física, p.ej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nálisis (pH, turbidez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: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Ni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: 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: Masa…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  Modificador d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: Dif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: Integ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ª’-3ª 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: Ala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: Elemento primario (sen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: In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: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: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: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: Interru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: Transm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: Válv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H="1">
            <a:off x="1331640" y="620640"/>
            <a:ext cx="136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3024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250920" y="981000"/>
            <a:ext cx="115092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Y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979640" y="98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195640" y="1628640"/>
            <a:ext cx="669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E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nsor de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T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Transmisor de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IC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trolador-Indicador de Análisis (p.ej.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Q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Integrador de flujo (Volu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DI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 de Pres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L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H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arma de Nivel Alto-Alto (muy al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SH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ruptor de Flujo 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V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álvula para regular flu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680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Señ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95640" y="162864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exión a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gital (Software - D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nda Electromagnética o Sónica Gu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ñal neu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0920" y="2276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50920" y="1916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250920" y="2557440"/>
            <a:ext cx="1800000" cy="15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216000" y="2852640"/>
            <a:ext cx="1908000" cy="142920"/>
          </a:xfrm>
          <a:prstGeom prst="rect">
            <a:avLst/>
          </a:prstGeom>
          <a:ln w="0">
            <a:noFill/>
          </a:ln>
        </p:spPr>
      </p:pic>
      <p:sp>
        <p:nvSpPr>
          <p:cNvPr id="124" name="Line 12"/>
          <p:cNvSpPr/>
          <p:nvPr/>
        </p:nvSpPr>
        <p:spPr>
          <a:xfrm>
            <a:off x="250920" y="3357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5"/>
          <p:cNvGrpSpPr/>
          <p:nvPr/>
        </p:nvGrpSpPr>
        <p:grpSpPr>
          <a:xfrm>
            <a:off x="323640" y="3284640"/>
            <a:ext cx="144000" cy="143640"/>
            <a:chOff x="323640" y="3284640"/>
            <a:chExt cx="144000" cy="143640"/>
          </a:xfrm>
        </p:grpSpPr>
        <p:sp>
          <p:nvSpPr>
            <p:cNvPr id="126" name="Line 13"/>
            <p:cNvSpPr/>
            <p:nvPr/>
          </p:nvSpPr>
          <p:spPr>
            <a:xfrm flipH="1">
              <a:off x="32364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 flipH="1">
              <a:off x="39600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755280" y="3284640"/>
            <a:ext cx="144000" cy="143640"/>
            <a:chOff x="755280" y="3284640"/>
            <a:chExt cx="144000" cy="143640"/>
          </a:xfrm>
        </p:grpSpPr>
        <p:sp>
          <p:nvSpPr>
            <p:cNvPr id="129" name="Line 17"/>
            <p:cNvSpPr/>
            <p:nvPr/>
          </p:nvSpPr>
          <p:spPr>
            <a:xfrm flipH="1">
              <a:off x="75528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 flipH="1">
              <a:off x="82764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1186920" y="3284640"/>
            <a:ext cx="144720" cy="143640"/>
            <a:chOff x="1186920" y="3284640"/>
            <a:chExt cx="144720" cy="143640"/>
          </a:xfrm>
        </p:grpSpPr>
        <p:sp>
          <p:nvSpPr>
            <p:cNvPr id="132" name="Line 20"/>
            <p:cNvSpPr/>
            <p:nvPr/>
          </p:nvSpPr>
          <p:spPr>
            <a:xfrm flipH="1">
              <a:off x="118692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 flipH="1">
              <a:off x="1259640" y="3284640"/>
              <a:ext cx="720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1618920" y="3284640"/>
            <a:ext cx="144000" cy="143640"/>
            <a:chOff x="1618920" y="3284640"/>
            <a:chExt cx="144000" cy="143640"/>
          </a:xfrm>
        </p:grpSpPr>
        <p:sp>
          <p:nvSpPr>
            <p:cNvPr id="135" name="Line 23"/>
            <p:cNvSpPr/>
            <p:nvPr/>
          </p:nvSpPr>
          <p:spPr>
            <a:xfrm flipH="1">
              <a:off x="1618920" y="3284640"/>
              <a:ext cx="7236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 flipH="1">
              <a:off x="1691280" y="3284640"/>
              <a:ext cx="716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&amp;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2"/>
          <p:cNvGraphicFramePr/>
          <p:nvPr/>
        </p:nvGraphicFramePr>
        <p:xfrm>
          <a:off x="0" y="1844640"/>
          <a:ext cx="4400640" cy="33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4640"/>
                    <a:ext cx="440064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4427640" y="1776240"/>
          <a:ext cx="4484520" cy="341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7640" y="1776240"/>
                    <a:ext cx="4484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ingenieria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Object 4"/>
          <p:cNvGraphicFramePr/>
          <p:nvPr/>
        </p:nvGraphicFramePr>
        <p:xfrm>
          <a:off x="250920" y="1197000"/>
          <a:ext cx="268596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2685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&amp;ID: Lazos si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4"/>
          <a:stretch/>
        </p:blipFill>
        <p:spPr>
          <a:xfrm>
            <a:off x="7007400" y="476280"/>
            <a:ext cx="1885680" cy="549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5"/>
          <a:stretch/>
        </p:blipFill>
        <p:spPr>
          <a:xfrm>
            <a:off x="3348000" y="1125360"/>
            <a:ext cx="3316320" cy="405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6"/>
          <a:stretch/>
        </p:blipFill>
        <p:spPr>
          <a:xfrm>
            <a:off x="1403280" y="4437000"/>
            <a:ext cx="1268640" cy="1965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10-21T13:13:29Z</dcterms:modified>
  <cp:revision>50</cp:revision>
  <dc:subject/>
  <dc:title>EL63A-Taller de Proyecto en Control II</dc:title>
</cp:coreProperties>
</file>