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05B-79DD-49D0-93B1-A4B2F07B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618-CB05-4C16-A9FD-0FE1162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999-6992-468C-854E-27B716A1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097-3FF1-4435-8629-8052ACA7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C58-197B-45AC-9144-21DC28A7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A6E-7926-44DB-B82A-8BFB07EA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EBA-2D96-41DE-B437-A2FD364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5B7-A423-456C-9417-7E0BB551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043-F05D-4742-BC82-9287BED7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C7E-99CA-4E91-96AD-28481803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8AF-69DC-4FB2-861E-7F44EC5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236-CFE8-41B6-889B-037CBB7C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9E37-5400-42FC-9CFA-5E37F77CCF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6T15:48:04Z</dcterms:modified>
  <cp:revision>14</cp:revision>
  <dc:subject/>
  <dc:title>EL63A-Taller de Proyecto en Control II</dc:title>
</cp:coreProperties>
</file>