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DEF-31CC-4AAA-A925-BE1C0E93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D4B-0504-4777-BE6A-066F2BCC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365-4F41-4855-8075-4EFE1DE7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789-C92D-4615-A215-5A7A0154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81B0-F398-47F5-9437-1CEE039B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D04-6B39-4B5D-9112-88540576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4DC-616F-4967-A813-099F899A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0C3-616B-40DA-A698-99A5DAE3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67C2-40E8-4B2A-93F1-D73ADEDE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AD0-D951-44BA-A1FA-1331AB31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1CD-84D1-4124-89A2-4E8A9BB6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B569-915C-49F6-8139-A96F78F8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5661-E306-4D07-B0D3-81461464C2E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53A Taller de Proyecto en Control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 de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apas de un proyecto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2200" y="2060640"/>
            <a:ext cx="172908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udio(s)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(pre)fac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052640"/>
            <a:ext cx="1908000" cy="863640"/>
          </a:xfrm>
          <a:prstGeom prst="cloudCallout">
            <a:avLst>
              <a:gd name="adj1" fmla="val -38851"/>
              <a:gd name="adj2" fmla="val 443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11640" y="2421000"/>
            <a:ext cx="287280" cy="287280"/>
          </a:xfrm>
          <a:prstGeom prst="diamond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50" idx="0"/>
            <a:endCxn id="49" idx="1"/>
          </p:cNvCxnSpPr>
          <p:nvPr/>
        </p:nvCxnSpPr>
        <p:spPr>
          <a:xfrm flipH="1" rot="16200000">
            <a:off x="492840" y="1836720"/>
            <a:ext cx="699120" cy="7592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9" idx="3"/>
            <a:endCxn id="51" idx="1"/>
          </p:cNvCxnSpPr>
          <p:nvPr/>
        </p:nvCxnSpPr>
        <p:spPr>
          <a:xfrm>
            <a:off x="2950920" y="256500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49" idx="2"/>
          </p:cNvCxnSpPr>
          <p:nvPr/>
        </p:nvCxnSpPr>
        <p:spPr>
          <a:xfrm rot="5400000">
            <a:off x="2590920" y="2203920"/>
            <a:ext cx="361080" cy="1369080"/>
          </a:xfrm>
          <a:prstGeom prst="bentConnector3">
            <a:avLst>
              <a:gd name="adj1" fmla="val 16337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951280" y="1484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1" idx="0"/>
            <a:endCxn id="55" idx="2"/>
          </p:cNvCxnSpPr>
          <p:nvPr/>
        </p:nvCxnSpPr>
        <p:spPr>
          <a:xfrm flipV="1">
            <a:off x="3455640" y="1915920"/>
            <a:ext cx="1080" cy="5054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886200" y="2349360"/>
            <a:ext cx="129528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1" idx="3"/>
            <a:endCxn id="57" idx="1"/>
          </p:cNvCxnSpPr>
          <p:nvPr/>
        </p:nvCxnSpPr>
        <p:spPr>
          <a:xfrm>
            <a:off x="3598920" y="256500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759280" y="191628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59280" y="227484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263700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59280" y="299556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7" idx="3"/>
            <a:endCxn id="59" idx="1"/>
          </p:cNvCxnSpPr>
          <p:nvPr/>
        </p:nvCxnSpPr>
        <p:spPr>
          <a:xfrm flipV="1">
            <a:off x="5181120" y="2060280"/>
            <a:ext cx="578520" cy="50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7" idx="3"/>
            <a:endCxn id="60" idx="1"/>
          </p:cNvCxnSpPr>
          <p:nvPr/>
        </p:nvCxnSpPr>
        <p:spPr>
          <a:xfrm flipV="1">
            <a:off x="5181120" y="2418840"/>
            <a:ext cx="578520" cy="1468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7" idx="3"/>
            <a:endCxn id="61" idx="1"/>
          </p:cNvCxnSpPr>
          <p:nvPr/>
        </p:nvCxnSpPr>
        <p:spPr>
          <a:xfrm>
            <a:off x="5181120" y="2565360"/>
            <a:ext cx="578520" cy="21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7" idx="3"/>
            <a:endCxn id="62" idx="1"/>
          </p:cNvCxnSpPr>
          <p:nvPr/>
        </p:nvCxnSpPr>
        <p:spPr>
          <a:xfrm>
            <a:off x="5181120" y="2565360"/>
            <a:ext cx="578520" cy="5752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7272360" y="2421000"/>
            <a:ext cx="144000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ju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85080" y="177336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6200" y="4724280"/>
            <a:ext cx="129708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30560" y="4724280"/>
            <a:ext cx="1224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38560" y="4005360"/>
            <a:ext cx="936720" cy="576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 En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14920" y="4724280"/>
            <a:ext cx="122364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4184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9928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67" idx="3"/>
            <a:endCxn id="69" idx="1"/>
          </p:cNvCxnSpPr>
          <p:nvPr/>
        </p:nvCxnSpPr>
        <p:spPr>
          <a:xfrm flipH="1">
            <a:off x="645840" y="2636640"/>
            <a:ext cx="8066880" cy="2448360"/>
          </a:xfrm>
          <a:prstGeom prst="bentConnector5">
            <a:avLst>
              <a:gd name="adj1" fmla="val -2829"/>
              <a:gd name="adj2" fmla="val 47014"/>
              <a:gd name="adj3" fmla="val 10282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9" idx="3"/>
            <a:endCxn id="70" idx="1"/>
          </p:cNvCxnSpPr>
          <p:nvPr/>
        </p:nvCxnSpPr>
        <p:spPr>
          <a:xfrm>
            <a:off x="194328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0" idx="3"/>
            <a:endCxn id="72" idx="1"/>
          </p:cNvCxnSpPr>
          <p:nvPr/>
        </p:nvCxnSpPr>
        <p:spPr>
          <a:xfrm>
            <a:off x="3454200" y="508428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0" idx="0"/>
            <a:endCxn id="71" idx="1"/>
          </p:cNvCxnSpPr>
          <p:nvPr/>
        </p:nvCxnSpPr>
        <p:spPr>
          <a:xfrm flipH="1" flipV="1" rot="5400000">
            <a:off x="2825640" y="4311000"/>
            <a:ext cx="430920" cy="39600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79" name=""/>
          <p:cNvCxnSpPr>
            <a:stCxn id="71" idx="3"/>
            <a:endCxn id="72" idx="0"/>
          </p:cNvCxnSpPr>
          <p:nvPr/>
        </p:nvCxnSpPr>
        <p:spPr>
          <a:xfrm>
            <a:off x="4174920" y="4293720"/>
            <a:ext cx="253080" cy="43092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616720" y="400536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 de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2" idx="3"/>
            <a:endCxn id="73" idx="1"/>
          </p:cNvCxnSpPr>
          <p:nvPr/>
        </p:nvCxnSpPr>
        <p:spPr>
          <a:xfrm>
            <a:off x="5038560" y="5084280"/>
            <a:ext cx="504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80" idx="1"/>
          </p:cNvCxnSpPr>
          <p:nvPr/>
        </p:nvCxnSpPr>
        <p:spPr>
          <a:xfrm flipV="1">
            <a:off x="5038560" y="4220280"/>
            <a:ext cx="578880" cy="864360"/>
          </a:xfrm>
          <a:prstGeom prst="bentConnector3">
            <a:avLst>
              <a:gd name="adj1" fmla="val 49968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3" idx="3"/>
            <a:endCxn id="74" idx="1"/>
          </p:cNvCxnSpPr>
          <p:nvPr/>
        </p:nvCxnSpPr>
        <p:spPr>
          <a:xfrm>
            <a:off x="691200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33744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5016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16720" y="587700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érmino (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4" idx="3"/>
            <a:endCxn id="86" idx="0"/>
          </p:cNvCxnSpPr>
          <p:nvPr/>
        </p:nvCxnSpPr>
        <p:spPr>
          <a:xfrm flipH="1">
            <a:off x="6876360" y="5084280"/>
            <a:ext cx="1693080" cy="793080"/>
          </a:xfrm>
          <a:prstGeom prst="bentConnector4">
            <a:avLst>
              <a:gd name="adj1" fmla="val -13504"/>
              <a:gd name="adj2" fmla="val 7270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s de Proyecto Según Ejecu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Ingeniería Propi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Ingeniería llave en mano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Ingeniería por Administración Delegada(*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Ingeniería por Administración Controla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8000" y="260280"/>
          <a:ext cx="8856720" cy="53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885672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pos de Contrato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ios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Suma alzad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Precio unitario por hora efectiv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Precio unitario por hora efectiva (máximo garantizado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Costos directos y suma alzada de gastos gener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rminología Contractual - Leg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484280"/>
            <a:ext cx="575928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ases de la propuest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trat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abier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direc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arant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ados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as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iciación de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rden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16T15:48:04Z</dcterms:modified>
  <cp:revision>14</cp:revision>
  <dc:subject/>
  <dc:title>EL63A-Taller de Proyecto en Control II</dc:title>
</cp:coreProperties>
</file>