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CC2-4D48-4836-8B58-DBD2F4BA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099-860C-448D-B016-0772C383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5BB-C3EA-4190-A23E-DACB094E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D9A-2CFC-4089-B60C-76F3706D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22B-1D47-437B-AC5A-5FCD0679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2AD-CE16-4CA9-A672-0E10071F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75D-1D22-4DE2-BF10-057C597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661-70FB-4764-A7CD-A4AB70D3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DBA-E2EA-4FA1-8355-A103C0BA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3FF-FFF8-4A25-957A-F609835F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E6D-809C-474D-9CCC-3B5BE68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209-BB65-46FC-B1F3-C3ED1E9A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0FD1-F53D-469F-A692-617FC71606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6T15:48:04Z</dcterms:modified>
  <cp:revision>14</cp:revision>
  <dc:subject/>
  <dc:title>EL63A-Taller de Proyecto en Control II</dc:title>
</cp:coreProperties>
</file>