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C34-7E5E-42A5-B2E6-21BC510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906-7154-49D7-A51F-A097E82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F2-9910-4E10-8B63-4A5E263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68D-9C0B-4D63-B9A2-527D36BC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888-E4DF-46F3-8D93-CBD442A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F11-FB53-4070-BEFA-1905A6E2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561-FD7D-4C49-95B0-BE09139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29F-04A8-4E6A-95CD-FDECE385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370-A158-4793-9D4E-A0D08D4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EA6-0CA4-4791-B7BF-A10A93D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467-617C-49B8-9CE1-A049EF36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197-7728-46CF-8C2A-77D187E8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7A3-737F-41EF-87AF-1C78E7EFA7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6T15:48:04Z</dcterms:modified>
  <cp:revision>14</cp:revision>
  <dc:subject/>
  <dc:title>EL63A-Taller de Proyecto en Control II</dc:title>
</cp:coreProperties>
</file>