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DD5-6575-4AF5-906A-ADD2608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41F-7CBD-4678-AF3F-3CA29A3A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48C-09C4-4D10-A1AF-6CAB7E36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CC7-6E54-48E8-97E1-CFEC49D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5EC-445A-4139-A2BA-0A66C3B8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DFF-C8D3-44DE-A35A-10024FD4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15D-99EF-4978-B08B-071BFCE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763-D6BD-4BA7-91C6-658AB06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190-D851-4C20-B6B0-3CFA89B8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DDB-F401-4077-B0C0-F84F5AC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7DA-36C9-43D8-AB4B-9064EDE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228-F811-43D3-9D19-349AE5A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460-7184-4C86-BD28-3FB6FFE7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riterios de Diseño de Automatización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Sistem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de instrumentación suministrada con equipos mecá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equip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instrumentos (asignación de Tags, norma ISA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cable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finen unidades de medid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instrumentos a utilizar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odos de operación (Local/Remoto, Manual/automático/Mantención, etc.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t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Normas y políticas a ut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LCANCE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NDICIONES GENERALES, CODIGOS Y NORM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FINICIONES E IDENTIFIC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RUMENT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CONDICIONAMIENTO DE SAL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ALACIONES DE TERREN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8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ÑALES Y UNIDADES DE 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osofía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645000"/>
            <a:ext cx="806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 ALCANCE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 DESCRIPCION DEL CONTROL  DE  LA  PLANT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 ESTRUCTURA DEL 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 CRITERIOS DE OPERAC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844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clavamient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álculos de variables indirectas, índices de desempeñ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ango de variables y niveles de ala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565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imes New Roman"/>
              </a:rPr>
              <a:t>Objetivos, alcance del suministro, normas generales de diseño y construcción, inspección y pruebas, garantías técnicas, documentos y planos, condiciones de embalaje e información requerida en l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0 SCOPE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0 DESIGN REQUIREMENT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0 SYSTEM TECHNICAL DESCRIPTION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0 PROCESS CONTROL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0 CONTROL SYSTEM COMMUNIC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.0 OPERATOR AND ENGINEERING WORK ST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0 CABINETS AND CONSOL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.0 WIRING AND CABL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.0 CONFIGURATION AND PROGRAMM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.0 QUALITY ASSURANCE, INSPECTION AND TEST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.0 SHIPPING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Instrument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inistrada con equipos mecá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02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0 GENERAL (identification, norms, nemas, documentation, etc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0 TECHNICAL REQUIREMENT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0 PLC BASED SYSTEM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0 CONTROL PANEL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0 DOCUMENT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0  CALIBR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0  INSTRUMENT LOOP/SYSTEM FUNCTIONAL CHECK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pendix C: INSTRUMENT PREFERENTIAL BRAND 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ros 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Estimación de costos (cubicaciones)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preliminar de equip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instrumentos preliminar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I/O prelimin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ado de Entrada/Salida (I/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8875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4581360"/>
            <a:ext cx="136836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052640"/>
            <a:ext cx="511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Visitas a Terreno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Supervisión/coordinación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Programación y Av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1123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1197000"/>
            <a:ext cx="608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riterios de Diseño de Automatización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Especificación Sistema de Control •Especificación de instrumentación •Estimación de costos (cubicaciones)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preliminar de equip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instrumentos preliminar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I/O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125360"/>
            <a:ext cx="215640" cy="489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32"/>
                </a:lnTo>
                <a:cubicBezTo>
                  <a:pt x="10800" y="10832"/>
                  <a:pt x="5400" y="11732"/>
                  <a:pt x="0" y="11732"/>
                </a:cubicBezTo>
                <a:cubicBezTo>
                  <a:pt x="5400" y="11732"/>
                  <a:pt x="10800" y="12632"/>
                  <a:pt x="10800" y="135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508640"/>
            <a:ext cx="601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rquitectura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yout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P&amp;ID’s instrumentad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sposición de salas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797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59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Programación y Av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05000"/>
            <a:ext cx="49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artas Gantt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Curva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371808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gráfica para informar del avance acumulad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06064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de programa de actividades en ba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4T14:11:53Z</dcterms:modified>
  <cp:revision>20</cp:revision>
  <dc:subject/>
  <dc:title>EL63A-Taller de Proyecto en Control II</dc:title>
</cp:coreProperties>
</file>