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FC8-139C-417A-94E9-20E6D497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B39-D5BD-4A6B-A287-EB8584C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621-2529-46F4-BD5B-02452C89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35E-F501-4548-9B03-DF6C433B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365-4846-4542-9C19-9BB4BC56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1A9-F3AF-446B-B192-D454EA1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F72-AEDF-4EE0-B802-AD31C009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866-125F-4BD5-BD41-4B5D9DA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844-B4FC-4BF8-B7F7-A17A6AD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B4E-B1DE-4F19-9236-E2FA914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022-25B6-4558-B836-8D88DAA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17F-E92D-465D-A61D-FDD5E11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8DD-6257-458A-B324-635F92F6B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riterios de Diseño de Automatización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Sistem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de instrumentación suministrada con equipos mecá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equip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instrumentos (asignación de Tags, norma ISA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cable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finen unidades de medid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instrumentos a utilizar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odos de operación (Local/Remoto, Manual/automático/Mantención, etc.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t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Normas y políticas a ut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LCANCE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NDICIONES GENERALES, CODIGOS Y NORM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FINICIONES E IDENTIFIC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RUMENT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CONDICIONAMIENTO DE SAL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ALACIONES DE TERREN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8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ÑALES Y UNIDADES DE 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osofía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645000"/>
            <a:ext cx="806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 ALCANCE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 DESCRIPCION DEL CONTROL  DE  LA  PLANT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 ESTRUCTURA DEL 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 CRITERIOS DE OPERAC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844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clavamient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álculos de variables indirectas, índices de desempeñ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ango de variables y niveles de ala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565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imes New Roman"/>
              </a:rPr>
              <a:t>Objetivos, alcance del suministro, normas generales de diseño y construcción, inspección y pruebas, garantías técnicas, documentos y planos, condiciones de embalaje e información requerida en l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0 SCOPE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0 DESIGN REQUIREMENT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0 SYSTEM TECHNICAL DESCRIPTION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0 PROCESS CONTROL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0 CONTROL SYSTEM COMMUNIC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.0 OPERATOR AND ENGINEERING WORK ST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0 CABINETS AND CONSOL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.0 WIRING AND CABL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.0 CONFIGURATION AND PROGRAMM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.0 QUALITY ASSURANCE, INSPECTION AND TEST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.0 SHIPPING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Instrument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inistrada con equipos mecá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02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0 GENERAL (identification, norms, nemas, documentation, etc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0 TECHNICAL REQUIREMENT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0 PLC BASED SYSTEM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0 CONTROL PANEL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0 DOCUMENT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0  CALIBR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0  INSTRUMENT LOOP/SYSTEM FUNCTIONAL CHECK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pendix C: INSTRUMENT PREFERENTIAL BRAND 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ros 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Estimación de costos (cubicaciones)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preliminar de equip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instrumentos preliminar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I/O prelimin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ado de Entrada/Salida (I/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8875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4581360"/>
            <a:ext cx="136836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052640"/>
            <a:ext cx="511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Visitas a Terreno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Supervisión/coordinación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Programación y Av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1123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1197000"/>
            <a:ext cx="608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riterios de Diseño de Automatización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Especificación Sistema de Control •Especificación de instrumentación •Estimación de costos (cubicaciones)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preliminar de equip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instrumentos preliminar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I/O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125360"/>
            <a:ext cx="215640" cy="489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32"/>
                </a:lnTo>
                <a:cubicBezTo>
                  <a:pt x="10800" y="10832"/>
                  <a:pt x="5400" y="11732"/>
                  <a:pt x="0" y="11732"/>
                </a:cubicBezTo>
                <a:cubicBezTo>
                  <a:pt x="5400" y="11732"/>
                  <a:pt x="10800" y="12632"/>
                  <a:pt x="10800" y="135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508640"/>
            <a:ext cx="601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rquitectura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yout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P&amp;ID’s instrumentad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sposición de salas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797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59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Programación y Av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05000"/>
            <a:ext cx="49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artas Gantt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Curva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371808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gráfica para informar del avance acumulad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06064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de programa de actividades en ba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4T14:11:53Z</dcterms:modified>
  <cp:revision>20</cp:revision>
  <dc:subject/>
  <dc:title>EL63A-Taller de Proyecto en Control II</dc:title>
</cp:coreProperties>
</file>