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9D5-2934-4216-A070-50C2B342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C9D-D43C-4FFF-AA52-A71CD656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2A0-A585-4D0D-B793-FC53BA90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A71-7493-4A41-A7FE-172E31F7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0B7-06D4-4E49-A0D7-FB227B08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78D-398A-4473-B03E-CC7C74B0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A7A-2653-4B62-B4E3-E7A625A4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0DC-ACDE-4171-8607-E8091CB3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B85-0B80-4E86-92C5-57B65039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1E3-F911-4DF3-ABD4-A79DE973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EB8-3BAE-42EF-B557-2FB3BF25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DF7-44B8-4E8B-9E84-14BE4B0A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CA3F-8683-4380-8113-EE3AF9D26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cument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Criterios de Diseño de Automatización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Filosofía de Control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Especificación Sistema de Control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Especificación de instrumentación suministrada con equipos mecá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o de Diseño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equipo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instrumentos (asignación de Tags, norma ISA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cable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 definen unidades de medida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Tipos de instrumentos a utilizar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Modos de operación (Local/Remoto, Manual/automático/Mantención, etc.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tc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052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Normas y políticas a uti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o de Diseño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LCANCE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ONDICIONES GENERALES, CODIGOS Y NORM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FINICIONES E IDENTIFICAC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ISTEM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5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NSTRUMENTAC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CONDICIONAMIENTO DE SAL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7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NSTALACIONES DE TERRENO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8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ÑALES Y UNIDADES DE MED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052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osofía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645000"/>
            <a:ext cx="8064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 ALCANCE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 DESCRIPCION DEL CONTROL  DE  LA  PLANTA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 ESTRUCTURA DEL SISTEM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 CRITERIOS DE OPERAC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14172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844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Tipos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nclavamiento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álculos de variables indirectas, índices de desempeño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ango de variables y niveles de ala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del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256536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imes New Roman"/>
              </a:rPr>
              <a:t>Objetivos, alcance del suministro, normas generales de diseño y construcción, inspección y pruebas, garantías técnicas, documentos y planos, condiciones de embalaje e información requerida en la of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del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.0 SCOPE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.0 DESIGN REQUIREMENT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.0 SYSTEM TECHNICAL DESCRIPTION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.0 PROCESS CONTROL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.0 CONTROL SYSTEM COMMUNICATION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6.0 OPERATOR AND ENGINEERING WORK STATION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.0 CABINETS AND CONSOL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.0 WIRING AND CABL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.0 CONFIGURATION AND PROGRAMM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.0 QUALITY ASSURANCE, INSPECTION AND TEST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1.0 SHIPPING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Instrumenta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ministrada con equipos mecá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0208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0 GENERAL (identification, norms, nemas, documentation, etc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0 TECHNICAL REQUIREMENT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0 PLC BASED SYSTEM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0 CONTROL PANEL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5.0 DOCUMENTAT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6.0  CALIBRAT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7.0  INSTRUMENT LOOP/SYSTEM FUNCTIONAL CHECK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ppendix C: INSTRUMENT PREFERENTIAL BRAND LIS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ros Document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Estimación de costos (cubicaciones)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preliminar de equipos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equipos y materiales.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especificaciones técnicas y planos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instrumentos preliminar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I/O preliminar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stado de Entrada/Salida (I/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9280" y="1414440"/>
            <a:ext cx="8875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4581360"/>
            <a:ext cx="1368360" cy="100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052640"/>
            <a:ext cx="5113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Visitas a Terreno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Supervisión/coordinación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Programación y Av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7640" y="11239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92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5640" y="1197000"/>
            <a:ext cx="608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riterios de Diseño de Automatización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Filosofí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Especificación Sistema de Control •Especificación de instrumentación •Estimación de costos (cubicaciones)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preliminar de equip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equipos y material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especificaciones técnicas y plan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instrumentos preliminar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I/O prelimi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1125360"/>
            <a:ext cx="215640" cy="489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932"/>
                </a:lnTo>
                <a:cubicBezTo>
                  <a:pt x="10800" y="10832"/>
                  <a:pt x="5400" y="11732"/>
                  <a:pt x="0" y="11732"/>
                </a:cubicBezTo>
                <a:cubicBezTo>
                  <a:pt x="5400" y="11732"/>
                  <a:pt x="10800" y="12632"/>
                  <a:pt x="10800" y="135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508640"/>
            <a:ext cx="601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rquitectura del sistema de control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yout del sistema de control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P&amp;ID’s instrumentad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sposición de salas de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4797360"/>
            <a:ext cx="215640" cy="1511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1"/>
                </a:lnTo>
                <a:cubicBezTo>
                  <a:pt x="10800" y="9741"/>
                  <a:pt x="5400" y="10641"/>
                  <a:pt x="0" y="10641"/>
                </a:cubicBezTo>
                <a:cubicBezTo>
                  <a:pt x="5400" y="10641"/>
                  <a:pt x="10800" y="11541"/>
                  <a:pt x="10800" y="1244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41360"/>
            <a:ext cx="5940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600" spc="-1" strike="noStrike">
                <a:solidFill>
                  <a:srgbClr val="0033cc"/>
                </a:solidFill>
                <a:latin typeface="Times New Roman"/>
              </a:rPr>
              <a:t>Programación y Ava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205000"/>
            <a:ext cx="4969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 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Cartas Gantt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 Curva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6000" y="3718080"/>
            <a:ext cx="529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epresentación gráfica para informar del avance acumulado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060640"/>
            <a:ext cx="529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epresentación de programa de actividades en bar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12536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360" y="357336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4720" y="3240"/>
            <a:ext cx="838836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4T14:11:53Z</dcterms:modified>
  <cp:revision>20</cp:revision>
  <dc:subject/>
  <dc:title>EL63A-Taller de Proyecto en Control II</dc:title>
</cp:coreProperties>
</file>