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7AC-4F86-4502-83EF-2CF3F941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5CD-C096-4359-90AB-184A18B8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548-1F46-48FC-898B-B3116EE2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F18-E761-49B3-90E3-546AE731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EF0-9636-4F82-AD5E-E638575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0C0-110F-49FC-AADC-58C4829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579-4BDF-4318-883D-A5D1C646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AEA-066E-4636-B1F2-AD2D7ADB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42A-351B-4B9D-ACB7-96D15675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AD4-58AA-4F97-AFB4-8E5C1A7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BC5-F62F-4740-AD96-E8FDF262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C2B-747C-4E2A-BA45-BF001461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787-9F42-4D1B-BD2E-2E0CA4B4C6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53A Taller de Proyecto en Contro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32000" y="1940040"/>
            <a:ext cx="6012000" cy="3949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3132000" cy="265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1547640" y="5373360"/>
            <a:ext cx="6226200" cy="936720"/>
          </a:xfrm>
          <a:custGeom>
            <a:avLst/>
            <a:gdLst>
              <a:gd name="textAreaLeft" fmla="*/ 821160 w 6226200"/>
              <a:gd name="textAreaRight" fmla="*/ 5405040 w 6226200"/>
              <a:gd name="textAreaTop" fmla="*/ 123480 h 936720"/>
              <a:gd name="textAreaBottom" fmla="*/ 8132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2" y="21600"/>
                </a:lnTo>
                <a:lnTo>
                  <a:pt x="197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57480" y="4365000"/>
            <a:ext cx="5040360" cy="936360"/>
          </a:xfrm>
          <a:custGeom>
            <a:avLst/>
            <a:gdLst>
              <a:gd name="textAreaLeft" fmla="*/ 698400 w 5040360"/>
              <a:gd name="textAreaRight" fmla="*/ 4341960 w 5040360"/>
              <a:gd name="textAreaTop" fmla="*/ 129600 h 936360"/>
              <a:gd name="textAreaBottom" fmla="*/ 806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62" y="21600"/>
                </a:lnTo>
                <a:lnTo>
                  <a:pt x="223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33840" y="3357000"/>
            <a:ext cx="3854160" cy="936360"/>
          </a:xfrm>
          <a:custGeom>
            <a:avLst/>
            <a:gdLst>
              <a:gd name="textAreaLeft" fmla="*/ 607680 w 3854160"/>
              <a:gd name="textAreaRight" fmla="*/ 3246480 w 3854160"/>
              <a:gd name="textAreaTop" fmla="*/ 147600 h 936360"/>
              <a:gd name="textAreaBottom" fmla="*/ 788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20" y="21600"/>
                </a:lnTo>
                <a:lnTo>
                  <a:pt x="298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09840" y="2349360"/>
            <a:ext cx="2668680" cy="936720"/>
          </a:xfrm>
          <a:custGeom>
            <a:avLst/>
            <a:gdLst>
              <a:gd name="textAreaLeft" fmla="*/ 501840 w 2668680"/>
              <a:gd name="textAreaRight" fmla="*/ 2166840 w 2668680"/>
              <a:gd name="textAreaTop" fmla="*/ 176040 h 936720"/>
              <a:gd name="textAreaBottom" fmla="*/ 7606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7" y="21600"/>
                </a:lnTo>
                <a:lnTo>
                  <a:pt x="4163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3360" y="910080"/>
            <a:ext cx="1554120" cy="1366920"/>
          </a:xfrm>
          <a:custGeom>
            <a:avLst/>
            <a:gdLst>
              <a:gd name="textAreaLeft" fmla="*/ 557640 w 1554120"/>
              <a:gd name="textAreaRight" fmla="*/ 996480 w 1554120"/>
              <a:gd name="textAreaTop" fmla="*/ 490320 h 1366920"/>
              <a:gd name="textAreaBottom" fmla="*/ 876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4560" y="1265760"/>
            <a:ext cx="6688080" cy="12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Arquitectura del sistema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1916280"/>
          <a:ext cx="272880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272880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780000" y="2060640"/>
            <a:ext cx="506412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91628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25639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22035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2560" y="2844720"/>
            <a:ext cx="1800360" cy="15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640" y="3139920"/>
            <a:ext cx="1908360" cy="14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2560" y="36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5280" y="3571920"/>
            <a:ext cx="144000" cy="143640"/>
            <a:chOff x="755280" y="3571920"/>
            <a:chExt cx="144000" cy="143640"/>
          </a:xfrm>
        </p:grpSpPr>
        <p:sp>
          <p:nvSpPr>
            <p:cNvPr id="133" name=""/>
            <p:cNvSpPr/>
            <p:nvPr/>
          </p:nvSpPr>
          <p:spPr>
            <a:xfrm flipH="1">
              <a:off x="75528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2764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86920" y="3571920"/>
            <a:ext cx="144720" cy="143640"/>
            <a:chOff x="1186920" y="3571920"/>
            <a:chExt cx="144720" cy="143640"/>
          </a:xfrm>
        </p:grpSpPr>
        <p:sp>
          <p:nvSpPr>
            <p:cNvPr id="136" name=""/>
            <p:cNvSpPr/>
            <p:nvPr/>
          </p:nvSpPr>
          <p:spPr>
            <a:xfrm flipH="1">
              <a:off x="1186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964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18920" y="3571920"/>
            <a:ext cx="144000" cy="143640"/>
            <a:chOff x="1618920" y="3571920"/>
            <a:chExt cx="144000" cy="143640"/>
          </a:xfrm>
        </p:grpSpPr>
        <p:sp>
          <p:nvSpPr>
            <p:cNvPr id="139" name=""/>
            <p:cNvSpPr/>
            <p:nvPr/>
          </p:nvSpPr>
          <p:spPr>
            <a:xfrm flipH="1">
              <a:off x="1618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69128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50560" y="3571920"/>
            <a:ext cx="144720" cy="143640"/>
            <a:chOff x="2050560" y="3571920"/>
            <a:chExt cx="144720" cy="143640"/>
          </a:xfrm>
        </p:grpSpPr>
        <p:sp>
          <p:nvSpPr>
            <p:cNvPr id="142" name=""/>
            <p:cNvSpPr/>
            <p:nvPr/>
          </p:nvSpPr>
          <p:spPr>
            <a:xfrm flipH="1">
              <a:off x="205056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12328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2T20:13:08Z</dcterms:modified>
  <cp:revision>59</cp:revision>
  <dc:subject/>
  <dc:title>EL63A-Taller de Proyecto en Control II</dc:title>
</cp:coreProperties>
</file>