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859-C3D7-4318-9E9B-06798AB5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75D-9BFD-41E4-88D5-1E07EDF0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692-C4B0-4CC4-AB69-87164C6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EF8-91C2-490C-9141-EF09AF2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B16-578F-4CC2-8B59-39B9BB5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FD2-DE3C-4FA1-9636-BAC3E9A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C95-0F62-4F7B-B511-A438B6B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737-7E89-4596-8F69-81D3421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0A9-3DD8-4682-B4D9-705EEA5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0F8-B604-4824-AFF9-4014234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C25-2AF5-4BB5-AF68-1522382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B6A-2DE6-42AB-9539-E1CAB8C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C7F-E906-4EB9-A7E9-DEF84ED0F2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53A Taller de Proyecto en Contro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32000" y="1940040"/>
            <a:ext cx="6012000" cy="3949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3132000" cy="265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547640" y="5373360"/>
            <a:ext cx="6226200" cy="936720"/>
          </a:xfrm>
          <a:custGeom>
            <a:avLst/>
            <a:gdLst>
              <a:gd name="textAreaLeft" fmla="*/ 821160 w 6226200"/>
              <a:gd name="textAreaRight" fmla="*/ 5405040 w 6226200"/>
              <a:gd name="textAreaTop" fmla="*/ 123480 h 936720"/>
              <a:gd name="textAreaBottom" fmla="*/ 813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2" y="21600"/>
                </a:lnTo>
                <a:lnTo>
                  <a:pt x="197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57480" y="4365000"/>
            <a:ext cx="5040360" cy="936360"/>
          </a:xfrm>
          <a:custGeom>
            <a:avLst/>
            <a:gdLst>
              <a:gd name="textAreaLeft" fmla="*/ 698400 w 5040360"/>
              <a:gd name="textAreaRight" fmla="*/ 4341960 w 5040360"/>
              <a:gd name="textAreaTop" fmla="*/ 129600 h 936360"/>
              <a:gd name="textAreaBottom" fmla="*/ 806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62" y="21600"/>
                </a:lnTo>
                <a:lnTo>
                  <a:pt x="223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33840" y="3357000"/>
            <a:ext cx="3854160" cy="936360"/>
          </a:xfrm>
          <a:custGeom>
            <a:avLst/>
            <a:gdLst>
              <a:gd name="textAreaLeft" fmla="*/ 607680 w 3854160"/>
              <a:gd name="textAreaRight" fmla="*/ 3246480 w 3854160"/>
              <a:gd name="textAreaTop" fmla="*/ 147600 h 936360"/>
              <a:gd name="textAreaBottom" fmla="*/ 788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20" y="21600"/>
                </a:lnTo>
                <a:lnTo>
                  <a:pt x="298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09840" y="2349360"/>
            <a:ext cx="2668680" cy="936720"/>
          </a:xfrm>
          <a:custGeom>
            <a:avLst/>
            <a:gdLst>
              <a:gd name="textAreaLeft" fmla="*/ 501840 w 2668680"/>
              <a:gd name="textAreaRight" fmla="*/ 2166840 w 2668680"/>
              <a:gd name="textAreaTop" fmla="*/ 176040 h 936720"/>
              <a:gd name="textAreaBottom" fmla="*/ 7606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7" y="21600"/>
                </a:lnTo>
                <a:lnTo>
                  <a:pt x="4163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3360" y="910080"/>
            <a:ext cx="1554120" cy="1366920"/>
          </a:xfrm>
          <a:custGeom>
            <a:avLst/>
            <a:gdLst>
              <a:gd name="textAreaLeft" fmla="*/ 557640 w 1554120"/>
              <a:gd name="textAreaRight" fmla="*/ 996480 w 1554120"/>
              <a:gd name="textAreaTop" fmla="*/ 490320 h 1366920"/>
              <a:gd name="textAreaBottom" fmla="*/ 876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4560" y="1265760"/>
            <a:ext cx="668808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Arquitectura del sistema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916280"/>
          <a:ext cx="272880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27288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506412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91628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563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2203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2560" y="2844720"/>
            <a:ext cx="1800360" cy="15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640" y="3139920"/>
            <a:ext cx="1908360" cy="14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56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280" y="3571920"/>
            <a:ext cx="144000" cy="143640"/>
            <a:chOff x="755280" y="3571920"/>
            <a:chExt cx="144000" cy="143640"/>
          </a:xfrm>
        </p:grpSpPr>
        <p:sp>
          <p:nvSpPr>
            <p:cNvPr id="133" name=""/>
            <p:cNvSpPr/>
            <p:nvPr/>
          </p:nvSpPr>
          <p:spPr>
            <a:xfrm flipH="1">
              <a:off x="75528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2764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86920" y="3571920"/>
            <a:ext cx="144720" cy="143640"/>
            <a:chOff x="1186920" y="3571920"/>
            <a:chExt cx="144720" cy="143640"/>
          </a:xfrm>
        </p:grpSpPr>
        <p:sp>
          <p:nvSpPr>
            <p:cNvPr id="136" name=""/>
            <p:cNvSpPr/>
            <p:nvPr/>
          </p:nvSpPr>
          <p:spPr>
            <a:xfrm flipH="1">
              <a:off x="1186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964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18920" y="3571920"/>
            <a:ext cx="144000" cy="143640"/>
            <a:chOff x="1618920" y="3571920"/>
            <a:chExt cx="144000" cy="143640"/>
          </a:xfrm>
        </p:grpSpPr>
        <p:sp>
          <p:nvSpPr>
            <p:cNvPr id="139" name=""/>
            <p:cNvSpPr/>
            <p:nvPr/>
          </p:nvSpPr>
          <p:spPr>
            <a:xfrm flipH="1">
              <a:off x="1618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69128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50560" y="3571920"/>
            <a:ext cx="144720" cy="143640"/>
            <a:chOff x="2050560" y="3571920"/>
            <a:chExt cx="144720" cy="143640"/>
          </a:xfrm>
        </p:grpSpPr>
        <p:sp>
          <p:nvSpPr>
            <p:cNvPr id="142" name=""/>
            <p:cNvSpPr/>
            <p:nvPr/>
          </p:nvSpPr>
          <p:spPr>
            <a:xfrm flipH="1">
              <a:off x="205056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328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2T20:13:08Z</dcterms:modified>
  <cp:revision>59</cp:revision>
  <dc:subject/>
  <dc:title>EL63A-Taller de Proyecto en Control II</dc:title>
</cp:coreProperties>
</file>