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0E3-B11B-480C-918A-808536B8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2F4-035B-4187-A039-D5B77F6E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EA2-062E-453C-997E-C050FF3F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F68-EEFD-4FD9-8BF2-1CF1CBD1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BF9-A746-48EC-9066-85DC1E68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DED-A1B4-475D-A071-DDD25C63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D7C-CC36-418B-907A-47B23D3A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101-C4B0-4F1D-A970-0A9C8D92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FE2-9F72-4D3D-8C51-52600A73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1FF-1A74-423C-A308-6A4F590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D15-3F2E-400E-A86D-A183140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D77-14DD-41DF-83A8-D951365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F54-260B-43CA-A77D-798BE9284B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53A Taller de Proyecto en Contro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50920" y="1197000"/>
          <a:ext cx="268596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685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07400" y="476280"/>
            <a:ext cx="1885680" cy="5495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348000" y="1125360"/>
            <a:ext cx="3316320" cy="405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1268640" cy="1965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32000" y="1940040"/>
            <a:ext cx="6012000" cy="3949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 Cer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3132000" cy="265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&amp;ID: Control en Cas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1557360"/>
            <a:ext cx="7129800" cy="412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1547640" y="5373360"/>
            <a:ext cx="6226200" cy="936720"/>
          </a:xfrm>
          <a:custGeom>
            <a:avLst/>
            <a:gdLst>
              <a:gd name="textAreaLeft" fmla="*/ 821160 w 6226200"/>
              <a:gd name="textAreaRight" fmla="*/ 5405040 w 6226200"/>
              <a:gd name="textAreaTop" fmla="*/ 123480 h 936720"/>
              <a:gd name="textAreaBottom" fmla="*/ 8132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2" y="21600"/>
                </a:lnTo>
                <a:lnTo>
                  <a:pt x="197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mentación: Sensores-Ac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57480" y="4365000"/>
            <a:ext cx="5040360" cy="936360"/>
          </a:xfrm>
          <a:custGeom>
            <a:avLst/>
            <a:gdLst>
              <a:gd name="textAreaLeft" fmla="*/ 698400 w 5040360"/>
              <a:gd name="textAreaRight" fmla="*/ 4341960 w 5040360"/>
              <a:gd name="textAreaTop" fmla="*/ 129600 h 936360"/>
              <a:gd name="textAreaBottom" fmla="*/ 806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62" y="21600"/>
                </a:lnTo>
                <a:lnTo>
                  <a:pt x="223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ulator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zos estabilizantes,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33840" y="3357000"/>
            <a:ext cx="3854160" cy="936360"/>
          </a:xfrm>
          <a:custGeom>
            <a:avLst/>
            <a:gdLst>
              <a:gd name="textAreaLeft" fmla="*/ 607680 w 3854160"/>
              <a:gd name="textAreaRight" fmla="*/ 3246480 w 3854160"/>
              <a:gd name="textAreaTop" fmla="*/ 147600 h 936360"/>
              <a:gd name="textAreaBottom" fmla="*/ 788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20" y="21600"/>
                </a:lnTo>
                <a:lnTo>
                  <a:pt x="298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pervi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 Avanzado / Optimi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09840" y="2349360"/>
            <a:ext cx="2668680" cy="936720"/>
          </a:xfrm>
          <a:custGeom>
            <a:avLst/>
            <a:gdLst>
              <a:gd name="textAreaLeft" fmla="*/ 501840 w 2668680"/>
              <a:gd name="textAreaRight" fmla="*/ 2166840 w 2668680"/>
              <a:gd name="textAreaTop" fmla="*/ 176040 h 936720"/>
              <a:gd name="textAreaBottom" fmla="*/ 7606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7" y="21600"/>
                </a:lnTo>
                <a:lnTo>
                  <a:pt x="4163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43360" y="910080"/>
            <a:ext cx="1554120" cy="1366920"/>
          </a:xfrm>
          <a:custGeom>
            <a:avLst/>
            <a:gdLst>
              <a:gd name="textAreaLeft" fmla="*/ 557640 w 1554120"/>
              <a:gd name="textAreaRight" fmla="*/ 996480 w 1554120"/>
              <a:gd name="textAreaTop" fmla="*/ 490320 h 1366920"/>
              <a:gd name="textAreaBottom" fmla="*/ 8766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81120" y="911160"/>
            <a:ext cx="3024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5480" y="911160"/>
            <a:ext cx="3168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6310440"/>
            <a:ext cx="622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956720" y="837720"/>
            <a:ext cx="0" cy="547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410800" y="324396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[ms], [s]          Escala de Tiempo         [días],[semana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6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rarquí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0" y="692280"/>
          <a:ext cx="913608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692280"/>
                    <a:ext cx="9136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50920" y="115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un Sistem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031760"/>
            <a:ext cx="252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Ope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MI-Sal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1247760"/>
            <a:ext cx="144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775040"/>
            <a:ext cx="183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Ingeniería (Configur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88000" y="31190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2920" y="4199040"/>
            <a:ext cx="1728720" cy="144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551400"/>
            <a:ext cx="165564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55674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5999040"/>
            <a:ext cx="1800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27400"/>
            <a:ext cx="2303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3551400"/>
            <a:ext cx="1944720" cy="194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5567400"/>
            <a:ext cx="1800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4560" y="1265760"/>
            <a:ext cx="6688080" cy="12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Arquitectura del sistema d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1916280"/>
          <a:ext cx="2728800" cy="42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16280"/>
                    <a:ext cx="272880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780000" y="2060640"/>
            <a:ext cx="5064120" cy="432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agramas de Proceso  e Instrumentación (P&amp;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17017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557360"/>
            <a:ext cx="208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or, Actuador, Indicador Loc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5736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Sistema de Control (accesible al operado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ción en pantalla, Comando del operador, alarma en pantalla, cálcul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738920" y="1701720"/>
            <a:ext cx="1152360" cy="1150920"/>
            <a:chOff x="7738920" y="1701720"/>
            <a:chExt cx="1152360" cy="1150920"/>
          </a:xfrm>
        </p:grpSpPr>
        <p:sp>
          <p:nvSpPr>
            <p:cNvPr id="88" name=""/>
            <p:cNvSpPr/>
            <p:nvPr/>
          </p:nvSpPr>
          <p:spPr>
            <a:xfrm>
              <a:off x="7738920" y="170172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38920" y="170172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38920" y="227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284720" y="375588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, No accecible al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42160" y="3807000"/>
            <a:ext cx="1150920" cy="1150920"/>
            <a:chOff x="7742160" y="3807000"/>
            <a:chExt cx="1150920" cy="1150920"/>
          </a:xfrm>
        </p:grpSpPr>
        <p:sp>
          <p:nvSpPr>
            <p:cNvPr id="93" name=""/>
            <p:cNvSpPr/>
            <p:nvPr/>
          </p:nvSpPr>
          <p:spPr>
            <a:xfrm>
              <a:off x="7742160" y="380700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2160" y="380700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629080" y="3573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5989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Panel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16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50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ón lógica: Control 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16360" y="5157720"/>
            <a:ext cx="1079640" cy="1079640"/>
            <a:chOff x="4716360" y="5157720"/>
            <a:chExt cx="1079640" cy="1079640"/>
          </a:xfrm>
        </p:grpSpPr>
        <p:sp>
          <p:nvSpPr>
            <p:cNvPr id="100" name=""/>
            <p:cNvSpPr/>
            <p:nvPr/>
          </p:nvSpPr>
          <p:spPr>
            <a:xfrm>
              <a:off x="4716360" y="5157720"/>
              <a:ext cx="10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16360" y="5157720"/>
              <a:ext cx="1079640" cy="1079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089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4144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38624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: Nº de lazo, en Gral. Todo lo asociado a una variabl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9640" y="2278080"/>
            <a:ext cx="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318960"/>
            <a:ext cx="63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: Descripción del Elemento (Norma ISA S5.1-S5.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ª Letra: Generalmente Variable física, p.ej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nálisis (pH, turbidez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: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: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: Masa…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  Modificador d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: Integ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’-3ª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: Elemento primario (s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: In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: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: 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: Vál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31640" y="620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0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98100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98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1628640"/>
            <a:ext cx="66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 de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T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Transmisor de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IC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-Indicador de Análisis (p.ej.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Q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Integrador de flujo (Vol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D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Pres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L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H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Alto-Alto (muy 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S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ruptor de Flujo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V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álvula para regular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&amp;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1844640"/>
          <a:ext cx="440064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40064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27640" y="1776240"/>
          <a:ext cx="4484520" cy="34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76240"/>
                    <a:ext cx="4484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680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Se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191628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exión a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(Software - D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a Electromagnética o Sónica Gu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ñal neu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560" y="25639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2560" y="22035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2560" y="2844720"/>
            <a:ext cx="1800360" cy="150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7640" y="3139920"/>
            <a:ext cx="1908360" cy="14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2560" y="364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55280" y="3571920"/>
            <a:ext cx="144000" cy="143640"/>
            <a:chOff x="755280" y="3571920"/>
            <a:chExt cx="144000" cy="143640"/>
          </a:xfrm>
        </p:grpSpPr>
        <p:sp>
          <p:nvSpPr>
            <p:cNvPr id="133" name=""/>
            <p:cNvSpPr/>
            <p:nvPr/>
          </p:nvSpPr>
          <p:spPr>
            <a:xfrm flipH="1">
              <a:off x="75528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2764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86920" y="3571920"/>
            <a:ext cx="144720" cy="143640"/>
            <a:chOff x="1186920" y="3571920"/>
            <a:chExt cx="144720" cy="143640"/>
          </a:xfrm>
        </p:grpSpPr>
        <p:sp>
          <p:nvSpPr>
            <p:cNvPr id="136" name=""/>
            <p:cNvSpPr/>
            <p:nvPr/>
          </p:nvSpPr>
          <p:spPr>
            <a:xfrm flipH="1">
              <a:off x="1186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25964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618920" y="3571920"/>
            <a:ext cx="144000" cy="143640"/>
            <a:chOff x="1618920" y="3571920"/>
            <a:chExt cx="144000" cy="143640"/>
          </a:xfrm>
        </p:grpSpPr>
        <p:sp>
          <p:nvSpPr>
            <p:cNvPr id="139" name=""/>
            <p:cNvSpPr/>
            <p:nvPr/>
          </p:nvSpPr>
          <p:spPr>
            <a:xfrm flipH="1">
              <a:off x="1618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69128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050560" y="3571920"/>
            <a:ext cx="144720" cy="143640"/>
            <a:chOff x="2050560" y="3571920"/>
            <a:chExt cx="144720" cy="143640"/>
          </a:xfrm>
        </p:grpSpPr>
        <p:sp>
          <p:nvSpPr>
            <p:cNvPr id="142" name=""/>
            <p:cNvSpPr/>
            <p:nvPr/>
          </p:nvSpPr>
          <p:spPr>
            <a:xfrm flipH="1">
              <a:off x="205056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12328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6-12T20:13:08Z</dcterms:modified>
  <cp:revision>59</cp:revision>
  <dc:subject/>
  <dc:title>EL63A-Taller de Proyecto en Control II</dc:title>
</cp:coreProperties>
</file>