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61A-729E-4335-A62B-04936473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BC9-F43B-4449-9130-35519FD1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4B3-5CC6-489B-A60C-09F175BE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8FF-DB5B-4C65-B611-B2190F28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930-3F64-4245-9FE7-0C174090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17D-A389-4B1B-A5D5-A19894B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437-F56D-478E-A052-E9A8D2AE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F0F-A47D-4929-862F-2F2F42A3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790-C17D-4B29-800A-12D45E64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25A-7AA9-4E2B-814D-86030F4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22E-EC69-4B8C-96B0-07F87F4B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8FA-1A54-44E4-8C07-F420050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989-A0B5-4680-8501-FFE803C8FA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53A Taller de Proyecto en Control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32000" y="1940040"/>
            <a:ext cx="6012000" cy="3949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3132000" cy="265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1547640" y="5373360"/>
            <a:ext cx="6226200" cy="936720"/>
          </a:xfrm>
          <a:custGeom>
            <a:avLst/>
            <a:gdLst>
              <a:gd name="textAreaLeft" fmla="*/ 821160 w 6226200"/>
              <a:gd name="textAreaRight" fmla="*/ 5405040 w 6226200"/>
              <a:gd name="textAreaTop" fmla="*/ 123480 h 936720"/>
              <a:gd name="textAreaBottom" fmla="*/ 8132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622" y="21600"/>
                </a:lnTo>
                <a:lnTo>
                  <a:pt x="197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57480" y="4365000"/>
            <a:ext cx="5040360" cy="936360"/>
          </a:xfrm>
          <a:custGeom>
            <a:avLst/>
            <a:gdLst>
              <a:gd name="textAreaLeft" fmla="*/ 698400 w 5040360"/>
              <a:gd name="textAreaRight" fmla="*/ 4341960 w 5040360"/>
              <a:gd name="textAreaTop" fmla="*/ 129600 h 936360"/>
              <a:gd name="textAreaBottom" fmla="*/ 806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62" y="21600"/>
                </a:lnTo>
                <a:lnTo>
                  <a:pt x="2238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733840" y="3357000"/>
            <a:ext cx="3854160" cy="936360"/>
          </a:xfrm>
          <a:custGeom>
            <a:avLst/>
            <a:gdLst>
              <a:gd name="textAreaLeft" fmla="*/ 607680 w 3854160"/>
              <a:gd name="textAreaRight" fmla="*/ 3246480 w 3854160"/>
              <a:gd name="textAreaTop" fmla="*/ 147600 h 936360"/>
              <a:gd name="textAreaBottom" fmla="*/ 788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620" y="21600"/>
                </a:lnTo>
                <a:lnTo>
                  <a:pt x="298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309840" y="2349360"/>
            <a:ext cx="2668680" cy="936720"/>
          </a:xfrm>
          <a:custGeom>
            <a:avLst/>
            <a:gdLst>
              <a:gd name="textAreaLeft" fmla="*/ 501840 w 2668680"/>
              <a:gd name="textAreaRight" fmla="*/ 2166840 w 2668680"/>
              <a:gd name="textAreaTop" fmla="*/ 176040 h 936720"/>
              <a:gd name="textAreaBottom" fmla="*/ 7606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7" y="21600"/>
                </a:lnTo>
                <a:lnTo>
                  <a:pt x="4163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43360" y="910080"/>
            <a:ext cx="1554120" cy="1366920"/>
          </a:xfrm>
          <a:custGeom>
            <a:avLst/>
            <a:gdLst>
              <a:gd name="textAreaLeft" fmla="*/ 557640 w 1554120"/>
              <a:gd name="textAreaRight" fmla="*/ 996480 w 1554120"/>
              <a:gd name="textAreaTop" fmla="*/ 490320 h 1366920"/>
              <a:gd name="textAreaBottom" fmla="*/ 8766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4560" y="1265760"/>
            <a:ext cx="6688080" cy="12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Arquitectura del sistema d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1916280"/>
          <a:ext cx="272880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16280"/>
                    <a:ext cx="272880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780000" y="2060640"/>
            <a:ext cx="5064120" cy="432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1916280"/>
            <a:ext cx="590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560" y="25639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2560" y="22035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2560" y="2844720"/>
            <a:ext cx="1800360" cy="150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7640" y="3139920"/>
            <a:ext cx="1908360" cy="14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2560" y="364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55280" y="3571920"/>
            <a:ext cx="144000" cy="143640"/>
            <a:chOff x="755280" y="3571920"/>
            <a:chExt cx="144000" cy="143640"/>
          </a:xfrm>
        </p:grpSpPr>
        <p:sp>
          <p:nvSpPr>
            <p:cNvPr id="133" name=""/>
            <p:cNvSpPr/>
            <p:nvPr/>
          </p:nvSpPr>
          <p:spPr>
            <a:xfrm flipH="1">
              <a:off x="75528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2764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86920" y="3571920"/>
            <a:ext cx="144720" cy="143640"/>
            <a:chOff x="1186920" y="3571920"/>
            <a:chExt cx="144720" cy="143640"/>
          </a:xfrm>
        </p:grpSpPr>
        <p:sp>
          <p:nvSpPr>
            <p:cNvPr id="136" name=""/>
            <p:cNvSpPr/>
            <p:nvPr/>
          </p:nvSpPr>
          <p:spPr>
            <a:xfrm flipH="1">
              <a:off x="1186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25964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618920" y="3571920"/>
            <a:ext cx="144000" cy="143640"/>
            <a:chOff x="1618920" y="3571920"/>
            <a:chExt cx="144000" cy="143640"/>
          </a:xfrm>
        </p:grpSpPr>
        <p:sp>
          <p:nvSpPr>
            <p:cNvPr id="139" name=""/>
            <p:cNvSpPr/>
            <p:nvPr/>
          </p:nvSpPr>
          <p:spPr>
            <a:xfrm flipH="1">
              <a:off x="161892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691280" y="357192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050560" y="3571920"/>
            <a:ext cx="144720" cy="143640"/>
            <a:chOff x="2050560" y="3571920"/>
            <a:chExt cx="144720" cy="143640"/>
          </a:xfrm>
        </p:grpSpPr>
        <p:sp>
          <p:nvSpPr>
            <p:cNvPr id="142" name=""/>
            <p:cNvSpPr/>
            <p:nvPr/>
          </p:nvSpPr>
          <p:spPr>
            <a:xfrm flipH="1">
              <a:off x="2050560" y="357192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123280" y="357192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6-12T20:13:08Z</dcterms:modified>
  <cp:revision>59</cp:revision>
  <dc:subject/>
  <dc:title>EL63A-Taller de Proyecto en Control II</dc:title>
</cp:coreProperties>
</file>